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E3F-2657-474B-9242-0352BE08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B07-A128-487D-8A00-F7F09B23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04E-C841-4F7A-8436-44ED00B1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29E-64DA-4727-AEB6-C496A6B1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0C1-9C1F-4C25-98D0-FEB8311F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3D97-AF64-4C72-97B4-DCB1E08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2D9-CF67-4E93-8FAC-52124B3D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102F-B942-4913-A4A5-1E43FE77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EA91-45E6-4BC1-8C56-A99618A5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876-C24B-465B-A8E1-0668F9DE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560-3221-4A7E-915A-5BBEF9ED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FF67-6D41-4562-BA96-4D3EC4E0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35C4-53C2-47F8-9A17-179E736D0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CAOPS-WG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tus of Document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Darcy (5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CSP Requirements for OCSP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Olle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Tony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diting Topics for Grid CA’s –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Yoshio (20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CAOPS-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hristos Kanellopolous is now co-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s to Tony for his mad sty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econd session, at 17:00-18:30 in Crystal Ballroom 3, that will concern itself with the International Grid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rid Security Area meeting, 19:00-20:30 in Sapphire Ballroom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of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ill in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CSP Requirements for Grid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Olle, Mike, Mi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uthentication Profile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the editor queu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(kind of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PMA Model Charter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Bob, Tony, Peter, M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ertificates for Automated Clients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Steve, M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A Common Naming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T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rid Certificate Extension Profile – </a:t>
            </a: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Mike, David (out of retirement agai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05:06Z</dcterms:created>
  <dc:creator>Darcy Quesnel</dc:creator>
  <dc:description/>
  <dc:language>en-US</dc:language>
  <cp:lastModifiedBy>Darcy Quesnel</cp:lastModifiedBy>
  <dcterms:modified xsi:type="dcterms:W3CDTF">2005-03-15T06:19:00Z</dcterms:modified>
  <cp:revision>4</cp:revision>
  <dc:subject/>
  <dc:title>Agenda</dc:title>
</cp:coreProperties>
</file>