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embeddings/oleObject1.bin" ContentType="application/vnd.openxmlformats-officedocument.oleObject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ACA6B-A337-4A3B-8667-D0D4E322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E5991-D18C-416A-8D62-3AAF1DEB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84BF-7AC3-42D6-980C-A0F20E01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0671-2BDD-46AE-B80E-91490F6D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7F54-0B34-42BF-8572-E3618C49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0FC5D-A61E-4A00-8FDC-D946B3FE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5D136-CE6A-4B67-8619-3C7C82DE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1BA1F-02E4-4F87-BD2C-917460EC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CEFD5-7221-47FC-AFF8-D66021A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FCB4-5BEE-4CA1-AB99-C908A5B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33FBE-8622-44AA-AABE-6BD96427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DCB0-788F-4BAE-9235-ABB68184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82440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4920" y="3836160"/>
            <a:ext cx="84978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49480" y="105228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492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49480" y="3836160"/>
            <a:ext cx="41468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6808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41240" y="105228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9492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6808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141240" y="3836160"/>
            <a:ext cx="273600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907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82548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394920" y="907560"/>
            <a:ext cx="84978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68360" y="44280"/>
            <a:ext cx="8362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6313320"/>
          <a:ext cx="1306440" cy="54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313320"/>
                    <a:ext cx="13064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8110440" y="6485040"/>
            <a:ext cx="1033560" cy="372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476360" y="6362640"/>
            <a:ext cx="1871640" cy="495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3"/>
          <a:stretch/>
        </p:blipFill>
        <p:spPr>
          <a:xfrm>
            <a:off x="6851520" y="6373800"/>
            <a:ext cx="110520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560" y="5950080"/>
          <a:ext cx="1639800" cy="68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5950080"/>
                    <a:ext cx="163980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National Institute of Advanced Industrial Science and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394920" y="1009800"/>
            <a:ext cx="8497800" cy="51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5392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68360" y="164880"/>
            <a:ext cx="83628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"/>
          </p:nvPr>
        </p:nvSpPr>
        <p:spPr>
          <a:xfrm>
            <a:off x="1692360" y="638136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2"/>
          </p:nvPr>
        </p:nvSpPr>
        <p:spPr>
          <a:xfrm>
            <a:off x="8089920" y="-360"/>
            <a:ext cx="10540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6086-0556-4B38-9903-5E0B9330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9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5"/>
          <p:cNvSpPr>
            <a:spLocks noGrp="1"/>
          </p:cNvSpPr>
          <p:nvPr>
            <p:ph type="ftr" idx="3"/>
          </p:nvPr>
        </p:nvSpPr>
        <p:spPr>
          <a:xfrm>
            <a:off x="3924000" y="6381360"/>
            <a:ext cx="2895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360" y="6696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981000"/>
            <a:ext cx="9144000" cy="73080"/>
          </a:xfrm>
          <a:prstGeom prst="rect">
            <a:avLst/>
          </a:prstGeom>
          <a:gradFill rotWithShape="0">
            <a:gsLst>
              <a:gs pos="0">
                <a:srgbClr val="333399">
                  <a:alpha val="80392"/>
                </a:srgbClr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846920" y="6167520"/>
            <a:ext cx="1297080" cy="468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920" y="6669000"/>
            <a:ext cx="9144000" cy="18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ja-JP" sz="1400" spc="-1" strike="noStrike">
                <a:solidFill>
                  <a:srgbClr val="ffffff"/>
                </a:solidFill>
                <a:latin typeface="Arial"/>
              </a:rPr>
              <a:t>All rights reserved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25560" y="5950080"/>
            <a:ext cx="1639800" cy="68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Comic Sans MS"/>
              </a:rPr>
              <a:t>Status and plans of the APGrid P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1115640" y="34290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Yoshio Tanaka (yoshio.tanaka@aist.go.j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rid Technology Research Center,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IST,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 Japa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</a:rPr>
              <a:t>APGrid PMA: Asia Pacific Grid P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907560"/>
            <a:ext cx="849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General Policy Management Authority in Asia Pacifi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Launched on June 1</a:t>
            </a:r>
            <a:r>
              <a:rPr b="1" lang="ja-JP" sz="24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, 200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Defines minimum CA requiremen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approved that we accept two levels of CA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Experimental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lternative of the Globus 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Can be trusted within A-P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trict management is necessa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SzPct val="12343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pected to be trusted by international commun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Members and C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08000" y="1200240"/>
          <a:ext cx="8964720" cy="5124240"/>
        </p:xfrm>
        <a:graphic>
          <a:graphicData uri="http://schemas.openxmlformats.org/drawingml/2006/table">
            <a:tbl>
              <a:tblPr/>
              <a:tblGrid>
                <a:gridCol w="1793880"/>
                <a:gridCol w="2309760"/>
                <a:gridCol w="1800360"/>
                <a:gridCol w="1873080"/>
                <a:gridCol w="1187640"/>
              </a:tblGrid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ffil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ion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mental 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r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IST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shio Tana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SC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ric Y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TI /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ae-Hyuck Kw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S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ai 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HEP / 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nxing S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P under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I / 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shore Sakhark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(y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CHC / Taiw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ulian Yu-Chung C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aka U / 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sumu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DSC / 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on Kat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KU / HongK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hen Lin, El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 of Hyd / In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run Agarw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 / 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on Ya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PAC / 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vid Abram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 op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Many members were inactiv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ould not have motivation for active particip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satisfy with using experimental CA (simple C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non experts of PKI/Security and have less interests for the secur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Situation is going to be change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ome CAs have a plan for launching a production-level 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HEP / China, CAS / China, NCHC / Taiwan, VPAC / Austral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U. of Tsukuba is involved in Lattice QC Grid project and it expects NAREGI CA to be trusted by European and American C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PGrid PMA should be able to help thi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l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membership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General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no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Ex officio membersh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voting righ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has obligation for commit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production-level C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3723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omic Sans MS"/>
              </a:rPr>
              <a:t>representatives of experimental-level CAs in request bas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Invite representatives of relying parties to the APGrid PMA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Change accreditation procedur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Now: voting using emai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lan: have regular face-to-face meeting / VTC (regular meeting and request-basi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Define procedures for re-certify C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peer-audit or PMA (chair) will audit all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omic Sans MS"/>
              </a:rPr>
              <a:t>Should establish formal relationship with the other PMAs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SzPct val="14386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SCC, IHEP should belong to only APGrid P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4978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APGrid PMA has two main objective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be responsible as a regional PMA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define minimum CA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accredit and audit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support CAs in Asia Pac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help / give advice to launch C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inform the current status and future direction about our efforts (IGF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mic Sans MS"/>
              </a:rPr>
              <a:t>It was less active, but the situation is going to be improv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Re-organize the P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Changed the accreditation proced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have face-to-face meet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Will do aud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0:34Z</dcterms:created>
  <dc:creator>Yoshio</dc:creator>
  <dc:description/>
  <dc:language>en-US</dc:language>
  <cp:lastModifiedBy>Yoshio</cp:lastModifiedBy>
  <dcterms:modified xsi:type="dcterms:W3CDTF">2005-03-14T15:54:41Z</dcterms:modified>
  <cp:revision>102</cp:revision>
  <dc:subject/>
  <dc:title>スライド 1</dc:title>
</cp:coreProperties>
</file>