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B659-C455-4954-A090-23640983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F6B-2D01-4A3F-80DD-30443DD9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0A9-E0D3-4236-B859-4244146D9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3342-6930-429A-929F-199C9DCF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98B9-9EBC-4A90-9C70-7D56F532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2B90-2371-444F-B325-8822036B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F046-B019-4E7B-B530-FD19973D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EEB8-2E1C-49C7-81CB-B7E40398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994F-228C-4201-88E0-739FEEDF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89C9-6034-472D-AAF5-7D1B6EC4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AFEC-FE44-4A48-B5E9-2AD195A4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F738-B6CD-4307-AFB5-A5BF4158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DC3E-60D0-4A21-BB3A-602F24F6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19D9-77AC-41E9-BAAC-73A4EAE3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E986-5C3D-4801-B5AB-41FC83C6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E9DA-AA18-450F-A13A-22E0996B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04F9-D800-4C92-B8B1-6E8478E9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8D9E-BA15-41AD-8FE2-8B721120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D0D-0A89-439F-8447-4C55499F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7E12-FBE3-4721-928C-7400B79D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6DB3-2C81-457B-9354-5CE56E0E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E9B9-0800-4B89-80FA-61CE89B5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9020-8C1F-4AF1-AEE1-760F911D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1D3-5BFC-447C-BCD4-72B2F3E2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38EC-3030-4444-8241-D9C1D0192D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F5EA-420A-4B5E-970A-1977B5CBD7A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ridpma.org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ernational Grid Fede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610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t up in March 2003 – the Tokyo accord. </a:t>
            </a:r>
            <a:r>
              <a:rPr b="0" lang="en-US" sz="2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WW.GridPMA.org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o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mote trust peering between The Americas, European and Asian Pacific communiti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U Grid Policy Management Authorit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GEE: Enabling Grids for E-science in Europ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ian Pacific Policy Management Author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PGrid: National Institute of Advanced Industrial Science and Technolog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Americas Grid PMA – ne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anada and USA (DOE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motes the establishment of top level CA registri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usted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party repositories need for establishment of trust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80000"/>
              </a:lnSpc>
              <a:spcBef>
                <a:spcPts val="4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oot CA certificates, CA repositories and CRL publishing point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U Grid PMA registry – de facto  (CNRS: French National Center for Scientific Research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ian Pacific CA registry (AP PM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RENA TACAR (TERENA Academic CA Repositor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 Global Grid Forum for publishing Standards and community best practic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9:35:45Z</dcterms:created>
  <dc:creator>Tony</dc:creator>
  <dc:description/>
  <dc:language>en-US</dc:language>
  <cp:lastModifiedBy>Tony</cp:lastModifiedBy>
  <dcterms:modified xsi:type="dcterms:W3CDTF">2005-01-28T09:36:11Z</dcterms:modified>
  <cp:revision>1</cp:revision>
  <dc:subject/>
  <dc:title>International Grid Federation</dc:title>
</cp:coreProperties>
</file>