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5716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75880" y="12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380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5716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75880" y="3995280"/>
            <a:ext cx="258912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151920"/>
            <a:ext cx="804564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8280" y="39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8280" y="1295280"/>
            <a:ext cx="39236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95280"/>
            <a:ext cx="8040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57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eugridpma-02v03trozo2" descr=""/>
          <p:cNvPicPr/>
          <p:nvPr/>
        </p:nvPicPr>
        <p:blipFill>
          <a:blip r:embed="rId2"/>
          <a:stretch/>
        </p:blipFill>
        <p:spPr>
          <a:xfrm>
            <a:off x="7267680" y="1905120"/>
            <a:ext cx="1876320" cy="401940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791320" y="6597720"/>
            <a:ext cx="3097080" cy="260280"/>
            <a:chOff x="5791320" y="6597720"/>
            <a:chExt cx="3097080" cy="260280"/>
          </a:xfrm>
        </p:grpSpPr>
        <p:sp>
          <p:nvSpPr>
            <p:cNvPr id="3" name=""/>
            <p:cNvSpPr/>
            <p:nvPr/>
          </p:nvSpPr>
          <p:spPr>
            <a:xfrm>
              <a:off x="5791320" y="6597720"/>
              <a:ext cx="3097080" cy="2602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91320" y="6597720"/>
              <a:ext cx="30970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IGF meeting, March 15 2005 - </a:t>
              </a:r>
              <a:fld id="{EE0B9484-42ED-46EA-AF75-043826659FF2}" type="slidenum"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&lt;number&gt;</a:t>
              </a:fld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219320" y="6595920"/>
            <a:ext cx="3886200" cy="262080"/>
            <a:chOff x="1219320" y="6595920"/>
            <a:chExt cx="3886200" cy="262080"/>
          </a:xfrm>
        </p:grpSpPr>
        <p:sp>
          <p:nvSpPr>
            <p:cNvPr id="6" name=""/>
            <p:cNvSpPr/>
            <p:nvPr/>
          </p:nvSpPr>
          <p:spPr>
            <a:xfrm>
              <a:off x="1219320" y="6595920"/>
              <a:ext cx="3886200" cy="262080"/>
            </a:xfrm>
            <a:prstGeom prst="roundRect">
              <a:avLst>
                <a:gd name="adj" fmla="val 60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19320" y="6595920"/>
              <a:ext cx="38862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c8274"/>
                  </a:solidFill>
                  <a:latin typeface="Lucida Sans"/>
                </a:rPr>
                <a:t>David Groep – chair@eugridpma.o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10" name="eugridpma-02v02" descr=""/>
          <p:cNvPicPr/>
          <p:nvPr/>
        </p:nvPicPr>
        <p:blipFill>
          <a:blip r:embed="rId3"/>
          <a:stretch/>
        </p:blipFill>
        <p:spPr>
          <a:xfrm>
            <a:off x="76320" y="6356520"/>
            <a:ext cx="99036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Lucida San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49" name="eugridpma-02v03" descr=""/>
          <p:cNvPicPr/>
          <p:nvPr/>
        </p:nvPicPr>
        <p:blipFill>
          <a:blip r:embed="rId2"/>
          <a:stretch/>
        </p:blipFill>
        <p:spPr>
          <a:xfrm>
            <a:off x="1541520" y="1185840"/>
            <a:ext cx="6024600" cy="2560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4" marL="1828800" algn="ctr">
              <a:spcBef>
                <a:spcPts val="400"/>
              </a:spcBef>
              <a:buClr>
                <a:srgbClr val="000066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5120" y="3762360"/>
            <a:ext cx="8067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GB" sz="3000" spc="-1" strike="noStrike">
                <a:solidFill>
                  <a:srgbClr val="000066"/>
                </a:solidFill>
                <a:latin typeface="Lucida Sans"/>
              </a:rPr>
              <a:t>Distribution Repository Structure</a:t>
            </a:r>
            <a:br>
              <a:rPr sz="3000"/>
            </a:br>
            <a:br>
              <a:rPr sz="3000"/>
            </a:br>
            <a:r>
              <a:rPr b="0" lang="en-GB" sz="2200" spc="-1" strike="noStrike">
                <a:solidFill>
                  <a:srgbClr val="000066"/>
                </a:solidFill>
                <a:latin typeface="Lucida Sans"/>
              </a:rPr>
              <a:t>David Groep, 2005.03.15</a:t>
            </a:r>
            <a:endParaRPr b="1" lang="en-US" sz="2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88" name=""/>
          <p:cNvSpPr/>
          <p:nvPr/>
        </p:nvSpPr>
        <p:spPr>
          <a:xfrm>
            <a:off x="573120" y="230040"/>
            <a:ext cx="8067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66"/>
                </a:solidFill>
                <a:latin typeface="Lucida Sans"/>
              </a:rPr>
              <a:t>http://www.eugridpma.org/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Naming convention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Authority will have an alias of 4-16 char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have a shortname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“eugridpma”, “apgridpma”, “tagpma”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rofile will have a shortname for use in RPM specialisation and for the –with-profile= configure option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lassic”: traditional, secured PKI 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ps”: Site Integrated Proxy Servers, kCA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cs”: secured Active Certs Stores, NERSC-styl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experimental”: testing and experimental authorities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f any kind that need distribution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est”: internal testing onl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Mirroring requirem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Each PMA will mirror all others &amp; the 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eb site / directory naming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ttp://www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.pmaname.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rg/distribution/mirror/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 frequency: once daily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so mirror yourself for consistency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o “/distribution/mirror” will be same everywher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Implementation pla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of trust anchor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he PMA distributes a set of trust anchors for the community of all accredited C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lthough published via a secure web site, RPs are invited to cross-check the trust anchors against TACAR &amp;c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When using common auth profiles, RPs are likely to install all accredited authorities from all PMA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Need simple, common mechanis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upport both simple tar-based installs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and RPM/yum/apt (and debian?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Distribution item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M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one 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including meta-data like CRL 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olicy” meta-RPMS for accredited authoritie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tar 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er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a combined tarball with configure/install script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urrent layout (one profile only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current -&gt; 0.2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1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RPMS/ca_NAME2-0.27-1.noarch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accredited/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   /cabundle-eugridpma-accredited.tar.gz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.../ca_policy_eugridpma-0.27-1.noarch.rpm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/distribution/0.27/headers/..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Proposed structure (multiple profiles)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050840"/>
            <a:ext cx="8915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current -&gt; eugridpma/1.0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accredited/RPM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NAME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RPMS/ca_policy_eugridpma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-acs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.rpm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_NAME.tar.gz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ccredited/tgz/cabundle-eugridpma-accredited.tar.g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eugridpma/1.0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apgrid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apgridpma/current/accredited/ca_policy_apgridpma-classic-0.3-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tagpma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tagpma/current/accredited/ca_policy_tagpma-sips-1.2-1.noarch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eugridpma/current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...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igf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current/accredited/RPMS/</a:t>
            </a:r>
            <a:r>
              <a:rPr b="1" lang="en-US" sz="1700" spc="-1" strike="noStrike">
                <a:solidFill>
                  <a:srgbClr val="ff0000"/>
                </a:solidFill>
                <a:latin typeface="Courier New"/>
              </a:rPr>
              <a:t>ca_policy_igf-classic</a:t>
            </a: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-1.0-1.noarch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eu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    </a:t>
            </a:r>
            <a:r>
              <a:rPr b="1" i="1" lang="en-US" sz="1700" spc="-1" strike="noStrike">
                <a:solidFill>
                  <a:srgbClr val="000066"/>
                </a:solidFill>
                <a:latin typeface="Courier New"/>
              </a:rPr>
              <a:t>requires: ca_policy_</a:t>
            </a:r>
            <a:r>
              <a:rPr b="1" i="1" lang="en-US" sz="1700" spc="-1" strike="noStrike">
                <a:solidFill>
                  <a:srgbClr val="ff0000"/>
                </a:solidFill>
                <a:latin typeface="Courier New"/>
              </a:rPr>
              <a:t>apgridpma-classic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Courier New"/>
              </a:rPr>
              <a:t>/distribution/mirror/current/headers/...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66"/>
                </a:solidFill>
                <a:latin typeface="Courier New"/>
              </a:rPr>
              <a:t>*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) ./configure --prefix=/etc/security/grid </a:t>
            </a:r>
            <a:r>
              <a:rPr b="0" lang="en-US" sz="1700" spc="-1" strike="noStrike">
                <a:solidFill>
                  <a:srgbClr val="ff0000"/>
                </a:solidFill>
                <a:latin typeface="Courier New"/>
              </a:rPr>
              <a:t>--with-profile=acs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0" lang="en-US" sz="1700" spc="-1" strike="noStrike">
                <a:solidFill>
                  <a:srgbClr val="000066"/>
                </a:solidFill>
                <a:latin typeface="Courier New"/>
              </a:rPr>
              <a:t>make install</a:t>
            </a:r>
            <a:endParaRPr b="0" lang="en-US" sz="17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Using the RPM repository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ing all PMA </a:t>
            </a: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current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positories mirrored under one root allows YUM/APT updates from a single source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f the “current” is mirrored and old files removed, manual installation is also unambiguou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Mirroring ensures getting always the latest from every PMA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Install all “classic” CAs with a single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-classic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Have an “overall” policy file that includes all profiles:</a:t>
            </a:r>
            <a:br>
              <a:rPr sz="2400"/>
            </a:br>
            <a:r>
              <a:rPr b="0" i="1" lang="en-US" sz="2400" spc="-1" strike="noStrike">
                <a:solidFill>
                  <a:srgbClr val="000066"/>
                </a:solidFill>
                <a:latin typeface="Lucida Sans"/>
              </a:rPr>
              <a:t>yum –y install ca_policy_igf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RPM dependencie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-2.3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authname = 2.3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3.4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classic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sips = 3.4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pma-acs = 3.4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eu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apgrid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tagpma-classic [no version!]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1.0 requires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classic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sips = 1.0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_policy_igf-acs = 1.0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CA package contents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equir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rust anchor: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0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RL loca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rl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amespace definition: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signing_polic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Optional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ERT location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ca_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CA web page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.url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ackage dependencies (RPM onl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or a hierarchical PKI the RPM name of the parent CA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oposed content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metadata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c_hash.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doc</a:t>
            </a:r>
            <a:br>
              <a:rPr sz="2000"/>
            </a:br>
            <a:r>
              <a:rPr b="0" i="1" lang="en-US" sz="2000" spc="-1" strike="noStrike">
                <a:solidFill>
                  <a:srgbClr val="000066"/>
                </a:solidFill>
                <a:latin typeface="Lucida Sans"/>
              </a:rPr>
              <a:t>with: alias, full name, AuthProfile, email addresses, PDS, CP/CPS link, all as “attribute=value” pairs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045640" cy="8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Lucida Sans"/>
              </a:rPr>
              <a:t>Tar/Configure based installation</a:t>
            </a:r>
            <a:endParaRPr b="1" lang="en-US" sz="30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804096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P will download three tarball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Runs ./configure three times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but same format for all: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prefix=path [default: /etc/grid-security/certificat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with-profile=authprofilenam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[default: all profiles]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8:36:56Z</dcterms:created>
  <dc:creator>David Groep</dc:creator>
  <dc:description/>
  <dc:language>en-US</dc:language>
  <cp:lastModifiedBy>David Groep</cp:lastModifiedBy>
  <dcterms:modified xsi:type="dcterms:W3CDTF">2005-03-13T06:57:38Z</dcterms:modified>
  <cp:revision>118</cp:revision>
  <dc:subject/>
  <dc:title>European Grid Policy Management Authority</dc:title>
</cp:coreProperties>
</file>