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B9A-09B3-45BE-B338-F32BF50D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03A-401C-41FD-A403-D09813C2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4810-F63F-4AF7-98A6-5B36486D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3E4-455D-4BDA-93E8-61D72528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59C2-6502-4861-BC09-0CCEB494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DB22-C875-477B-B307-7468511F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B2C-6263-4E3B-8941-229B78B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94A3-1558-406C-BBB3-52139867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2144-9701-4C0A-BF37-E74ADD09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B40A-BF6D-4D14-848B-3295B89AF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5205-C0FA-4091-8AA0-2BE3C13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F6FB-A3E7-42FA-8AB4-A1136988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E82A-5B1A-48C0-B2F5-9E8FBF1F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04B9-4414-4F58-AB8F-C6F3C9D9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F977-F598-46DA-BC9C-9791F1BD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54E2-531F-4306-AB16-D1B41DDF8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1AF7-54E2-4FFD-8F76-4E603C4C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8866-2723-40AD-932E-2622149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90F-3426-4FFD-A28B-33142831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C12-8084-406C-B456-B1FE3FB9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A97-46AA-4252-AA59-B8526C65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AC0-0BF2-4687-98F1-BF1F6A3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07A-7275-4D0E-9102-31676C5C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596-73AA-449F-828A-E22F897A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cc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993-BBE0-43A5-AE48-3B3139E9FADC}" type="slidenum">
              <a:rPr b="0" lang="en-US" sz="1000" spc="-1" strike="noStrike">
                <a:solidFill>
                  <a:srgbClr val="ffcc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December 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3D9E-BB5C-4DC6-810A-EE58875870E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A-OPS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Authentication Prof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Genove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F team ES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rence Berkeley National 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Pro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uthentication pro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in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Federation docu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6FB6-D0A6-4E3D-9306-1369F1B5F9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Authentication Profil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Authentication services will fragment the current global trust mod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, we must allow for innovations in Authenticatio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c PKI procrustean bed no longer wor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ly a draft GGF informational do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0B1-FA6D-4DBF-B8A2-3385237002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uthentication Profile what is in i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 Services must provide basic information 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vernance of authentication serv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membership and operational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blishing model that Relying parties can tr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270-F621-441F-8DD2-AFA170EC61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neral Federation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definition - de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l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ty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on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e secur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ation and repository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al responsi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dits and compli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and confidenti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omise and disaster re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tion 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723-A823-490D-AAF8-79FA571AAF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ew Federations that can be profile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Federation with common AuthN serv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PS - Site Integrated Prox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CA examp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e SSL support - Host certificat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F - RADIUS Authentication Fa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Credential S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121A-1D43-4CBC-99F5-B85DB0ADDF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atus of docu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ly guidance material being a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name to reflect fo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entication Federations for Gr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Federation temp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 Federation setu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used by the Americas Grid PMA for charter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RENA TF-EMC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2F8-556D-4D79-B1D0-E5E700A852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6T00:37:25Z</dcterms:created>
  <dc:creator>TonyG</dc:creator>
  <dc:description/>
  <dc:language>en-US</dc:language>
  <cp:lastModifiedBy>Tony</cp:lastModifiedBy>
  <dcterms:modified xsi:type="dcterms:W3CDTF">2005-03-11T00:35:46Z</dcterms:modified>
  <cp:revision>27</cp:revision>
  <dc:subject/>
  <dc:title>PKI Service changes</dc:title>
</cp:coreProperties>
</file>