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454-3D02-4C79-9D35-F11824D2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DBAE-77E9-4F6D-9EA3-0608C96B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FD35-5AE0-4884-A7A4-BD289580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2E90-17EE-4B38-9748-412951CA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B4F-EDF0-47DB-BDD5-0334D398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7560-86B4-4A9E-B583-6382EF8E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6160-8369-44E7-AEAD-6A315E70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0AFC-B350-41B8-83E2-14DD405E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C68-AFDD-41AC-97EB-3A48FD9B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AC3-1F2E-4A4D-A0C3-6D656C52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A35E-2F07-4B20-9170-CE6A558C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5238-51B3-44CA-9EFD-9A1AF7FA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63E0-7CBF-495E-B9B8-EBB40F464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1173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G Request to Regional P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GF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5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Cowles &amp; Dane Sk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reditation Pro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 or develop accepted standard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re approximate parity in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peer re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for and arbitrate overl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only non-overlapping CA signing policy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our participation as a relying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ying parties able to make known needs and raise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e information about accredited 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methods for relying parties to obtain automatic information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to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s of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 to policies &amp; cont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other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standards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p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remains decision of resourc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d to encourage reliance on IGF member accred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significant value as role of common service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accept this requested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8:03:05Z</dcterms:created>
  <dc:creator>Robert Cowles</dc:creator>
  <dc:description/>
  <dc:language>en-US</dc:language>
  <cp:lastModifiedBy>Robert Cowles</cp:lastModifiedBy>
  <dcterms:modified xsi:type="dcterms:W3CDTF">2005-03-15T08:33:48Z</dcterms:modified>
  <cp:revision>1</cp:revision>
  <dc:subject/>
  <dc:title>OSG Request to Regional PM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96807805</vt:r8>
  </property>
  <property fmtid="{D5CDD505-2E9C-101B-9397-08002B2CF9AE}" pid="3" name="_AuthorEmail">
    <vt:lpwstr>rdc@slac.stanford.edu</vt:lpwstr>
  </property>
  <property fmtid="{D5CDD505-2E9C-101B-9397-08002B2CF9AE}" pid="4" name="_AuthorEmailDisplayName">
    <vt:lpwstr>Cowles, Robert D.</vt:lpwstr>
  </property>
  <property fmtid="{D5CDD505-2E9C-101B-9397-08002B2CF9AE}" pid="5" name="_EmailSubject">
    <vt:lpwstr>OSG Request to Regional PMAs.ppt</vt:lpwstr>
  </property>
  <property fmtid="{D5CDD505-2E9C-101B-9397-08002B2CF9AE}" pid="6" name="_NewReviewCycle">
    <vt:lpwstr/>
  </property>
</Properties>
</file>