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E674-FC91-41BA-A87A-557934C0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BCD21-CF46-4CDA-A376-E36E382F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466A-374A-41A4-A247-E4A06D41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6DFBD-54E6-4DA3-812C-16C4EA65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AD7F4-BFAA-47E4-8DB4-EA096D3E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A5AA-8CD1-4447-8220-2C772BB6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D8B9-13B4-41E1-9D23-4A7BF92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2FEC-CED6-44CB-84B0-C6FD548E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7B99-134F-4620-9815-C74BA8B6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241D7-89FE-44A5-B043-4D7D33F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4FDF-A4BE-465B-9E8B-4E6250476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D835-2E8B-4EFD-A0B6-91165531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2EFB-8CE5-439E-B4E2-8A5AB3A01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hyperlink" Target="http://www.cica.ca/" TargetMode="External"/><Relationship Id="rId8" Type="http://schemas.openxmlformats.org/officeDocument/2006/relationships/hyperlink" Target="http://www.aicpa.org/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posals for audi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we accredit/certify/audit authoriti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A regional PMA shou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accredit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re-certify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coordinate peer-review (peer-audit) of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How a CA is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omic Sans MS"/>
              </a:rPr>
              <a:t>criteria for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audit proce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Should PMA be audi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posed audit ite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NAREGI PKI WG has subjectively selected criteria for auditing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ICPA/CICA WebTrust</a:t>
            </a:r>
            <a:r>
              <a:rPr b="0" lang="ja-JP" sz="20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 Program for Certification Author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inimum CA requirements of APGrid PMA and EU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Web Trus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ebTrust is a seal awarded to web sites that consistently adhere to certain business standards established by the Canadian Institute of Chartered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7"/>
              </a:rPr>
              <a:t>CICA.c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 and the American Institute of Certified Public Accountants (</a:t>
            </a:r>
            <a:r>
              <a:rPr b="0" lang="ja-JP" sz="2400" spc="-1" strike="noStrike" u="sng">
                <a:solidFill>
                  <a:srgbClr val="009999"/>
                </a:solidFill>
                <a:uFillTx/>
                <a:latin typeface="Comic Sans MS"/>
                <a:hlinkClick r:id="rId8"/>
              </a:rPr>
              <a:t>AICPA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In the program, “Web Trust Principles and Criteria for  Certification Authorities” lists criteria for C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may too much for Grid CA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6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1: CA Business Practices Disclosur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discloses its key and certificate life cycle management business and information privacy practices and provides its services in accordance with its disclosed pract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 2: Service Integr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criber information was properly authenticated (for the registration activities performed by ABC-CA)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integrity of keys and certificates it manages is established and protected throughout their life cyc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Criteria in the WebTrust</a:t>
            </a:r>
            <a:r>
              <a:rPr b="0" lang="ja-JP" sz="3200" spc="-1" strike="noStrike" baseline="30000">
                <a:solidFill>
                  <a:srgbClr val="000000"/>
                </a:solidFill>
                <a:latin typeface="Comic Sans MS"/>
                <a:ea typeface=""/>
              </a:rPr>
              <a:t>SM/TM </a:t>
            </a: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nciple 3: CA Environment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ertification authority maintains effective controls to provide reasonable assurance that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ber and relying party information is restricted to authorized individuals and protected from uses not specified in the CA's business practices disclosur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tinuity of key and certificate life cycle management operations is maintained; 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 systems development, maintenance, and operation are properly authorized and performed to maintain CA systems integrit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 and proposa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 GRID CA will be audited by NAREGI CA according to the proposed criteria for audit in March 29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valuate its appropriate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will audit production-level CAs based on the proposed criteria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The proposed criteria for audit can be a starting point to establish common criteria for Grid CA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circulate the proposed criteria to the CAOPs 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may provide documents if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mments and discussions are welco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5T03:46:35Z</dcterms:modified>
  <cp:revision>102</cp:revision>
  <dc:subject/>
  <dc:title>スライド 1</dc:title>
</cp:coreProperties>
</file>