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7B8-0C36-404A-84C1-683EA5F20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1DE-11A9-45BF-98DA-D936A9F7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099F-C2BB-4F08-A74C-9003E769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030-5503-437A-9EB4-AEB189FA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335-A1E5-4CC0-B0BB-F0FF2D0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8685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ECFF-0F78-4E47-A375-9E725AB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C72-118D-49E3-8111-9D006AAF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63E-732D-45BB-86E0-60789A15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C73-9C52-4436-A061-CEE99A87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ACC-31EC-4C16-9055-52D220EB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685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403-B3A8-4004-9BAB-811CC6D2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685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1CD-115F-410B-BF78-CF87AF5B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ggf.org/default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Third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649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our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Fif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ix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Seventh Outline Leve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360" y="655272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CBE6-950C-4C2A-B093-F71D16AB72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pic>
        <p:nvPicPr>
          <p:cNvPr id="4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49280" cy="1314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479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lnSpc>
                <a:spcPct val="110000"/>
              </a:lnSpc>
              <a:spcBef>
                <a:spcPts val="451"/>
              </a:spcBef>
              <a:buClr>
                <a:srgbClr val="ff6633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33"/>
                </a:solidFill>
                <a:latin typeface="Verdana"/>
              </a:rPr>
              <a:t>OCSP Requirements</a:t>
            </a:r>
            <a:endParaRPr b="0" lang="en-US" sz="4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c479d"/>
                </a:solidFill>
                <a:latin typeface="Verdana"/>
              </a:rPr>
              <a:t>GGF13</a:t>
            </a:r>
            <a:endParaRPr b="0" lang="en-US" sz="3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Refreshener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OCSP = Online Certificate Status Protocol (RFC2560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Removes(?) burden of CRL distribution and update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Clients still have to do path validation!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ightweight request/response (HTTP)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Changes since last tim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Document “finish” applied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sing sections ad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re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ions based on (marginal) feedb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Last week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itional comments from Sp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8280" y="1844640"/>
            <a:ext cx="4761000" cy="398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9736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6000" y="199548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6000" y="3027240"/>
            <a:ext cx="1644480" cy="7797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875120" y="1341360"/>
            <a:ext cx="2144880" cy="2111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875120" y="2421000"/>
            <a:ext cx="2144880" cy="11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645000"/>
            <a:ext cx="1470240" cy="86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oriz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5229360"/>
            <a:ext cx="2160720" cy="9363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200" y="4707000"/>
            <a:ext cx="1471680" cy="86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1793520" y="5149800"/>
            <a:ext cx="1049400" cy="7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68200" y="3519360"/>
            <a:ext cx="1471680" cy="86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793520" y="3941280"/>
            <a:ext cx="1049400" cy="855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5440" y="1876320"/>
            <a:ext cx="27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te/organ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a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000" y="3429000"/>
            <a:ext cx="208764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836640"/>
            <a:ext cx="1645920" cy="777960"/>
          </a:xfrm>
          <a:prstGeom prst="flowChartPreparat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4149720"/>
            <a:ext cx="2160720" cy="79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6000" y="458136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6000" y="473724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46800" y="4881600"/>
            <a:ext cx="164484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5025960"/>
            <a:ext cx="1644480" cy="77940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00" y="517032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313240"/>
            <a:ext cx="1644480" cy="77976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5877000"/>
            <a:ext cx="1471680" cy="865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836640"/>
            <a:ext cx="2519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iodic CRL downloa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CSP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7640" y="1413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7640" y="981000"/>
            <a:ext cx="9349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3067200"/>
            <a:ext cx="890640" cy="1298520"/>
          </a:xfrm>
          <a:prstGeom prst="flowChartMagneticDisk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S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59280" y="4581360"/>
            <a:ext cx="151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4" idx="0"/>
            <a:endCxn id="113" idx="3"/>
          </p:cNvCxnSpPr>
          <p:nvPr/>
        </p:nvCxnSpPr>
        <p:spPr>
          <a:xfrm flipV="1" rot="16200000">
            <a:off x="3444480" y="420912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114" idx="0"/>
            <a:endCxn id="88" idx="3"/>
          </p:cNvCxnSpPr>
          <p:nvPr/>
        </p:nvCxnSpPr>
        <p:spPr>
          <a:xfrm flipH="1" flipV="1" rot="5400000">
            <a:off x="3971880" y="4209480"/>
            <a:ext cx="216360" cy="527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Updated architecture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76560" y="990720"/>
            <a:ext cx="1981080" cy="2057400"/>
          </a:xfrm>
          <a:prstGeom prst="line">
            <a:avLst/>
          </a:prstGeom>
          <a:ln w="28440">
            <a:solidFill>
              <a:srgbClr val="47c164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881400">
            <a:off x="4497120" y="1750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7c164"/>
                </a:solidFill>
                <a:latin typeface="Verdana"/>
              </a:rPr>
              <a:t>Push, Delta CR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Outstanding issues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igned request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Stronger differentiation on suspension vs revoc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Use of OCSP response extensions to convey additional (validation) information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More wording on Delta CRLs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c479d"/>
                </a:solidFill>
                <a:latin typeface="Verdana"/>
              </a:rPr>
              <a:t>Notion of a caution period (RFC3125)</a:t>
            </a:r>
            <a:endParaRPr b="0" lang="en-US" sz="22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6633"/>
                </a:solidFill>
                <a:latin typeface="Verdana"/>
              </a:rPr>
              <a:t>Moving forward</a:t>
            </a:r>
            <a:endParaRPr b="0" lang="en-US" sz="3400" spc="-1" strike="noStrike">
              <a:solidFill>
                <a:srgbClr val="ff6633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Address the Spanish contributions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Move towards WG last call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c479d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c479d"/>
                </a:solidFill>
                <a:latin typeface="Verdana"/>
              </a:rPr>
              <a:t>Have document in public comment before GGF14</a:t>
            </a:r>
            <a:endParaRPr b="0" lang="en-US" sz="2600" spc="-1" strike="noStrike">
              <a:solidFill>
                <a:srgbClr val="0c479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8:27:48Z</dcterms:created>
  <dc:creator>Olle Mulmo</dc:creator>
  <dc:description/>
  <dc:language>en-US</dc:language>
  <cp:lastModifiedBy>Olle Mulmo</cp:lastModifiedBy>
  <dcterms:modified xsi:type="dcterms:W3CDTF">2005-03-15T05:40:07Z</dcterms:modified>
  <cp:revision>32</cp:revision>
  <dc:subject/>
  <dc:title>OCSP Confessions</dc:title>
</cp:coreProperties>
</file>