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1798280" y="-11796840"/>
            <a:ext cx="11793600" cy="124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-11798280" y="-11796840"/>
            <a:ext cx="11793600" cy="124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-11798280" y="-11796840"/>
            <a:ext cx="11793600" cy="124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8DC1-03C5-41CF-9D31-628E77A6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6304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5000760"/>
            <a:ext cx="776304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A69-7ED8-40FE-A3B5-7776A399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5000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5000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E22E-8587-4678-A45F-31B55D53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560" y="3047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5320" y="3047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5000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560" y="5000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5320" y="5000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77D-08CB-40CB-866A-CC950923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3047760"/>
            <a:ext cx="776304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245-1AAB-4E35-9BCB-7EF4BAF8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6304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737-E500-49B7-B0C6-7BB015EE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82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3047760"/>
            <a:ext cx="37882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B0BD-B982-4168-9297-B7F3B619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87B8-B323-4490-AFC7-9261920D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630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2BF-78C7-4D67-9124-2004A624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3047760"/>
            <a:ext cx="37882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5000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7D5-B762-4AC2-8C84-7661C118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82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5000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C5A-94AE-4C29-8B4B-C0486C02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5000760"/>
            <a:ext cx="776304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77F-775C-42F0-87E1-18AF0F94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047760"/>
            <a:ext cx="776304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6002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895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8957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C1E76-2F76-4CB6-9131-E2DC61C400DB}" type="slidenum">
              <a: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obot Soap Box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Jens Jensen &lt;j.jensen @ rl ac uk&gt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Science and Technology Facilities Counci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EU GridPMA Meeting May 2008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92200"/>
            <a:ext cx="77644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roposa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44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Project-own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ccess to private key can be shar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Single person responsib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Buck can be pass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Must inform CA when buck is pass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Look closer at use c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Risks, usag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mensio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936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In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Key Storag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ertificate Usag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160" y="3048120"/>
            <a:ext cx="378936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Out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Usag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I am a Robot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uthority chain, LoA, risk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492200"/>
            <a:ext cx="77644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rincipl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44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Verified Subscriber inform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Verified by CA/R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Non-verified Subscriber inform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sserted by Us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(How to) make things Verifi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What's the risk of non-Verifi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Key Storag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44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e-Toke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Should now work with OpenSC+PC/SC + Aladdin driver cross platform (P Millar, DESY)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OpenSC PKCS#15 support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492200"/>
            <a:ext cx="77644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Key Storag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44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ssert stored on Key Toke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IPS certified Level 2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IPS certified Level 3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IPS certified Level 4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Not yet certified but in process of certific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Not certified, no process (?)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obots Naming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592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Naming is in the D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Robots name themselves (Robot:)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Robots name their own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Warm and Fuzzy Robo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592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Log files show it's a robo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Log files show whose robot it wa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uthorisation by DN for robo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36840"/>
            <a:ext cx="776592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How to communicat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592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Nam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.g. hierarchical scheme (Brian)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urrent hacky vers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OI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Require middleware to parse OID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arrot?  Stick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xternal source, e.g. LDAP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92200"/>
            <a:ext cx="77644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roposa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44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03120" indent="-30312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How tightly do we need to manage usage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VOMS, portal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Powerful clients vs weaker clien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3120" indent="-30312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How to move away from personal nam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onfus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annot be inherit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annot be shar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Project owned/manag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j47</cp:lastModifiedBy>
  <cp:revision>0</cp:revision>
  <dc:subject/>
  <dc:title>PowerPoint Presentation</dc:title>
</cp:coreProperties>
</file>