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230A-454F-45CF-81D4-1A5560B22B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B03D-62FC-404F-BBD6-DE6A3D7A6C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3E47-6A7D-489E-976A-E286BD8C2C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3436-859F-48E9-96FE-56132F2801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F932-A63C-4AD9-8B44-563E4697DA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6F9D-D659-4920-AC51-C107E9EAD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3BFA-DC4A-493C-8F59-37F8C9889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48B2-0DE8-45B5-9C05-E0C0CA0167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5428-50DE-49E2-906E-FCB4D80221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F4A0-2B40-4027-942C-3CFB2C906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7EB7-5024-40FB-AF32-0EC28134C0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334A-9D3C-48B9-B1CB-4027CDC06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8C2-02AA-451E-8C8C-094C00E1793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 - Yoshio Tana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57000" y="4505400"/>
            <a:ext cx="2773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th EUGrid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5AE9-FF36-451E-88B8-CE386E8C57B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ition to the Security Area as a Standard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7C79-2CDA-4C62-BA79-CF148C7C26DF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A6A8-D7B3-4204-8C7B-052B11CE70C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Yoshio Tanaka as the 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9EEB-F80C-4A79-8AA3-967ED43889F8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1F11-4A07-45B8-A377-C832226B7E4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 as a standards gro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decided next week at OGF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 better dissemination of the information to the user community, and get in CAOPS the opportunity to also publish recommendations-track documents and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s different oversight: from the security area in the standards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need to update (actually: write) the group charter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workshops and informational sessions are still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62AB-EDAA-4A4F-BCB9-4B00510D2DC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392-37FE-4CCA-A3F8-EF86EAEF58F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Full da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 CAOPS session (1 - 1,5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the day IGTF related discussion, food for thought both for IGTF &amp; CA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7B6-310A-41C5-8A15-66CACBD7B9D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95C5-1806-4E2C-BE48-93A5D8A13C8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joint CAOPS -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2, Boston, Feb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73A-6E32-45FA-963D-7112DD9FDCFE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866960" y="2158920"/>
            <a:ext cx="81039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8:30 - 09:00 nCip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00 - 09:30  Kryp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30 - 10:00 Aladd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00 - 10:30 Safe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30 - 10:45 Q &amp;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45 - 11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00 - 11:30 Private Key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30 - 11:45 Certificate Renew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45 - 12:15 Higher Level CA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2:15 - 13:15 L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15 - 13:30 Guidelines for Auditing 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30 - 14:00 Authentication Service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00 - 14:30 Use Cases for Relying Party Enforced Namespace 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30 - 14:45 CP/CPS model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45 - 14:50 Election of new CAOPS co-ch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50 - 15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00 - 15:20 BalticGrid 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20 - 16:30 Robot Certific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30 - 16:45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45 - 17:00 OpenCA + PRQP (PKI Resource Query Protoco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00 - 17:30 Identification in IGT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30 - 18:00 Distribution process 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8:00 - 18:15 Discussion on SLCS (Revoca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181160" y="2070000"/>
            <a:ext cx="406440" cy="4648320"/>
          </a:xfrm>
          <a:custGeom>
            <a:avLst/>
            <a:gdLst>
              <a:gd name="textAreaLeft" fmla="*/ 55800 w 406440"/>
              <a:gd name="textAreaRight" fmla="*/ 350640 w 406440"/>
              <a:gd name="textAreaTop" fmla="*/ 55800 h 4648320"/>
              <a:gd name="textAreaBottom" fmla="*/ 4592520 h 4648320"/>
            </a:gdLst>
            <a:ahLst/>
            <a:rect l="textAreaLeft" t="textAreaTop" r="textAreaRight" b="textAreaBottom"/>
            <a:pathLst>
              <a:path w="21600" h="246833">
                <a:moveTo>
                  <a:pt x="10125" y="0"/>
                </a:moveTo>
                <a:arcTo wR="10125" hR="10125" stAng="16200000" swAng="-5400000"/>
                <a:lnTo>
                  <a:pt x="0" y="236708"/>
                </a:lnTo>
                <a:arcTo wR="10125" hR="10125" stAng="10800000" swAng="-5400000"/>
                <a:lnTo>
                  <a:pt x="11475" y="246833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5dad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 rot="16176000">
            <a:off x="1107360" y="2660760"/>
            <a:ext cx="44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16176000">
            <a:off x="1103040" y="345600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 rot="16176000">
            <a:off x="1023120" y="4381200"/>
            <a:ext cx="66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 rot="16176000">
            <a:off x="1103040" y="553896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1219320" y="509256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219320" y="396252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1219320" y="317484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157-EB34-4A16-8CC0-DBC92DE83E60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joint CAOPS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3, Barcelona, June 4t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Top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E109-6784-41E9-A26A-758EBB0EC1A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7260-6190-4014-8A56-6B4B7CD8C29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CAOPS-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dit Guidelin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Yoshio Tanak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ovide guidelines for auditing C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Auditing Check Li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thentication Service Profile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Christos Kanellopoulos, David Groe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efinition of what and Authentication Profile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for writing Authentication Pro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this acts as the document template for the Authentication Profiles used in the 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Relying Party Defined Namespace Polici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David Groep, Olle Mulmo, Von Wel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Identify the requirements on the expression of the namespace constraints policy and on the processing and interpretation semantics of the policy by the relying par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 the existing signing_policy file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iscuss alternatives to thi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OCSP requirements for Grid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Olle Mulmo, Mike Helm, Jesus Luna, Oscar Manso, Milan Sov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on relying parties and responder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ervice architecture option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ite caches, clearing house, high-level respond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A77-2CA0-49E1-B830-0BFC7D0951B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68FD-89F0-4C48-9BC4-D8249652BC2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 (cont’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LoA-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gap analysis of current LoA definitions versus LoA requirements in e-Science/Grid context </a:t>
            </a:r>
            <a:r>
              <a:rPr b="0" i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Mike Jones, et.al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give an overview of current LoA definitions and the related efforts, and identify gaps between these definitions and the potential use of LoA in the e-Science/Grid con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risk analysis in relation to LoA and use case gathering in an e-Science context (Mike Hel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esent a risk analysis from the prospective of relying parties (or service prov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726-8678-4D7E-A7D0-5FF854F334C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Groep</dc:creator>
  <dc:description/>
  <cp:keywords/>
  <dc:language>en-US</dc:language>
  <cp:lastModifiedBy>Yoshio Tanaka</cp:lastModifiedBy>
  <dcterms:modified xsi:type="dcterms:W3CDTF">2008-05-27T12:39:18Z</dcterms:modified>
  <cp:revision>2</cp:revision>
  <dc:subject/>
  <dc:title>Security Area Review December 2006</dc:title>
</cp:coreProperties>
</file>