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B248-8837-40C9-8ABF-82454D445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00FE-0055-485F-8943-6C200BB75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B306-AE39-42D1-BB33-801D59B78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6F35-AD07-4B5F-92A7-F85395C6F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998E-BFA5-40FA-826B-C30D25078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8DDD-697E-49A4-98CD-EE674FAAA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A5E5-8C98-4BDA-9FB7-AB0065866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E8DD-03F5-4516-9896-38ADCD129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4FF4-1BBD-472A-87F3-13DFBF0B8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6146-9F71-4B7C-B2DD-129851768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D2EB-B962-42BE-89DE-9617255CB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5DA4-CB99-4A97-9E76-AFA6267F6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08C36-6591-4833-A111-3F6C76409C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ernath@sunserv.kfki.hu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KFKI RMKI CA Review</a:t>
            </a:r>
            <a:br>
              <a:rPr sz="4400"/>
            </a:b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UGridPMA May 26-28, Copenha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4508280"/>
            <a:ext cx="5792760" cy="11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Szabolcs Herná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TA KFKI RM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ernath@sunserv.kfki.h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pki.kfki.h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Background &amp; His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resent Status &amp; Future Pl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elf-assessment &amp;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Lessons learned &amp; Sugg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Discuss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1. Background &amp; 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Why 2 CAs in Hungar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- Community needed the service in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- NREN CA (NIIF) was planned, but no progress or roadm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- RMKI had ~90% of LCG users &amp;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UGridPMA in Brussels, Sept. 2004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- KFKI RMKI CA prese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- PMA demanded community agreement to preempt a 2 CA sit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Dec. 2004: Community agreement prese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- Hungarian grid community will endorse KFKI RMKI CA until the NIIF CA can setup an RA at KFKI camp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- PMA accepted the agreement, KFKI RMKI CA accredi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- started production in Jan.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Recent progress in the setup of NIIF 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2. Present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Reliable operation on Debian/Open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ta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- All issued: 230 (6 for tes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- Revoked: 126 (none compromi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- Valid: 47 (14 user, 33 ho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- All host: 145 (68 DNs, even less ideni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- All user: 79 (50 DNs, even less identi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- All CRLs: 120 (1 overdue </a:t>
            </a:r>
            <a:r>
              <a:rPr b="0" lang="hu-HU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NIIF RA progre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- RA secure admin interface deployed &amp; tested (based on toke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- User web interface in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- IdP for NIIF AAI Federation in deployment (for user preaut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- RA contract in prep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3. Future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NIIF RA in production later this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Will probably keep the CA for local purp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- will rekey or extend the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- could produce new CP/C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fter the NIIF RA is in production, will replace all grid ce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Need to leave the club </a:t>
            </a:r>
            <a:r>
              <a:rPr b="0" lang="hu-HU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4. Self-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Work in progress, preliminary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ajor issues: 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5) CP/CPS is RFC 2527 D/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7) Secure environment, access control &amp; log D/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9) Secure environment undocumented/unaudited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11) CA key protection B/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50) Operational audit D/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51) List of personnel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ajor Issues: 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2) Identity vetting (user) B/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3) Identity vetting (host) A/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4) FQDN ownership B/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10) Record archival in auditable form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5. Other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Insufficient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No long-term planning (was not expect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issing operational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oo many h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Rescheduled’ paper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6. Recomme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ore is le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- specify everything as strict as 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- write all operational documents before 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Operational audit/review ASAP (before produ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eparation of GRID namespace is recomme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ccreditation profile version should be recorded on accredi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udit guidelines updates for AP changes? (versions for each AP version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eparate audit guidelines for different AP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Thankyou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21:53:10Z</dcterms:created>
  <dc:creator>Hernáth Szabolcs</dc:creator>
  <dc:description/>
  <dc:language>en-US</dc:language>
  <cp:lastModifiedBy>Hernáth Szabolcs</cp:lastModifiedBy>
  <dcterms:modified xsi:type="dcterms:W3CDTF">2008-05-28T07:43:03Z</dcterms:modified>
  <cp:revision>25</cp:revision>
  <dc:subject/>
  <dc:title>KFKI RMKI Grid Storage</dc:title>
</cp:coreProperties>
</file>