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BA9-BFD4-46A8-BB14-17531F66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684-8A71-4E9A-8343-B57DB34F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18C-93C1-4989-BF1F-3C1713F8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0E4-E5DF-460A-B07A-EA9CC7B5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F4F-89C7-432D-AB74-97E312D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9E9-DCD8-440E-BDC7-B13E4AB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DA5-5BCA-4A4B-A87B-3F76392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8BC-10FE-4F54-B80B-060E6E7B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2B2-68A2-42B3-B13F-4E9B7AB6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348-F1FE-4630-9343-C39F7EB0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EE2-5DBC-4DA9-A08D-1E675FC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45A-1F8C-42A1-A208-39C841B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673-A97D-496B-867D-DBC8593DC04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Copenha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May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isting IGTF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m new AuthZ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Large Grids (EGEE, OSG et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G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r mix of some/all of the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9C8D-86FB-4062-8DF6-8C5A4C6ECB1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My personal preferences (not discussed ye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GTF defines the stand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thers do accredi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th IGTF memb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mportant to have feedback into stand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arge Grids or Coordination (call it EGI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 Global VO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nd run AA services for the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ccredited by IGTF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A128-05DD-4524-A971-73E6AF16CE7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very VO should have a home Gr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uns the AA ser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GI AA service is accredited by IGTF or EGI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the VO 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epare draft profiles (AA and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a small number of global VO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eedback and improve profi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687-8203-4327-9A98-0D97A0BA4C9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 valid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ocument from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Attribute Certificate Validation in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ike H to say mo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76F5-6C39-4576-B24A-C0228773BC9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s and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should start on the draft AA pro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eeds a small tea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n wider discus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 propose to hold a worksho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arly autum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GEE’08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Joint with EU Grid PMA Lisbon meet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911A-4D77-4D9B-ABA2-811F016C747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7D8-16E9-470F-96C6-7A1458AE19A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31A1-8929-4283-9EE3-719C9F12347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Virtual Organisation user and service membership manage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Attribute Authorities (AA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Virtual Organisations and their membership management procedu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ndate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positories and distribution of accredited AA roots of tru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echnical details of attribute signing and trust valid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recommend how IGTF could handle the definition of AuthZ policy and related accreditation during the next 3 to 5 years, taking into account the move towards a sustainable EU Grid Infrastructure and constituent national Gri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7E1-DF6B-4FD5-97C3-325EB60304B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ling list memb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2204640"/>
            <a:ext cx="3809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Altuna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Basn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 Ciaschin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 Cow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G Garzogli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Groe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Hel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 Imamagi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Kanellopoulo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6520" y="2204640"/>
            <a:ext cx="3810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els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 Koero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ouri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McNab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O’Callagha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Sov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Y Tanak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Triantafyllid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W Weis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Wolfr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5457-CA0A-49DD-B73D-0D13AF88F9B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on man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veral suggestions receiv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First mandate for this WG should be to set up a list of all known AuthZ tools for the Grid environment available and in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Lucida Grande"/>
              </a:rPr>
              <a:t>To determine actual and near future best pract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Especially it should help to discern advantages and disadvantages of SAML assertions versus Attribute certificates versus attributes directly included in proxy certificat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This could guide us in the more theoretical aspects of the WG work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BA4-C77C-4B91-AAED-6E90445A8F9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Lucida Grande"/>
              </a:rPr>
              <a:t>Policy implications for VOs and VO service providers are essentially the same whatever signing and attribute/assertion technology is u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Perhaps there is scope for an AAOPS in OGF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need for implementations that work, as opposed to blue sky protocol desig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85B4-B97C-40FD-B8A3-572474606F9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Lucida Grande"/>
              </a:rPr>
              <a:t>I agree that we may start with working on VOMS; however, staying implementation-independent, as much as possible, would help us in the long ru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How LoA of the underlying AuC assertions affect what AuZ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This leads to a sort of risk assessment framewor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If I have a precious resource, I need high quality AuC assertions underneath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01C-B440-4917-8BE3-3DD47A73E14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olicy mod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Attribute Authority Service 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ased on VO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Can we make it technology independe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is should be writte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JSPG working on two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Registration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Membership Management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obably don’t need another on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7E4-52C0-4FC6-8CFB-7D209934518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caling 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day in EGE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200 VOs (mix of global, international, regional, national, local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# VOMS servers (how many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eed to quantif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uture EGI/NGI wor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35 to 40 Grids in Euro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U Grid PM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~2 per meeting and reviews ~4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2CAC-BCD1-46C9-B487-4923CBBAA46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8-06-04T14:00:04Z</dcterms:modified>
  <cp:revision>62</cp:revision>
  <dc:subject/>
  <dc:title>Grid Security</dc:title>
</cp:coreProperties>
</file>