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B67A-483F-44BB-80A9-2E02A336A57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61F2-AF66-40A6-8F7C-C0BAA16425D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60CA-3CE4-43D1-9B2A-891F38A85A2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B545-FC48-464D-9F16-12D23B328FF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1B34-B214-464D-913A-5585FC77209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124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124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19280" y="44280"/>
            <a:ext cx="741672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808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4124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808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4124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19280" y="44280"/>
            <a:ext cx="741672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6808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4124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9492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6808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4124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619280" y="44280"/>
            <a:ext cx="741672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6808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4124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9492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6808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4124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19280" y="44280"/>
            <a:ext cx="741672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000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" name="Picture 5" descr="PMAlogo_large"/>
          <p:cNvPicPr/>
          <p:nvPr/>
        </p:nvPicPr>
        <p:blipFill>
          <a:blip r:embed="rId9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6" descr="IGTF"/>
          <p:cNvPicPr/>
          <p:nvPr/>
        </p:nvPicPr>
        <p:blipFill>
          <a:blip r:embed="rId10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000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50560" y="44280"/>
            <a:ext cx="8497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Picture 5" descr="PMAlogo_large"/>
          <p:cNvPicPr/>
          <p:nvPr/>
        </p:nvPicPr>
        <p:blipFill>
          <a:blip r:embed="rId9"/>
          <a:stretch/>
        </p:blipFill>
        <p:spPr>
          <a:xfrm>
            <a:off x="6877080" y="6284880"/>
            <a:ext cx="2266920" cy="57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IGTF"/>
          <p:cNvPicPr/>
          <p:nvPr/>
        </p:nvPicPr>
        <p:blipFill>
          <a:blip r:embed="rId10"/>
          <a:stretch/>
        </p:blipFill>
        <p:spPr>
          <a:xfrm>
            <a:off x="0" y="6337440"/>
            <a:ext cx="1116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000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PMAlogo_large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IGTF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000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PMAlogo_large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IGTF"/>
          <p:cNvPicPr/>
          <p:nvPr/>
        </p:nvPicPr>
        <p:blipFill>
          <a:blip r:embed="rId3"/>
          <a:stretch/>
        </p:blipFill>
        <p:spPr>
          <a:xfrm>
            <a:off x="0" y="6134040"/>
            <a:ext cx="1547640" cy="7239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50560" y="44280"/>
            <a:ext cx="8497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1.pn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2.png"/><Relationship Id="rId13" Type="http://schemas.openxmlformats.org/officeDocument/2006/relationships/image" Target="../media/image8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1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Updates of the APGrid PM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11280" y="2133360"/>
            <a:ext cx="79214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UGridPMA F2F@Copenhage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1116000" y="3860640"/>
            <a:ext cx="69850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shio Tan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pda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w membe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DAC, Ind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nge of a representativ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v. of Hong Ko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2F meeting in Taipei, in April 8t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4920" y="785880"/>
            <a:ext cx="8497800" cy="57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ttendee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APGridPMA members except CNIC/Chin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vid and Dave from EUGridP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ug from TAGP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me observ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SzPct val="145238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EGEE Security staffs from Cern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SzPct val="145238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Possible new members from South East Asian countries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AGMA-UCSD CA was accredited as an IGTF-Classic AP compliant CA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GO/Netrust (Singapore) and NCHC (Taiwan) CA was examined, but not accredited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e agreed to strongly encourage new CAs to use Domain Component RDN for Issuer and Subject DN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-depth report of self-auditing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IST and ASG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usinesse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shio will continue to be the chai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GridPMA will have a deputy chai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SPAM filter provided KEK for the APGridPMA M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mbers (13 + 4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9280" y="979200"/>
            <a:ext cx="46800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0 Accredited CA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ope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051560" indent="-2102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IST (Japa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51560" indent="-2102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AC (Australi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51560" indent="-2102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GCC (Taiwa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51560" indent="-2102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NIC (Chin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51560" indent="-2102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HEP (Chin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51560" indent="-21024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K (Japa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51560" indent="-21024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ISTI (Kore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51560" indent="-21024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REGI (Japa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51560" indent="-210240"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CTEC (Thailand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700"/>
              </a:spcBef>
              <a:buSzPct val="1028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 be in ope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051560" indent="-210240">
              <a:spcBef>
                <a:spcPts val="601"/>
              </a:spcBef>
              <a:buSzPct val="102884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AGMA-UCSD (US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4714920" y="979560"/>
            <a:ext cx="432108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 CA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GO (Singap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CHC (Taiw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haiGrid (Thaila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DAC (Ind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. Hong Kong (Chi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eneral memb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saka U. (Jap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. Hyderabad (Ind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SM (Malays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orts on Debian OpenSSL Vulnera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nly APAC Grid CA has issued suspicious certificates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user certs and 2 host cer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 be revoked (probably has been revoked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xt F2F Mee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1123560"/>
            <a:ext cx="849780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ate: Mid. September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enue: Singapor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-located event: OGF24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23:38:54Z</dcterms:created>
  <dc:creator>David Groep</dc:creator>
  <dc:description/>
  <dc:language>en-US</dc:language>
  <cp:lastModifiedBy>Yoshio Tanaka</cp:lastModifiedBy>
  <dcterms:modified xsi:type="dcterms:W3CDTF">2008-05-26T09:49:58Z</dcterms:modified>
  <cp:revision>59</cp:revision>
  <dc:subject/>
  <dc:title>International Grid Trust Federation Session  GGF 18 Washington, DC, USA</dc:title>
</cp:coreProperties>
</file>