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9B9D-B51B-4950-93AF-2B063F21C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D2A4-26AF-4897-8B91-5AB9FC7530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57B2-A981-4784-AC7D-E72B8C5A8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48B3-0BF9-49A3-9ED4-4E276B5CB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3B7A-4C5D-452F-BEB7-DD050E76A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E45B-BFA8-4E52-A391-9C0F81356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0BD7-C535-439C-A258-62B602FD8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2275-7EDD-4D30-A5DE-8AE2D7007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EC8D-CC93-473D-8218-8DB6AF4B30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446A-8B54-40DF-9ED9-0872A7E912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CE45-D61C-4D28-B135-F2742F3520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3466-9F72-4645-8279-D2F19AA62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F70F-4CD4-4DEE-8A58-85C703BACD5A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forge.gridforum.org/sf/go/doc4856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28920" y="4505400"/>
            <a:ext cx="393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GridPMA, Lisbon,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7438-2A06-4C20-B914-11B41130837A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ge.gridforum.org/sf/go/doc4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docu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for defining an Authentication Service Profile that can be used by IdPs to provide compliant Authentic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an Authentication Service Pro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uthentication Service Profile provides a way for Grid Relying Parties (RP) to be able to identify and compare Authentication Services provided by Identity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dP can provide Authentication Services based upon one or more Authentication Service Profi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DF24-DE1D-40C9-9C7A-BC03F35CE6D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389B-C289-43FA-9DE3-ED5FB5569C8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o is responsible for the service and change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community that will be served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scope of th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ystem architecture used to build the authentication service used by the Identity provider. How does the customer and management interface to the 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uthentication Service must describe how identity is managed and communicated in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uthentication service must define Identity vetting rules, what each user does to prove the identity of the user, host or service identified as part of an organ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ty revocation: how a person or system is removed from the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 special Acceptable Use Policy that appl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DB3-83FF-46BC-8D95-AEEF2B3E822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AA5F-C392-471B-A365-DCFE761C4A39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for the authentication service: is 24/7 support or no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uble ticket report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quest and general customer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 contact information, problem reporting/resolution proced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y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authentication service used by the identity service provider describe the: Software, network, server and physical security at the site of the authentication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describe: procedural controls, personnel security controls. Life cycle for security controls - How do you update/change security controls and keep the community inform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Security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nformation must published and maintain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information must be maintain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rights to read or use th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15B-245A-42B5-93B7-2AEC6E2A090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4BAC-B389-4FBD-9752-E5E307D3265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liability or warranties are supported by the servic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pay for the serv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financial responsibilities to your mem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udit each authentication service for compliance to your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conduct self audits or member audits or open to external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,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your privacy rules, IP polici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omise and Disaster rec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handle exposed shared secrets or other compromised secr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facilities are in place to rebuild the service in the case of a disas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would the service be out of commission if the service is compromised or damag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8FBF-D7B2-4EB9-9CA0-E066011373E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09:53Z</dcterms:created>
  <dc:creator>David Groep</dc:creator>
  <dc:description/>
  <cp:keywords/>
  <dc:language>en-US</dc:language>
  <cp:lastModifiedBy>Christos Kanellopoulos</cp:lastModifiedBy>
  <dcterms:modified xsi:type="dcterms:W3CDTF">2008-10-07T12:16:17Z</dcterms:modified>
  <cp:revision>186</cp:revision>
  <dc:subject/>
  <dc:title>Security Area Review December 2006</dc:title>
</cp:coreProperties>
</file>