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BA951D9-8582-4B96-A79F-7F5EC08252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608D57F-15B4-4718-91B9-4AD6C1CE94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731A8A2-7C1C-4DCE-9CB0-E55F23784C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034BEA3-6D63-486D-9A9A-E2DBA6BDE3A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DFE4B9B-BDAA-442F-A603-555DD3E0952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40788ADE-C8F6-49C9-8F38-BF816B4D304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1C860A7-53D4-4627-94E8-4C4770CB0B7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3CA45CD-7FA1-48C1-ADC6-E7E2CCE2AD7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4A5BAEE-3A60-46A9-9E19-9BE3D3963FD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36B0AD8-9C0F-4DFE-BE19-F2A2D3460C1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24D578C-1914-435C-A976-ED2FC171F25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472D1FFA-70E5-4945-B4A0-1DC31C1A7FA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7B75BED7-58AC-491C-A54D-68C857D18F5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Lisb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528480" y="1566720"/>
            <a:ext cx="80870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0" y="204300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Mike and Ja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11Z</dcterms:modified>
  <cp:revision>468</cp:revision>
  <dc:subject/>
  <dc:title>European Grid Policy Management Authority</dc:title>
</cp:coreProperties>
</file>