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2E26-B892-4ECD-A22C-3AAA9507B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1FA3-BB42-40AC-9C3D-243C45E54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A233-02F3-4618-8A63-038F87206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8060-F703-4144-933B-1F5CC3C34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8507-3F91-4324-A2D8-E6CBD21E3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B73D-BB8C-44A5-9EA0-A7C442997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9AB5-88DE-4650-B8E5-CBA45B523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9458-C7B8-4185-B7A7-4D8BF5AD4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3B92-45AF-42DB-ADF2-27521DF47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CD02-6275-4CFC-AF27-B1D666CF2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A6DA-B540-4DE4-AC23-9BB54B07B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5C42-FC08-4E17-8558-4BAF2EF62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9320" indent="-18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198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8000" y="6391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2E1A-A94F-40DE-ACF8-E1F6E090AD4B}" type="slidenum"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5440" y="63882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Arial"/>
              </a:rPr>
              <a:t>© 2008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33520" y="6384960"/>
            <a:ext cx="252360" cy="30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9108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65520" y="3809880"/>
            <a:ext cx="4187880" cy="120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10044" t="15722" r="14065" b="61081"/>
          <a:stretch/>
        </p:blipFill>
        <p:spPr>
          <a:xfrm>
            <a:off x="0" y="175248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6040"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algn="ctr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976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2892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QuoVadis accreditation with EuGridPMA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61800"/>
            <a:ext cx="9144000" cy="41436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76600" y="5524560"/>
            <a:ext cx="4362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 U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.usai@switch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exten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Certificate Polic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: 1.3.6.1.4.1.8024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: 1.2.840.113612.5.2.2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Key Usage: cri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ture, Key Enciphe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Authority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id:42:E6:13:39:8B:3A:41:66:EA:40:C1:0B:81:CE:10:F7:DA:71:74:B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Subject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A:5E:63:A9:B3:10:3B:CF:45:60:59:ED:61:59:DE:8B:A4:9A:BE:C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CRL Distribution Poi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I:http://crl.quovadisglobal.com/qvgica.c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ity Information Acces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 Issuers - URI:http://trust.quovadisglobal.com/qvgica.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Extended Key Usag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S Web Server Authentication, TLS Web Client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Subject Alternative Na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S:server.switch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BEGIN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END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B14C-C7D5-4D6C-9008-8635DC06BF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47d"/>
                </a:solidFill>
                <a:latin typeface="Arial"/>
              </a:rPr>
              <a:t>Issuing CA Certificate</a:t>
            </a:r>
            <a:endParaRPr b="1" lang="en-US" sz="46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ertificat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ersion: 3 (0x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ial Number: 13 (0x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ssuer: C=BM, O=QuoVadis Limited, CN=QuoVadis Root Certification Autho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Before: Aug 26 17:01:51 2008 GM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After : Aug 24 17:01:51 2018 GM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ject: C=BM, O=QuoVadis Limited, CN=QuoVadis Grid Issuing 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or ICA?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ject Public Key Inf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ublic Key Algorithm: rsaEncryp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SA Public Key: (2048 b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ulus (2048 bit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D582-889B-4550-AFDE-BBE86561FB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nent: 65537 (0x10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extens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Basic Constraints: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: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Key Usage: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ificate Sign, CRL 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Authority Key Identifie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id:AD:0B:3E:70:61:2D:D2:8F:F0:E7:4F:DD:1D:DF:F1:32:70:CD:D6: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Subject Key Identifie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2:E6:13:39:8B:3A:41:66:EA:40:C1:0B:81:CE:10:F7:DA:71:74:B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CRL Distribution Point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I:http://crl.quovadisglobal.com/qvrca.c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y Information Acc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 Issuers - URI:http://trust.quovadisglobal.com/qvrca.c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BEGIN CERTIFICATE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END CERTIFICATE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85FA-098D-4DD3-ACDB-C3454276AB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Switch Requirements/feedback</a:t>
            </a:r>
            <a:endParaRPr b="1" lang="en-US" sz="4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lifetime of at least ten years for the Issuing 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Entities and Server certificates lifetime of no more than 13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further certificate policies extension for the Issuing CA certificate must not  include a 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mediate certificate with a key longer than 2048 bits (CA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suing CA CRL lifetime will be of at least 7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CSP (online certificate status protocol)  responder URI in the Grid certificates, at least initi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FFFB-1590-4214-82FA-25E02E8265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34360" cy="74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47d"/>
                </a:solidFill>
                <a:latin typeface="Arial"/>
              </a:rPr>
              <a:t>What will change?</a:t>
            </a:r>
            <a:endParaRPr b="1" lang="en-US" sz="38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ssSign hierarchy cumbersome e.g. we will not need a safe in a bank anymore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hassle as we will NOT have the email field in the certificates D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3886200"/>
            <a:ext cx="50292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LCS CA is not affected by the transi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s management will remain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5680" y="2971800"/>
            <a:ext cx="490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47d"/>
                </a:solidFill>
                <a:latin typeface="Arial"/>
              </a:rPr>
              <a:t>What will not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7227-4A60-4A19-90F2-C24A94B454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5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247d"/>
                </a:solidFill>
                <a:latin typeface="Arial"/>
              </a:rPr>
              <a:t>QuoVadis timeline</a:t>
            </a:r>
            <a:endParaRPr b="1" lang="en-US" sz="45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oVadis CP/CPS and Issuing 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process for the Issuing CA and update of the CP/CPS will be roughly as follow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raft of the initial proposed updates to the CP/CPS over the next few week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greement with QuoVadis on the technical specifications for the issuing CA and the end user/device certificates (this includes OIDs et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ild of the issuing CA and first tests:  as an estimate the issuing CA should be able to be built by the end of the yea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al updates to the CP/CPS and formal approve by the QuoVadis PMA (dependent on the building of the issuing CA, but quick in princip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mission of the CP/CPS for approval by the EUGridP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984A-3AB9-4228-A4FF-7601E23EB2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EUGridPMA Accreditation Timeline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start with the current CP/CPS review?Any volunteers for the review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the real review when the CP/CPS document is approved by QuoVa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 would like to be accredited by May 2009 the latest in Zurich, but if possible by January 2009 at the EUGridPMA meeting in Cypru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representative of QuoVadis might attend the meeting in Cyprus, if this is deemed usefu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DA93-D484-4DF8-8304-28FF5B517B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47d"/>
                </a:solidFill>
                <a:latin typeface="Arial"/>
              </a:rPr>
              <a:t>So who are they (where are you going:)?</a:t>
            </a:r>
            <a:endParaRPr b="1" lang="en-US" sz="3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was founded in 1999 with backing from a venture capital affiliate of the Zurich Financial Services Group. The company later underwent a management buyout and subsequent private equity investment from ABRY Part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Vadis is a member of the CA/Browser Forum, and contributed to the creation of standards for the Extended Validation Certificate.QuoVadis is based in Berm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offices in Switzerland, UK, Holland, New Zealand;they will also open a second data centre in Zurich in November this y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5659-8F7C-401B-A6C7-8112889D64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7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247d"/>
                </a:solidFill>
                <a:latin typeface="Arial"/>
              </a:rPr>
              <a:t>QuoVadis current business profile</a:t>
            </a:r>
            <a:endParaRPr b="1" lang="en-US" sz="39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189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oVadis’ accreditations (yearly audits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alified Certification Practice Statement (CSP)  in Netherlands granted by the Independent Post and Telecommunications Authority (OPTA), based on a certification by the British Standards Institute (BSI) using the TTP.NL Scheme for Certification Authoriti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alified CSP in Switzerland granted by BAKOM (Bundesamt für Kommunikation I.e.The Federal Office of Communication OFCOM) based on a certification from KPMG using ETSI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uropean Telecommunications Standards Institute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S 101 456 and other related standard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thorised CSP in Bermuda based on that country’s Electronic Transactions Ac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Trust for Certification Authorities, and WebTrust for Extended Validation (by Ernst &amp; Young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0280-ED99-4216-A21A-CB24238A7D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47d"/>
                </a:solidFill>
                <a:latin typeface="Arial"/>
              </a:rPr>
              <a:t>QuoVadis as a CA</a:t>
            </a:r>
            <a:endParaRPr b="1" lang="en-US" sz="46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currently have three root CAs (one CP/CPS for CA 1 and 3 and a separate one for CA 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 will be linked to the root 1 CA (the one with 2048 bit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es the CP/CPS look lik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http://www.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quovadisglobal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.bm/~/media/Files/Repository/QV_RCA1_RCA3_CPCPS_V4_5.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ash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ant points to not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ardware, security procedures and auditing comply with the EuGridPMA requirements, In particula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M for Issuing CA to provide at least FISP Level 3 and/or EAL 4 security standards in both the generation and maintenance in all Root and Issuing CA private ke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controls, procedural controls, personnel controls, audit logging procedures, records archival, key changeover, compromise and disaster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E7E9-401E-414B-BA8A-4750FD3E78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The QuoVadis CA certificate hierarchy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95280"/>
            <a:ext cx="2743200" cy="9907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Root Certification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1–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09960" y="2895480"/>
            <a:ext cx="205740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V Schweiz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6–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4191120"/>
            <a:ext cx="1676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standard us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3" idx="2"/>
            <a:endCxn id="94" idx="0"/>
          </p:cNvCxnSpPr>
          <p:nvPr/>
        </p:nvCxnSpPr>
        <p:spPr>
          <a:xfrm>
            <a:off x="4038120" y="2295000"/>
            <a:ext cx="1080" cy="5911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4038120" y="3504960"/>
            <a:ext cx="1080" cy="6865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848200" y="1409760"/>
            <a:ext cx="2476800" cy="7621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marL="193680" indent="-1936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uoVadis Root C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4096 bits, 2006–20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895480"/>
            <a:ext cx="304776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3abb1"/>
                </a:solidFill>
                <a:latin typeface="Arial"/>
              </a:rPr>
              <a:t>QuoVadis Global SSL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7–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8" idx="2"/>
            <a:endCxn id="99" idx="0"/>
          </p:cNvCxnSpPr>
          <p:nvPr/>
        </p:nvCxnSpPr>
        <p:spPr>
          <a:xfrm>
            <a:off x="7086240" y="2181240"/>
            <a:ext cx="1080" cy="70524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257800" y="419112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Business SSL serv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41911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EV SSL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(1/2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9" idx="2"/>
            <a:endCxn id="101" idx="0"/>
          </p:cNvCxnSpPr>
          <p:nvPr/>
        </p:nvCxnSpPr>
        <p:spPr>
          <a:xfrm flipH="1">
            <a:off x="6133680" y="3514320"/>
            <a:ext cx="95328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9" idx="2"/>
            <a:endCxn id="102" idx="0"/>
          </p:cNvCxnSpPr>
          <p:nvPr/>
        </p:nvCxnSpPr>
        <p:spPr>
          <a:xfrm>
            <a:off x="7086600" y="3514320"/>
            <a:ext cx="99144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3" idx="3"/>
            <a:endCxn id="98" idx="1"/>
          </p:cNvCxnSpPr>
          <p:nvPr/>
        </p:nvCxnSpPr>
        <p:spPr>
          <a:xfrm>
            <a:off x="5419800" y="1790280"/>
            <a:ext cx="419760" cy="108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prstDash val="dash"/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28600" y="2895480"/>
            <a:ext cx="2286000" cy="609840"/>
          </a:xfrm>
          <a:prstGeom prst="rect">
            <a:avLst/>
          </a:prstGeom>
          <a:solidFill>
            <a:srgbClr val="00ff00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Grid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8–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3" idx="1"/>
            <a:endCxn id="106" idx="0"/>
          </p:cNvCxnSpPr>
          <p:nvPr/>
        </p:nvCxnSpPr>
        <p:spPr>
          <a:xfrm flipV="1" rot="10800000">
            <a:off x="1370880" y="1789560"/>
            <a:ext cx="1286640" cy="1096200"/>
          </a:xfrm>
          <a:prstGeom prst="bent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533520" y="4191120"/>
            <a:ext cx="1676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QuoVadis Grid user and 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1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6" idx="2"/>
            <a:endCxn id="108" idx="0"/>
          </p:cNvCxnSpPr>
          <p:nvPr/>
        </p:nvCxnSpPr>
        <p:spPr>
          <a:xfrm>
            <a:off x="1371240" y="3514320"/>
            <a:ext cx="1080" cy="6771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52A6-47FB-4804-99DC-CBBEB141D8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47d"/>
                </a:solidFill>
                <a:latin typeface="Arial"/>
              </a:rPr>
              <a:t>What will the grid certificates look like?</a:t>
            </a:r>
            <a:endParaRPr b="1" lang="en-US" sz="3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ice In particular that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common prefix for all Grid cert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C=com, DC=quovadisglobal, DC=gri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prefix for SWITCH user cert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C=com, DC=quovadisglobal, DC=grid, DC=switch, OU=u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prefix for SWITCH server cert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C=com, DC=quovadisglobal, DC=grid, DC=switch, OU=hos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3280" y="1682640"/>
            <a:ext cx="40698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Certificate exam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st certific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suing CA Certificate exam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8298-CF10-4F41-B535-E6411C77C4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EE Certificate</a:t>
            </a:r>
            <a:endParaRPr b="1" lang="en-US" sz="4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ertificat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at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ersion: 3 (0x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rial Number: 31 (0x1f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gnature Algorithm: sha1WithRSAEncryp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ssuer: C=BM, O=QuoVadis Limited, CN=QuoVadis Grid Issuing 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alid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t Before: Aug 26 08:41:25 2008 GM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t After : Aug 26 08:41:25 2009 GM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ubject: DC=com, DC=quovadisglobal, DC=grid, DC=switch, DC=users, O=SWITCH, CN=Alessandro Usa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ubject Public Key Inf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ublic Key Algorithm: rsaEncryp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SA Public Key: (2048 bi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odulus (2048 bit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xponent: 65537 (0x1000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1B82-53C6-4928-B564-E781354979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exten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Certificate Polic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icy: 1.3.6.1.4.1.8024.0.1              -&gt; ROOT CA 1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icy: 1.2.840.113612.5.2.2.1.4      -&gt; IGTF Classic 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Key Usage: cri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gital Signature, Key Enciphe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Extended Key Usag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LS Web Client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Subject Alternative Na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ail:alessandro.usai@switch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Subject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A:5E:63:A9:B3:10:3B:CF:45:60:59:ED:61:59:DE:8B:A4:9A:BE:C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Authority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id:42:E6:13:39:8B:3A:41:66:EA:40:C1:0B:81:CE:10:F7:DA:71:74:B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CRL Distribution Poi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I:http://crl.quovadisglobal.com/qvgica.c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hority Information Acces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 Issuers - URI:http://trust.quovadisglobal.com/qvgica.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ture Algorithm: sha1WithRSAEncry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BEGIN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END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35F1-B8CA-442A-86AF-BE7B01C5E5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92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247d"/>
                </a:solidFill>
                <a:latin typeface="Arial"/>
              </a:rPr>
              <a:t>Host Certificate</a:t>
            </a:r>
            <a:endParaRPr b="1" lang="en-US" sz="5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: 3 (0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Number: 33 (0x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r: C=BM, O=QuoVadis Limited, CN=QuoVadis Grid Issuing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Before: Aug 27 08:33:18 2008 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fter : Aug 27 08:33:18 2009 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: DC=com, DC=quovadisglobal, DC=grid, DC=switch, DC=hos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=SWITCH, CN=server.switch.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Public Key Inf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Algorithm: rsa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A Public Key: (2048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us (2048 bi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onent: 65537 (0x1000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E6A7-BF3C-406B-A0C6-853EE98AFF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ssandro Usai</cp:lastModifiedBy>
  <dcterms:modified xsi:type="dcterms:W3CDTF">2008-10-05T12:28:46Z</dcterms:modified>
  <cp:revision>32</cp:revision>
  <dc:subject/>
  <dc:title>QuoVadis accreditation with EuGridPMA</dc:title>
</cp:coreProperties>
</file>