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F8278-9104-447D-974E-33A8FF61FA29}" type="slidenum"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58E4A-9F4B-4A2D-935E-EE58AE7CE4D3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72975-4C08-47DA-B3BF-142FE052BD37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1B23B-ECBC-45A3-A49A-C394B390D504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56E3B-84FE-4DD8-80D0-888CA0AA7CFE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FBB53-7850-49F4-BDEE-5444372561D3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2DA8-4F95-4A00-8F74-D6E423B27CA1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49E46-6EAC-4B6B-8D24-900F2E6BBB1B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6900B-C654-4F15-B40B-8C6C9635DD70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FB873-A031-417B-AEEF-36A81A15E161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EA73C-EAFE-4B38-A149-1B66A89B83D8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EC90A-EDC3-453C-A9DD-E76F9A7A3236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F244C3-AB2E-49A3-B688-1A2C46CDF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65960F-2EFA-4409-ACE8-0AE9AC6E9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1E637D-6B2A-42B2-B8EE-0FE880D77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68A9E7-AC1B-44D3-AA67-A2F264AB3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F9610D-B6F1-4E35-A49F-2919D0788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050560" y="274320"/>
            <a:ext cx="663588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91B42E-095C-458A-A957-302663312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BE0CF2-742F-4354-9C5F-39FDA30E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50F5FF-18C3-4903-9E93-E6754362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E07DEB-EE4B-409C-BFCF-CB7878BF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C9C8CE-F805-4A8F-AC46-0F8AF6D39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65CA48-09E5-48D7-B2BA-3DCE8DF28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886D4A-82B2-4F0A-85E2-9167E84EF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050560" y="274320"/>
            <a:ext cx="663588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3827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000000"/>
                </a:solidFill>
                <a:latin typeface="Verdan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4th EUGridPMA Meeting, Oct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71640" y="6244920"/>
            <a:ext cx="3319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8"/>
          <p:cNvSpPr/>
          <p:nvPr/>
        </p:nvSpPr>
        <p:spPr>
          <a:xfrm>
            <a:off x="1187280" y="1125360"/>
            <a:ext cx="6697800" cy="0"/>
          </a:xfrm>
          <a:prstGeom prst="line">
            <a:avLst/>
          </a:prstGeom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9"/>
          <p:cNvSpPr/>
          <p:nvPr/>
        </p:nvSpPr>
        <p:spPr>
          <a:xfrm>
            <a:off x="1332000" y="1197000"/>
            <a:ext cx="633708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0"/>
          <p:cNvSpPr/>
          <p:nvPr/>
        </p:nvSpPr>
        <p:spPr>
          <a:xfrm>
            <a:off x="1476360" y="1268280"/>
            <a:ext cx="604836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5" descr="IGTF-logo-300"/>
          <p:cNvPicPr/>
          <p:nvPr/>
        </p:nvPicPr>
        <p:blipFill>
          <a:blip r:embed="rId2"/>
          <a:stretch/>
        </p:blipFill>
        <p:spPr>
          <a:xfrm>
            <a:off x="468360" y="260280"/>
            <a:ext cx="1439640" cy="66672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6"/>
          <p:cNvSpPr/>
          <p:nvPr/>
        </p:nvSpPr>
        <p:spPr>
          <a:xfrm>
            <a:off x="651672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8243A-2700-4A06-8B52-3051C09C4584}" type="slidenum">
              <a:rPr b="1" lang="en-GB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7" descr="IGTF-logo-large"/>
          <p:cNvPicPr/>
          <p:nvPr/>
        </p:nvPicPr>
        <p:blipFill>
          <a:blip r:embed="rId2"/>
          <a:stretch/>
        </p:blipFill>
        <p:spPr>
          <a:xfrm>
            <a:off x="468360" y="404640"/>
            <a:ext cx="3166920" cy="1467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69750-2AB1-4E3D-97D8-CA7E18CAE804}" type="slidenum"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ndico.rnp.br/conferenceDisplay.py?confId=4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4.jpe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tagpma.es.net/wiki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24360" y="333360"/>
            <a:ext cx="45338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Impact"/>
              </a:rPr>
              <a:t>14</a:t>
            </a:r>
            <a:r>
              <a:rPr b="0" lang="en-US" sz="4400" spc="-1" strike="noStrike" baseline="30000">
                <a:solidFill>
                  <a:srgbClr val="ff0000"/>
                </a:solidFill>
                <a:latin typeface="Impact"/>
              </a:rPr>
              <a:t>th</a:t>
            </a:r>
            <a:r>
              <a:rPr b="0" lang="en-US" sz="4400" spc="-1" strike="noStrike">
                <a:solidFill>
                  <a:srgbClr val="ff0000"/>
                </a:solidFill>
                <a:latin typeface="Impact"/>
              </a:rPr>
              <a:t> EUGridPMA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Impact"/>
              </a:rPr>
              <a:t>Meeting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Update from TAGPMA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Impact"/>
              </a:rPr>
              <a:t>Jim Basne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68360" y="4436640"/>
            <a:ext cx="798336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Impact"/>
              </a:rPr>
              <a:t>Lisbon, Portugu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Impact"/>
              </a:rPr>
              <a:t>October 6-8, 200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6" name="Group 4"/>
          <p:cNvGrpSpPr/>
          <p:nvPr/>
        </p:nvGrpSpPr>
        <p:grpSpPr>
          <a:xfrm>
            <a:off x="468360" y="2647800"/>
            <a:ext cx="3527280" cy="1287000"/>
            <a:chOff x="468360" y="2647800"/>
            <a:chExt cx="3527280" cy="1287000"/>
          </a:xfrm>
        </p:grpSpPr>
        <p:sp>
          <p:nvSpPr>
            <p:cNvPr id="97" name="WordArt 5"/>
            <p:cNvSpPr txBox="1"/>
            <p:nvPr/>
          </p:nvSpPr>
          <p:spPr>
            <a:xfrm>
              <a:off x="522360" y="2647800"/>
              <a:ext cx="21812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TAGPMA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8" name="Text Box 6"/>
            <p:cNvSpPr/>
            <p:nvPr/>
          </p:nvSpPr>
          <p:spPr>
            <a:xfrm>
              <a:off x="468360" y="3292200"/>
              <a:ext cx="352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 Americas Gri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licy Management Authority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Date Placeholder 3"/>
          <p:cNvSpPr/>
          <p:nvPr/>
        </p:nvSpPr>
        <p:spPr>
          <a:xfrm>
            <a:off x="457200" y="6245280"/>
            <a:ext cx="3827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4th EUGridPMA Meeting, Oct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4572000" y="6245280"/>
            <a:ext cx="331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TAGPMA Issu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Charter (v 2.5 approval pend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Inactive Membership – impacts quoru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Two year term of office for elected pos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CA accredit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Auditing: Discussions on going, should cons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NIST 800-53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Webtrus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Others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ISO/IEC 27001:2005; ISO/IEC 17799:200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Cob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CA CP/CPS template : Minimum requirements and best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Date Placeholder 3"/>
          <p:cNvSpPr/>
          <p:nvPr/>
        </p:nvSpPr>
        <p:spPr>
          <a:xfrm>
            <a:off x="457200" y="6245280"/>
            <a:ext cx="3827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4th EUGridPMA Meeting, Oct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4572000" y="6245280"/>
            <a:ext cx="331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TAGPMA F2F Meet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4358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7th TAGPMA F2F in Oakland, US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AGPMA F2F in Merida, Venezuel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Was postponed due to expected lack of attendan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8th TAGPMA F2F in La Plata City, Argentin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November 6-8, 2008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indico.rnp.br/conferenceDisplay.py?confId=45</a:t>
            </a: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Fortnightly Video Conference Call on Tuesday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Next one is today, 11am CD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Verdana"/>
              </a:rPr>
              <a:t>Video arrangements: Video ESNet 884483 or GDS 0011349884483 or phone 1-510-883-7860 884483#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3"/>
          <p:cNvSpPr/>
          <p:nvPr/>
        </p:nvSpPr>
        <p:spPr>
          <a:xfrm>
            <a:off x="457200" y="6245280"/>
            <a:ext cx="3827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4th EUGridPMA Meeting, Oct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ooter Placeholder 4"/>
          <p:cNvSpPr/>
          <p:nvPr/>
        </p:nvSpPr>
        <p:spPr>
          <a:xfrm>
            <a:off x="4572000" y="6245280"/>
            <a:ext cx="331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0000"/>
                </a:solidFill>
                <a:latin typeface="Verdana"/>
              </a:rPr>
              <a:t>TAGPMA Membershi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492360" y="1484280"/>
            <a:ext cx="51832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CANARIE – Canada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DOEGrids (ESNet) – USA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EELA – Internation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Verdana"/>
              </a:rPr>
              <a:t>Fermi National Accelerator Laboratory - US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HEBCA/USHER/Dartmouth College – US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6600"/>
                </a:solidFill>
                <a:latin typeface="Verdana"/>
              </a:rPr>
              <a:t>IBDS (ANSP) - Brazi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LCG – Internation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NCSA – US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Verdana"/>
              </a:rPr>
              <a:t>NERSC – US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Open Science Grid – Internation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6600"/>
                </a:solidFill>
                <a:latin typeface="Verdana"/>
              </a:rPr>
              <a:t>Purdue University – USA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REUNA – Chi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6600"/>
                </a:solidFill>
                <a:latin typeface="Verdana"/>
              </a:rPr>
              <a:t>San Diego Supercomputer </a:t>
            </a:r>
            <a:r>
              <a:rPr b="1" lang="en-US" sz="1400" spc="-1" strike="noStrike">
                <a:solidFill>
                  <a:srgbClr val="ff6600"/>
                </a:solidFill>
                <a:latin typeface="Verdana"/>
              </a:rPr>
              <a:t>Center </a:t>
            </a:r>
            <a:r>
              <a:rPr b="1" lang="en-GB" sz="1400" spc="-1" strike="noStrike">
                <a:solidFill>
                  <a:srgbClr val="ff6600"/>
                </a:solidFill>
                <a:latin typeface="Verdana"/>
              </a:rPr>
              <a:t>– USA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Verdana"/>
              </a:rPr>
              <a:t>TACC – US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TeraGrid – USA</a:t>
            </a:r>
            <a:r>
              <a:rPr b="1" lang="en-GB" sz="1400" spc="-1" strike="noStrike">
                <a:solidFill>
                  <a:srgbClr val="ff66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exas High Energy Grid</a:t>
            </a:r>
            <a:r>
              <a:rPr b="1" lang="en-GB" sz="1400" spc="-1" strike="noStrike">
                <a:solidFill>
                  <a:srgbClr val="008000"/>
                </a:solidFill>
                <a:latin typeface="Verdana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– US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6600"/>
                </a:solidFill>
                <a:latin typeface="Verdana"/>
              </a:rPr>
              <a:t>University of Virginia – USA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UFF – Brazi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Verdana"/>
              </a:rPr>
              <a:t>ULA – Venezuela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UNAM – Mexico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UNLP – Argentina</a:t>
            </a:r>
            <a:r>
              <a:rPr b="1" lang="en-GB" sz="1400" spc="-1" strike="noStrike">
                <a:solidFill>
                  <a:srgbClr val="008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4" descr="The image “http://www.lib.utexas.edu/maps/americas/americas_pol96.jpg” cannot be displayed, because it contains errors."/>
          <p:cNvPicPr/>
          <p:nvPr/>
        </p:nvPicPr>
        <p:blipFill>
          <a:blip r:embed="rId22"/>
          <a:stretch/>
        </p:blipFill>
        <p:spPr>
          <a:xfrm>
            <a:off x="108000" y="1341360"/>
            <a:ext cx="3429000" cy="51739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6046920" y="5451480"/>
            <a:ext cx="281736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IGTF Accredited CA Oper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Verdana"/>
              </a:rPr>
              <a:t>CA Accreditation in pro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6600"/>
                </a:solidFill>
                <a:latin typeface="Verdana"/>
              </a:rPr>
              <a:t>Interested in accredi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Relying Par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5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5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5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0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5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0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0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5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0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60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0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Date Placeholder 3"/>
          <p:cNvSpPr/>
          <p:nvPr/>
        </p:nvSpPr>
        <p:spPr>
          <a:xfrm>
            <a:off x="457200" y="6245280"/>
            <a:ext cx="3827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4th EUGridPMA Meeting, Oct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ooter Placeholder 4"/>
          <p:cNvSpPr/>
          <p:nvPr/>
        </p:nvSpPr>
        <p:spPr>
          <a:xfrm>
            <a:off x="4572000" y="6245280"/>
            <a:ext cx="331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TAGPMA Memb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635280" y="1484280"/>
            <a:ext cx="505152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21 Memb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7(+2) IGTF C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5 Classic, 1 SLCS, 1 MI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5 CAs pend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2 Classic, 2 SLCS, 1MI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Plus 3 more in the work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6 Relying Parti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Peru and Colombia expected to join so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4" descr="The image “http://www.lib.utexas.edu/maps/americas/americas_pol96.jpg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108000" y="1341360"/>
            <a:ext cx="3429000" cy="51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Date Placeholder 3"/>
          <p:cNvSpPr/>
          <p:nvPr/>
        </p:nvSpPr>
        <p:spPr>
          <a:xfrm>
            <a:off x="457200" y="6245280"/>
            <a:ext cx="3827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4th EUGridPMA Meeting, Oct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ooter Placeholder 4"/>
          <p:cNvSpPr/>
          <p:nvPr/>
        </p:nvSpPr>
        <p:spPr>
          <a:xfrm>
            <a:off x="4572000" y="6245280"/>
            <a:ext cx="331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TAGPMA Offic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(re-)Election held in July of 2008 – 1 year ter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Chai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Vinod Rebello (UFF – Brazil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Vice-Ch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Jim Marstellar (PSC – USA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Secreta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Margaret Murray (UT-Austin – USA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rusted Introducer (nominate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Mike Helm (ESNet/LBL – USA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Date Placeholder 3"/>
          <p:cNvSpPr/>
          <p:nvPr/>
        </p:nvSpPr>
        <p:spPr>
          <a:xfrm>
            <a:off x="457200" y="6245280"/>
            <a:ext cx="3827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4th EUGridPMA Meeting, Oct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4572000" y="6245280"/>
            <a:ext cx="331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Administrative Chan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CANARIE was no longer willing to host TAGPMA Infrastruc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ESnet offered to stand 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But ESnet undergoing large services overhau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Disruption to TAGPMA services in terms of availability and quality – Apolo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Moving/moved TAGPMA domain name, mailing lists and website to ESnet, as and when feasib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AGPMA twiki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(s)://tagpma.es.net/wiki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To host TAGPMA information, tutorials etc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3"/>
          <p:cNvSpPr/>
          <p:nvPr/>
        </p:nvSpPr>
        <p:spPr>
          <a:xfrm>
            <a:off x="457200" y="6245280"/>
            <a:ext cx="3827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4th EUGridPMA Meeting, Oct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ooter Placeholder 4"/>
          <p:cNvSpPr/>
          <p:nvPr/>
        </p:nvSpPr>
        <p:spPr>
          <a:xfrm>
            <a:off x="4572000" y="6245280"/>
            <a:ext cx="331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Incident Respon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None of the Accredited CAs were affected by the Debian </a:t>
            </a:r>
            <a:r>
              <a:rPr b="0" lang="en-GB" sz="2400" spc="-1" strike="noStrike">
                <a:solidFill>
                  <a:srgbClr val="333399"/>
                </a:solidFill>
                <a:latin typeface="Verdana"/>
              </a:rPr>
              <a:t>OpenSSL vulnerability (CVE-2008-0166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However, there was significant fallout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Patchy communications and delayed responses due in part 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CA manager inexperience/turnov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Poorly organized communication infrastruc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Cleaned up existing mailing li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Setup alternative dedicated mailing list with out-of-band secure commun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Private directory of membership with alternative contact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3"/>
          <p:cNvSpPr/>
          <p:nvPr/>
        </p:nvSpPr>
        <p:spPr>
          <a:xfrm>
            <a:off x="457200" y="6245280"/>
            <a:ext cx="3827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4th EUGridPMA Meeting, Oct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ooter Placeholder 4"/>
          <p:cNvSpPr/>
          <p:nvPr/>
        </p:nvSpPr>
        <p:spPr>
          <a:xfrm>
            <a:off x="4572000" y="6245280"/>
            <a:ext cx="331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TAGPMA Char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Version 2.4 of the Charter has been approv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Better reflects how the TAGPMA opera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2 year Membership: Letter of introduction/renew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Ties the representative (POC) to the soliciting Institu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Affirmed commitment by Institution to TAGPMA participation (F2F meetings, document development and reviewing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Extended inactivity will imply resign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3"/>
          <p:cNvSpPr/>
          <p:nvPr/>
        </p:nvSpPr>
        <p:spPr>
          <a:xfrm>
            <a:off x="457200" y="6245280"/>
            <a:ext cx="3827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4th EUGridPMA Meeting, Oct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4572000" y="6245280"/>
            <a:ext cx="331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SLCS Profile Stat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SLCS Profile (Original Version 1.1, 15/11/2005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A two pronged revision process (Version 2.0 seri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Language 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Brought up to date and in line with alterations made to the other profile docu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Policy 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Lowered HSM operating mode to Level 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Two recent security incidents posed the question of whether or not CRLs SHOULD be made a requirement/op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3"/>
          <p:cNvSpPr/>
          <p:nvPr/>
        </p:nvSpPr>
        <p:spPr>
          <a:xfrm>
            <a:off x="457200" y="6245280"/>
            <a:ext cx="3827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4th EUGridPMA Meeting, Oct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4572000" y="6245280"/>
            <a:ext cx="331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SLCS Profile Stat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Current version is 2.1, 18/08/200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CRLs are requi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With exception for very short-lived certifica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How short is short? Current consensus is 1 da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Although approved by both EU and AP GridPMAs, awaiting acceptance from existing SLCS CA operator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NCSA o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SWITCH ?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8T23:38:54Z</dcterms:created>
  <dc:creator>Vinod Rebello</dc:creator>
  <dc:description/>
  <dc:language>en-US</dc:language>
  <cp:lastModifiedBy>Jim Basney</cp:lastModifiedBy>
  <dcterms:modified xsi:type="dcterms:W3CDTF">2008-10-03T20:23:00Z</dcterms:modified>
  <cp:revision>93</cp:revision>
  <dc:subject>TAGPMA@OGF24 2008</dc:subject>
  <dc:title>TAGPMA Updates</dc:title>
</cp:coreProperties>
</file>