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AD0E520-A4D3-4658-80B8-87D65A1DE7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764D2C7-1A49-4403-983D-9B4424400C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C6747C3-44FA-40E7-A45A-7A6F34D6D6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263C4DE-55AD-49FC-9394-7615BDF983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2F6A429-6A82-4F2C-88E8-69902F372D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C411A42-21F5-4A71-8D2A-1B3090CFBA9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ED413D2-0B0A-46A0-9FF9-771BE355CBE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8A9C14F-D018-4F69-A5D5-A3BB28E123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0523C6F-B118-4F9B-8AEC-FDA0CB525B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54CFF2A-90FD-4D03-803F-EF9C73F0D8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2DB8A6D-60D7-4418-97F8-D13FF3FC658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8BB73AB-9D0F-4339-8680-B664A01A3FC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D2E8B21-0CB4-4E4D-AF2E-08F4C1A6513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GFD.125 AND POLICY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OMPLIANCE TESTING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 uniqueness 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DN component ordering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ersion: must be v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? CA:FALSE? (openssl x509 –tex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only certSign, cRLSig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 (if present) has http URL in URI attribut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alidity period: between 3 and 20 years, warn if &lt;1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atureAlgorithm: must be SHA-1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 OIDs (should not be presen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check for weird attribu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rial number: warn if 0, error if &lt;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update: Did serial number chang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client cer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namespace unique? Does it match the meta-data?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RDN ordering correct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, CA:FAL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no serverAuth in personal cer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does it match any netscape attribute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KI: contains only keyID, error if name or serial detec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sCertType: matches eKU if pres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: must be included and must return DER C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 no nonRepudiation &amp;c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C naming, matching registered WHOIS contac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meta-dat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is htt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yields a CRL issued by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can sustain 4Hz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validity is &gt; 7 days (warn if &gt;3days, manual if &gt;31 days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mail: address does not bou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is reasonable representation of CA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matches [A-Za-z][-A-Za-z0-9]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_url if present: gets CA cert, warn if miss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rl: leads to non-empty html or text pa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tus: matches accredit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ext?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o is willing to write the utility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 can do it, but then it will take a while, I think 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33Z</dcterms:modified>
  <cp:revision>469</cp:revision>
  <dc:subject/>
  <dc:title>European Grid Policy Management Authority</dc:title>
</cp:coreProperties>
</file>