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6CD-413F-4246-9135-FC66F511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375-604A-48E8-B79B-4B4782A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596-F79B-4B6B-9C80-15D26402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AAA-4E3A-4524-967D-B06B8552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43B-CCFB-4FA1-B672-CA36792C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354-C5BF-457D-AE2B-09A5FCC8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339-3EC6-4B6B-9E77-2E4BB3AE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A78-AFA8-40C8-9B34-D6A8DA2E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9D0-40FC-40DF-AF5E-5B0867BD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B65-F67F-4FB3-B69D-5C0FD4F4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F0E-2708-4C8D-B2BD-A63F142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CC7-2B3A-43C0-8F47-9E269A5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FB1F-17F5-4188-B1FC-AA91BD002258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10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ay@niif.h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066680"/>
            <a:ext cx="7543800" cy="518184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IF CA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tatus Updat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Self-Audit Results 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EUGridPMA me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7.01.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co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Tamás Mára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maray@niif.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IIF Institu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1066680"/>
            <a:ext cx="7543800" cy="518184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status of CA –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of the self-au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s ta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C47-A5F9-417A-9ED4-1969D5841B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219320"/>
            <a:ext cx="8153280" cy="495288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neral Inform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IF CA is an X.509 PKI CA with online CA infrastructure (Sun CMS + HSM: Chrysalis Luna crypto H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ccredited by the EUGridPMA in 2005 January during the Marseille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free X.509 user and host certificates mainly for the academic user community (research and higher education) in Hungary but also for some companies participating in EU FP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Budapest, operated by NIIF Institute (the Hungarian NR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663-9347-4B34-9673-70A5BD081C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urrent Status of CA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of yester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7 CERTs are issued in 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3 CERTs are va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94 CERTs are exp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 CERTs are revo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ll the CERTs are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FA8-680C-4A87-A2BE-58924B6F12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lf-Audi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at it meant to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oroghful review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peration of the C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ocument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ntifica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ing the entire staff responsible for running the 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is based on Yoshio Tanaka’s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uidelines for auditing Grid CAs version 1.0-b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”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ublished in September 2008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510-C017-4FF5-AD7D-C2310C6D83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y serious problems were not detected.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 fou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erational manual is mis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PS/CP documents are still organised according to RFC 25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10: The secure environment is documented only in Hungarian (NIIF’s internal regulation documents,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ISO 9001:20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, ISO/IEC 27001:2005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therefore it is not available to the P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17 and Q18: root key renewal process is not satisfyingly addressed. Discussion of the overlap issue is missing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FCB-BCF9-44B5-8BB5-108D94F33C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ults (cont.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 fou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32: multiple, simultaneous revocations have not been tested ye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43: FQDN is not included in the SubjectAlternativeName in host certific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(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53: yearly operational audit of the CA/RA staff was not a practice before (though a regular, internal NIIF service reporting procedure is implemen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62: disaster recovery procedure is not described in CPS/CP (though a general procedure description do exist for the NIIF as a who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6CE-9653-486E-A2E0-56AB7C5FEA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295280"/>
            <a:ext cx="8153280" cy="480060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ctions take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audit report was prepared, giving answer to *all* the audit ques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over, decisions were made abou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certification request process (leaving out the requirement of the “project manager’s” approval of the request from the Pre-Authorisation pha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operation (quitting the former log server, archiving the logs directly from the TC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documentation work (CPS/CP are only published in English, Hungarian version is not maintained anymo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ifying the CPS/CP documents according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. (Version 1.4 is prepared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197-977D-4C61-9FA7-2F4CA12845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ture Pla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of the operation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of the CA’s disaster recovery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organising CPS/CPs according to RFC 364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ing FQDN in the SubjectAlternativeName in host certificates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ing a yearly operational audit of the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B91-AC6B-4934-BF80-8ABE09C4DF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11:13:33Z</dcterms:created>
  <dc:creator>Benczéné Páldi Piroska</dc:creator>
  <dc:description/>
  <dc:language>en-US</dc:language>
  <cp:lastModifiedBy>Springer Ferenc</cp:lastModifiedBy>
  <dcterms:modified xsi:type="dcterms:W3CDTF">2009-01-27T08:53:28Z</dcterms:modified>
  <cp:revision>109</cp:revision>
  <dc:subject/>
  <dc:title>Az NIIF E10000 szuperszámítógép felhasználása, fejlesztési tervek</dc:title>
</cp:coreProperties>
</file>