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6E7-BC1F-423B-825B-E0CD94D6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FA1-2A26-44E5-BA87-DE7237FC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62A-DF84-4C2B-9091-F2A08A22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1D6-9C00-4517-9595-2345EC43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D5C-9EF3-4CA9-AC34-0196925A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6C3-D432-4EEC-B77E-4A939A39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0E2-D2E8-431F-A421-5CA3BA8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C8E-7706-4361-9D34-37E73B5B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6BC-B1CA-4E4E-B314-1CCCE049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9EB-4A6D-4FCB-9151-E7F3464E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F05-D2AE-4C9C-BBD7-13C32BB4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57C-6BC2-4E90-A724-6F37ACF9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655B-DA23-41D4-8BB2-0174CBDCCD42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Nicos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27 Jan 2009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roduce next draft of document by end of Marc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ork with VOMS server AAS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ry an accreditation in Zurich PMA meeting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5AD0-A1EE-4CF0-8A24-CF7C8552361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2204640"/>
            <a:ext cx="7772400" cy="3816360"/>
          </a:xfrm>
          <a:prstGeom prst="rect">
            <a:avLst/>
          </a:prstGeom>
          <a:ln w="0">
            <a:noFill/>
          </a:ln>
        </p:spPr>
      </p:pic>
      <p:sp>
        <p:nvSpPr>
          <p:cNvPr id="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F7F8-7597-4F1D-B19F-50D96FE85B28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C7E3-488A-4AAC-8C56-45592084983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tc etc et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eeting on 2 Dec 200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t NIKHEF – just before TERENA federation meet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incenzo Ciaschini, David Groep, Oscar Koeroo, Mike Helm, Reimer Karlsen-Masur, Steve Timm, Jules Wolfrat, Dave Kels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Worked on the AA profile document and discussed some issu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EDF4-941C-4BD4-AD97-0E58B694D97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in changes to documen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leaned up intro, abstract and scop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General archite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wo well established architect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ssue attributes to users, pushed by us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ttributes extracted to local AuthZ DB (GUM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hould be one AASP per organis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 the AASP, not each instance or VO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0635-5A12-4C60-A658-5141745FA7E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discuss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A signing k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gree we should not use host certifica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VOMS develop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willing to implement use of separate ke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Should be tied to AASP (not VO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SP encouraged to consider an H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But  not forc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0C2D-9630-4370-9DE9-976D074AA54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evoc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o case for revoking A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Other AC may exist with same asser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ntire cert chain must be verifi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cation of AA cert will kill all issued assertion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cation of EE cert must stop issue of attribut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P must check validity of identity cer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ttribute Practice Statement (AP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Practice statement requir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Simple with templat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0C40-E9BA-4506-A7AF-41B5F9F06B9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P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ssign it a globally unique object identifier (OID)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is should at least contain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persistent contact details for the AAS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ocument their operational environmen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state compliance with this polic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aintain accurate VO contact information for all the AAs they host and a link to the VO AU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hould be public and made availabl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xcept for the operational environment which must be disclosed to the accrediting bod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3AE9-8D36-4FA1-970C-0DDCC69CEAE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4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SP nam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registered name is needed to ensure that different accreditation bodies do not accredit different AASPs with the same name inside the realm of one CA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ASP accrediting body should act as registrar for repository of AASP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:&lt;reasonable representation of name of aasp &gt; - &lt;arbitrary non-null string identify the server or VO&gt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et by CA or requested by AAS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E.g. “AA:cern-wlcgvoms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AE55-D8AD-452F-B08E-149D1877590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Other n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Have discussed with Steve Trayle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He runs the VOMS servers at CER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He is keen to work with 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ogether with Steve Timm at F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nd other VOMS operators(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Will include comments from them on the profile docu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5503-3C24-4E8C-81DE-25DCB558C8F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09-01-27T07:37:06Z</dcterms:modified>
  <cp:revision>71</cp:revision>
  <dc:subject/>
  <dc:title>Grid Security</dc:title>
</cp:coreProperties>
</file>