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E3E5-320E-4A33-9695-C92450A7E19B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CA7FB-CF3C-4B2C-81CE-BC678C5E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9ABA3-4814-4DF4-9583-E415D69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C8BCC-607D-4495-8FF0-2356AC2D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4DC6-7CCB-4CDE-9BF0-55B48028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7BD5F-EE31-4F9D-92BC-CD5CDD28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7CF3F-9B04-414C-9DFF-1CE5099E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EAA9A-FB0D-4811-9432-C9FDEF18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0219C-E06D-4016-9061-89B96EA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DAA6E-9F60-4927-A173-93195D2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847E8-121C-47A9-9A34-2E442116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89C22-175E-4863-8691-E341D040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A2EA8-AAC7-4054-9CDE-41D41F3C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GridPMA F2F, Jan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nod Rebello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vinod@ic.uff.b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94F0-4C0E-4049-A6AB-7A74E0680F1A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03BF-4DCD-40DD-ACD4-654AC7675C3C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824483@198.129.252.168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5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jpeg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hyperlink" Target="http://www.tagpma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agpma.es.net/wiki/pub/Main/SLCS2/SLCS-2.1.1.pdf" TargetMode="External"/><Relationship Id="rId2" Type="http://schemas.openxmlformats.org/officeDocument/2006/relationships/hyperlink" Target="http://tagpma.es.net/wiki/pub/Main/SLCSPro/SLCS-Review-2.1.xl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5338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5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Plenary Meeting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Vinod Reb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Impact"/>
              </a:rPr>
              <a:t>Nicosia, Cyprus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January 26 – 28, 2009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647800"/>
            <a:ext cx="3527280" cy="1287000"/>
            <a:chOff x="468360" y="2647800"/>
            <a:chExt cx="3527280" cy="1287000"/>
          </a:xfrm>
        </p:grpSpPr>
        <p:sp>
          <p:nvSpPr>
            <p:cNvPr id="97" name=""/>
            <p:cNvSpPr txBox="1"/>
            <p:nvPr/>
          </p:nvSpPr>
          <p:spPr>
            <a:xfrm>
              <a:off x="522360" y="26478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32922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CS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o undergo language update to bring it in line with other prof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hould be done by next TAGPMA F2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ui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CA Accreditati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CAR Registration Process (to be upd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How to setup an IGTF 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eginners guide to …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sign decisions/options, OpenCA configuration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tributions welcome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(IGTF) CA CP/CPS template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inimum Requirements and Best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version in Portugu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anslation to include Classic and Grid Cert Prof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Ready to start merging work with Jen's effort 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CP/CPS doc based up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0755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53 - Recommended Security Controls for Federal Information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100 – Information Security Handbook: A Guide for Manag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SO/IEC 27002 - Code of practice for information security manag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50 – Building an Information Technology Security Awareness and Training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61 - Computer Security Incident Handling Gui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uilding an Incident Response Program To Suit Your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www.sans.org/reading_room/whitepapers/incident/627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GridCanada 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0755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fficially member of the EUGrid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to hand over/back management and operations of the Canadian Grid CA to NR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ansition to take place over the next few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then plan to update/upgrade software, policy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F2F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th TAGPMA F2F to be held at PSC or Dartmouth College, U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ek of April 27th,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ssibly preceded with one day workshop on Identity Federa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on Wednesday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February 4th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ESNet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824483@198.129.252.168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or GDS 0011349824483 or phone 1-510-883-7860 82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GTF World M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 wanted to have a graphical map like DavidG´s for the TAGP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nsidering the whole world seemed just as much work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st TAGPMA F2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8th TAGPMA F2F in La Plata City, Argentina November 6-8, 2008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indico.rnp.br/conferenceDisplay.py?confId=45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18 attendees (2 from EUGridPMA) + 3 remotely + 1 (Jens) by proxy </a:t>
            </a:r>
            <a:r>
              <a:rPr b="0" lang="en-GB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ceded by UNLP Grid Open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cluding talk from Argentinean Science Minist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183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ANARIE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OEGrids (ESNet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SENAMHI – Pe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LA – Venezuel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The image “http://www.lib.utexas.edu/maps/americas/americas_pol96.jpg” cannot be displayed, because it contains errors."/>
          <p:cNvPicPr/>
          <p:nvPr/>
        </p:nvPicPr>
        <p:blipFill>
          <a:blip r:embed="rId23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2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7(+2) IGTF Approved C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6 Classic, 2 SLCS, 1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enezuela, NERSC - n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3 CAs pe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1 Classic, 1 SLCS, 1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NAL: CP/CPS approved, pending HSM install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lus 3 more in the 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6 Relying Pa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lombia expected to join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The image “http://www.lib.utexas.edu/maps/americas/americas_pol9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lection held in July of 2008 – 1 year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usted Introducer (nomin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dministrativ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no longer hosting TAGPMA inf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net offered to stand in but undergoing services overhaul, i.e. some problems required ironing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-general, IGTF mailing lists are at ES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o host document history, tutorials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eb 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tagpma.org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ublic face of TAGPMA, more static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oved to PSC and extensive overhaul is plan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lso plan to mirror the Nagios CA monitoring and IGTF CA distribution, not necessarily at PS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-private mailing list hosted out of P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cident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ne of the Accredited CAs were affected by the Debian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OpenSSL vulnerability (CVE-2008-0166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there was significant fallo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atchy communications and delayed responses due in part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 manager inexperience/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orly organized communic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eaned up existing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tup alternative dedicated mailing list with out-of-band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ure private directory of membership with alternative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Profile (Version 2.1.1, 15/01/2009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RL requi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cludes comments from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inor changes from previously approved ver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n the wiki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agpma.es.net/wiki/pub/Main/SLCS2/SLCS-2.1.1.p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Evaluation Spreadsheet [Thanks to Reimer and Shreyas] available on the TAGPMA wiki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agpma.es.net/wiki/pub/Main/SLCSPro/SLCS-Review-2.1.xl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assic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assic Profile (Version 4.2, 8/10/200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proved by the TAGPMA at UNLP F2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ave some minor textual clar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inner conversation perha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Updated Evaluation Spreadshee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anks to Reim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 will makes some minor e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ll add an updated operational review spreadshe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Vinod Rebello</cp:lastModifiedBy>
  <dcterms:modified xsi:type="dcterms:W3CDTF">2009-01-26T07:34:31Z</dcterms:modified>
  <cp:revision>84</cp:revision>
  <dc:subject>EUGridPMA Nicosia 2009</dc:subject>
  <dc:title>TAGPMA Updates</dc:title>
</cp:coreProperties>
</file>