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8E59-A962-4E04-BACD-C96C7B52F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90360" y="3966480"/>
            <a:ext cx="8420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CA87-2EAD-44FD-B05F-C9E2E2A6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049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90360" y="396648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04960" y="396648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1C82-515F-4220-9C8C-7C6B9A2EB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37600" y="159984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684480" y="159984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90360" y="396648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37600" y="396648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684480" y="396648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7416-0B1C-4D14-B130-C8FF884B5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45AFF-C4A4-4403-98FA-CDFF318C9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1EFB2-F7AD-4813-84F8-564B9596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C277-5708-4D93-BBA7-B8FE1C6E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108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04960" y="1599840"/>
            <a:ext cx="4108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36FF8-8F49-4BBD-AEE2-C777C0B1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4DEE7-F39A-4D58-8157-BA0A9B6D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90360" y="27756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64112-8290-40F8-A65C-D3CBB893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04960" y="1599840"/>
            <a:ext cx="4108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90360" y="396648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5A27-8299-4B16-BB3B-77AF6C48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F05A-0D74-4C6B-B953-CB358477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108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049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04960" y="396648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C427-60B4-4729-BA15-D6EE9651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049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90360" y="3966480"/>
            <a:ext cx="8420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223A7-65A6-4468-AB63-F92CE5B8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90360" y="3966480"/>
            <a:ext cx="8420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0E3D2-9F87-43A4-A3FE-DD7CA6E2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049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90360" y="396648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304960" y="396648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BCF31-23DF-458E-A326-273B7A254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37600" y="159984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84480" y="159984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90360" y="396648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37600" y="396648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84480" y="396648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AA0A-5543-46FE-8B27-2CB9AA7E7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21E9-DD6D-4DAD-BFDA-46AB5F86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108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04960" y="1599840"/>
            <a:ext cx="4108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F07A-E952-43E8-94F4-27EBB9EA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4128-F870-41B2-A76F-269D0E09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360" y="27756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27E7-CE12-4543-97FC-E9761D25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04960" y="1599840"/>
            <a:ext cx="4108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360" y="396648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FAFE-4B52-4E43-94C6-86A4E00C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108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049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04960" y="396648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8874-9440-4F38-8C78-3F9CDB53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49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360" y="3966480"/>
            <a:ext cx="8420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7198-F471-48B7-B175-C06DDB49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410040" cy="4876920"/>
            <a:chOff x="0" y="0"/>
            <a:chExt cx="941004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6024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12560" y="1417680"/>
              <a:ext cx="8997480" cy="182520"/>
              <a:chOff x="412560" y="1417680"/>
              <a:chExt cx="899748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7428960" y="1417680"/>
                <a:ext cx="198108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412560" y="1494000"/>
                <a:ext cx="89974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90720" y="6251400"/>
            <a:ext cx="2146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D9A2-E504-44C0-85EF-06CBA5959186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631680" y="6248520"/>
            <a:ext cx="321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34652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4B4D-CEE4-4757-B10A-262F70A349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6024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>
            <a:lum contrast="-8000"/>
          </a:blip>
          <a:stretch/>
        </p:blipFill>
        <p:spPr>
          <a:xfrm>
            <a:off x="8623440" y="4680"/>
            <a:ext cx="1263600" cy="12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9492480" cy="5943600"/>
            <a:chOff x="0" y="0"/>
            <a:chExt cx="9492480" cy="59436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18982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0" y="3505320"/>
              <a:ext cx="9492480" cy="2438280"/>
              <a:chOff x="0" y="3505320"/>
              <a:chExt cx="9492480" cy="2438280"/>
            </a:xfrm>
          </p:grpSpPr>
          <p:sp>
            <p:nvSpPr>
              <p:cNvPr id="51" name=""/>
              <p:cNvSpPr/>
              <p:nvPr/>
            </p:nvSpPr>
            <p:spPr>
              <a:xfrm>
                <a:off x="1073160" y="3505320"/>
                <a:ext cx="841932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124640" y="3733920"/>
                <a:ext cx="828540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4876920"/>
                <a:ext cx="107316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687600" y="533520"/>
              <a:ext cx="8749800" cy="304560"/>
              <a:chOff x="687600" y="533520"/>
              <a:chExt cx="8749800" cy="304560"/>
            </a:xfrm>
          </p:grpSpPr>
          <p:sp>
            <p:nvSpPr>
              <p:cNvPr id="55" name=""/>
              <p:cNvSpPr/>
              <p:nvPr/>
            </p:nvSpPr>
            <p:spPr>
              <a:xfrm>
                <a:off x="6795720" y="533520"/>
                <a:ext cx="264168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87600" y="685800"/>
                <a:ext cx="87498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28760" y="1143000"/>
            <a:ext cx="7182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88560" y="625140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B6C7-BC36-477D-95ED-D572D89D246A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63348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734652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3F90-39F7-4182-A1BD-A831535CD21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6320" y="71280"/>
            <a:ext cx="1752480" cy="1641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09480" y="2514600"/>
            <a:ext cx="701640" cy="4762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ugridpma.org/agenda/fullAgenda.php?ida=a042" TargetMode="External"/><Relationship Id="rId2" Type="http://schemas.openxmlformats.org/officeDocument/2006/relationships/hyperlink" Target="http://eugridpma.org/agenda/fullAgenda.php?ida=a042" TargetMode="External"/><Relationship Id="rId3" Type="http://schemas.openxmlformats.org/officeDocument/2006/relationships/hyperlink" Target="http://eugridpma.org/agenda/fullAgenda.php?ida=a042" TargetMode="External"/><Relationship Id="rId4" Type="http://schemas.openxmlformats.org/officeDocument/2006/relationships/hyperlink" Target="http://www.ncp.edu.pk/pk-grid-ca/CA-pub.htm#cp_cps" TargetMode="External"/><Relationship Id="rId5" Type="http://schemas.openxmlformats.org/officeDocument/2006/relationships/hyperlink" Target="http://www.ncp.edu.pk/pk-grid-ca/userinstructions.htm" TargetMode="External"/><Relationship Id="rId6" Type="http://schemas.openxmlformats.org/officeDocument/2006/relationships/hyperlink" Target="http://www.ncp.edu.pk/pk-grid-ca/hostinstructions.htm" TargetMode="External"/><Relationship Id="rId7" Type="http://schemas.openxmlformats.org/officeDocument/2006/relationships/hyperlink" Target="http://www.ncp.edu.pk/pk-grid-ca/CA-pub.htm#crl" TargetMode="External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00200" y="990720"/>
            <a:ext cx="83059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  <a:ea typeface="Arial"/>
              </a:rPr>
              <a:t>PK-Grid-CA </a:t>
            </a:r>
            <a:br>
              <a:rPr sz="4800"/>
            </a:br>
            <a:r>
              <a:rPr b="1" lang="en-US" sz="4800" spc="-1" strike="noStrike">
                <a:solidFill>
                  <a:srgbClr val="000066"/>
                </a:solidFill>
                <a:latin typeface="Times New Roman"/>
                <a:ea typeface="Arial"/>
              </a:rPr>
              <a:t>Audit &amp; Status Report </a:t>
            </a:r>
            <a:br>
              <a:rPr sz="48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Arial"/>
              </a:rPr>
              <a:t>(15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  <a:ea typeface="Arial"/>
              </a:rPr>
              <a:t>th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Arial"/>
              </a:rPr>
              <a:t> EU-Grid-PMA Meeting, Nicosia)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445840" y="4053960"/>
            <a:ext cx="618012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ajjad Asgh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PK-Grid-CA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National Centre for Phys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urrent Statistic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far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3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gital certificates (in total) have been issued to various organizations and persons in Pakistan in term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7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User Certific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6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Host Certific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 of those 13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6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ot Expi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ere Revok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it gives the current active certificates number equivalent to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4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4999-6D52-4844-9C76-89B0BA247B1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40A9D8-1CBE-42F5-B560-2EE652B1ED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urrent Statistic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w root key has the CN “PK-GRID-CA”, the CN for old key was “ncp.edu.pk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w key is valid for ten years till 1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c, 201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certificate from the old root key was signed on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c, 200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 days before the expiry of root ke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CRL signed by the old key was on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v, 200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7BBD-9FCF-4AF6-9726-9D900AFAE74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29705B-B4D6-4D19-B606-094C1B61B0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irst Self-Audi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ever self-audit for PK-Grid-CA has been conducted to check compliance of CA operations with the CP-CP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udit was conducted according to the "Audit Guidelines Document" provided by the AP-Grid-P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.e., Audit Guidelines – 1.0-B5.doc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6A64-8CD9-42B6-8D8B-71FC1C88674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8D17DD-9D9F-45A5-83E3-211655675D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udit Procedures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item in the audit checklist should be scored according to the results of examin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A: G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: Recommendation (minor chan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C: Recommendation (major chan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: Advice (must chan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68686"/>
                </a:solidFill>
                <a:latin typeface="Arial"/>
              </a:rPr>
              <a:t>X: Could not evaluate (N/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 us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/CPS, Manuals for subscribers, CA repository (website), CA certificate, CRLs, EE certifi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p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A room, backup media for CA key, Offline medium, Media storage, Logs of the CA/RA Servers, Logs of the repositor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cords of operations of the CA private key, Access log to the CA roo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DA8F-3F13-466E-BB48-D5DE0F568FC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609F20-C505-42AA-9682-5E9DE5DA2F0A}" type="datetime1">
              <a:rPr lang="en-US"/>
              <a:t>07/30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udit Checklist – Deficient Aspec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 system must be located in a secure environment where access is contro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r Score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B (need more tighter access contro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cure environment must be documented and approved by the P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r Score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B (we need to write it dow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Very little details are mentioned in our CP/CP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nline CA architecture should provide for a tamper-protected log of issued certificates and signed CR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r Score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B (how to make it tamper proof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Currently this record is offlin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Available only on reque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0A7F-C1EF-4AF1-826B-526690EBE32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BB68D5-3C24-4D05-8E6D-F41D509EC310}" type="datetime1">
              <a:rPr lang="en-US"/>
              <a:t>07/30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udit Checklist – Deficient Aspec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 must request revocation ASAP, but within 1 working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r Score: </a:t>
            </a:r>
            <a:r>
              <a:rPr b="0" lang="en-US" sz="2200" spc="-1" strike="noStrike">
                <a:solidFill>
                  <a:srgbClr val="868686"/>
                </a:solidFill>
                <a:latin typeface="Arial"/>
              </a:rPr>
              <a:t>X</a:t>
            </a:r>
            <a:r>
              <a:rPr b="0" lang="en-US" sz="2100" spc="-1" strike="noStrike">
                <a:solidFill>
                  <a:srgbClr val="cccc99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have no control on EE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RL lifetime must be no more than 30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r Score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B (missed it a few times by crossing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23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day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Due to long official holidays but never crossed 30 day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Following this practice strictly for last few yea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No outdated CRLs in near pa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CA must issue a new CRL at least 7 days before ex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Score: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 (missed it several tim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Mistake of operational staff on network en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Again bad planning for long official holiday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F0B2-DCA0-467F-86F6-EF051D45A30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05CFF9-4450-4B10-A208-37A9304634E7}" type="datetime1">
              <a:rPr lang="en-US"/>
              <a:t>07/30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17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udit Checklist – Deficient Aspec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pository must be run at least on a best-effort basis, with an intended availability of 24x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r Scor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 (the downtime is not notified to PM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ew times due to international fiber cable connectivity prob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Unplanned power cut and power out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oblem on network provider s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CA should make a reasonable effort to make sure that EE realize the importance of properly protecting their private data. When using software tokens, the user must protect his/her private key with a strong pass phrase, i.e. at least 12 characters long and following current best practices in choosing high-quality pass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r Score: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 (not clearly mentioned in C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e have no control over EE for their private key password lengt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lanning to conduct a seminar for EE where we could emphasize on this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5BC4-7493-400B-B6C3-8961854CA55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41BF06-56F7-48DE-A30F-CB414BA12C3A}" type="datetime1">
              <a:rPr lang="en-US"/>
              <a:t>07/30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17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udit Checklist – Deficient Aspec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certificates bound to network entities a FQDN shall be included as a dnsName in the SubjectAlternativeN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r Score: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B (we are using emai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ificates associated with a private key residing solely on hardware token may be renewed for a period of upto 5 years (for equivalent RSA key length of 2048 bits) or 3 years (for equivalent RSA key length 1024 bi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Score: </a:t>
            </a:r>
            <a:r>
              <a:rPr b="0" lang="en-US" sz="2800" spc="-1" strike="noStrike">
                <a:solidFill>
                  <a:srgbClr val="868686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Not applic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8BB0-328C-4031-B83C-9BB2D934174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305CB3-4466-47C3-BCE7-AE1E5F575760}" type="datetime1">
              <a:rPr lang="en-US"/>
              <a:t>07/30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udit Checklist – Deficient Aspec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ed may be renewed or re-keyed for more than 5 years with a form of identity and eligibility verification, and this procedure must be described in the CP/C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r Score: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D (have to include this in CP-CP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We do identity check for every re-key from 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Do not ask for new copy of documents after the first time verification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CA must record and archive all requests for certificates, along with all the issued certificates, all the request for revocation, all the issued CRLs and the login/logout/reboot of the issuing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r Score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B (logs have to be organiz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records must be available to external auditors in the course of their work as au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r Score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B (logs have to be organiz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139D-1CA0-43CD-85FA-D334310850E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975494-88F9-4B9B-A244-B5C19E509C55}" type="datetime1">
              <a:rPr lang="en-US"/>
              <a:t>07/30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udit Checklist – Deficient Aspec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CA must perform operational audits of the CA/RA staff at least once per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ur Score: </a:t>
            </a:r>
            <a:r>
              <a:rPr b="0" lang="en-US" sz="1700" spc="-1" strike="noStrike">
                <a:solidFill>
                  <a:srgbClr val="ff0000"/>
                </a:solidFill>
                <a:latin typeface="Arial"/>
              </a:rPr>
              <a:t>D (were not doing any audits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Will be done on regular basis in the future</a:t>
            </a:r>
            <a:r>
              <a:rPr b="0" lang="en-US" sz="17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ist of CA and RA personnel should be maintained and verified at least once per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ur Score: </a:t>
            </a:r>
            <a:r>
              <a:rPr b="0" lang="en-US" sz="1700" spc="-1" strike="noStrike">
                <a:solidFill>
                  <a:srgbClr val="ff0000"/>
                </a:solidFill>
                <a:latin typeface="Arial"/>
              </a:rPr>
              <a:t>D (no list being maintained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This part has been included in our internal CA operational manual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Only maintain the list of RA Head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A shall provide their trust anchor to a trust anchor repository…anchor repos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ur Score: </a:t>
            </a:r>
            <a:r>
              <a:rPr b="0" lang="en-US" sz="1900" spc="-1" strike="noStrike">
                <a:solidFill>
                  <a:srgbClr val="0000ff"/>
                </a:solidFill>
                <a:latin typeface="Arial"/>
              </a:rPr>
              <a:t>B (working for TACAR) – </a:t>
            </a:r>
            <a:r>
              <a:rPr b="0" lang="en-US" sz="1900" spc="-1" strike="noStrike">
                <a:solidFill>
                  <a:srgbClr val="008000"/>
                </a:solidFill>
                <a:latin typeface="Arial"/>
              </a:rPr>
              <a:t>NOW DON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A must have an adequate compromise and disaster recovery procedure, and we are willing to discuss this in the P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ur Score: </a:t>
            </a:r>
            <a:r>
              <a:rPr b="0" lang="en-US" sz="1900" spc="-1" strike="noStrike">
                <a:solidFill>
                  <a:srgbClr val="0000ff"/>
                </a:solidFill>
                <a:latin typeface="Arial"/>
              </a:rPr>
              <a:t>B (have to document it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D4A5-202A-4E19-A89D-C6601B49E5D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361248-D43F-4E92-BE30-62756DCA6E5A}" type="datetime1">
              <a:rPr lang="en-US"/>
              <a:t>07/30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cheme of Present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of PK-GRID-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y of Emer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URLs regarding PK-GRID-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nt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ndance in various EU-GRID-PMA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Audit, checklist and post-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9CD1-81ED-46BD-96A6-A54F7AA2125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E7A896-7114-44D0-AAAE-EC26E3D83C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udit Checklist – Deficient Aspec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KI CA must define the role of registration authority (RA), and these RAs are responsible for the identity of all the 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r Score: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B (have to mention the role in the CP-CP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7CCD-D07A-4D25-8E90-8EC34910DD4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DFE127-6044-4049-87EF-FDE71997AF86}" type="datetime1">
              <a:rPr lang="en-US"/>
              <a:t>07/30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elf-Audit Post-Activiti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to make changes in the CP-CPS based on this au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the CP-CPS for approval to the P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to publish a report on self audit on the CA website and to the PMA me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tify measures which are not in accordance with the C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lists of CA/RA staff and update on regular ba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e more effort in CA project, by adding more people with proper training to the CA staf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7EB8-362F-4601-B1C1-62727CC8339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151D0C-A92C-48D3-B867-8C2C3459AD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uture Pla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8420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level of security in CA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ered access for CA ro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ree physical zones defined for increased access contro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reen zone, yellow zone and red zon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een and yellow zones can be used for key-signing ceremonies (RAs for PKIReliance)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d zone will contain CA offline mach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deo Surveillance System for CA 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nitoring all zones with video camer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tion recording facil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1E09-53D1-4594-8CC4-9B6D98C9736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DBDE8B-5829-46B2-9D19-0B94329BF1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uture Pla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Control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ess control on the doo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al person authentication for red z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iple verification/authentication (pin + card + thum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 devices (both sides of the door) in red zone for recording in and out time as w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are Security Module (HSM) to be purcha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pment procurement is under w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more secure safe for CA offline record in the new premi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of PKIReliance at national lev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305C-753F-4AF6-B6A6-23BACCB2A0E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C1D973-97FB-400F-8B5F-2FA9BA484B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47640" y="2971440"/>
            <a:ext cx="86486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800" spc="-1" strike="noStrike">
                <a:solidFill>
                  <a:srgbClr val="330033"/>
                </a:solidFill>
                <a:latin typeface="Times New Roman"/>
              </a:rPr>
              <a:t>QUESTIONS?</a:t>
            </a:r>
            <a:endParaRPr b="0" lang="en-US" sz="10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EC9D-B42B-4F4E-849F-3D6DF06DB17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94353D-7CA2-4A91-84C7-3ED9BBF58E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ntroduction of PK-GRID-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K-Grid-CA is managed by National Center For Physics Islamab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X.509 certificates to support the secure environment in LC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 User and Host Certificates to people and sites participating in grid computing in collaboration/partnership with NC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users are the physicists involved in LHC experi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taff is responsible to manage Grid node and the grid certification authority (PK-Grid-C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504B-EBA1-4A2A-A86C-C109DAF9BAF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C94CBB-AB3D-45FE-B6BD-F9412CD032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istory of Emergen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K-Grid-CA Certification Authority is working under European Grid Policy Management Authority (EU-GRID-PM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ffort Started in October 200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CP produced the first Certificate Policy and Certification Practice Statement (CP-CPS) document in December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iewed by several members of EU-GRID-PM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d several revisions and useful comments, feed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amp; suggestions by the PMA memb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l version was published in April 200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1633-212C-4B6F-A7D2-FEED93EA23B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B3D1C4-905A-4714-A036-14F69265E1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istory of Emergen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K-GRID-CA was officially presented in the 2nd meeting of the EU-Grid-PMA held in Brussels, BELGIUM during September 23-24, 200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. Usman Ahmad Malik from NCP presented the 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then it became formally approved and accredited by the EU-Grid-PMA as a C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K-Grid-CA had started operations since th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as the first and only Certification Authority in Pakistan at that ti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556B-3854-4913-B617-FEF4AC0D95D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04594F-CE1C-43A2-B9D0-4C87B4591362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mportant UR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etails of the historical EU-GRID-PMA meeting (Brussels) in context of PK-GRID-CA can be found at:                                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eugridpma.org/agenda/fullAgenda.php?ida</a:t>
            </a: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=a0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etails about all versions of the PK-Grid-CA CP-CPS documents produced/published by NCP can be found 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http://www.ncp.edu.pk/pk-grid-ca/CA-pub.htm#cp_c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online portal is available for requesting user/host certificates using following URLs respective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5"/>
              </a:rPr>
              <a:t>http://www.ncp.edu.pk/pk-grid-ca/userinstruction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6"/>
              </a:rPr>
              <a:t>http://www.ncp.edu.pk/pk-grid-ca/hostinstruction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atest copy of the PK-GRID-CA CRL can be fetched from: 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7"/>
              </a:rPr>
              <a:t>http://www.ncp.edu.pk/pk-grid-ca/CA-pub.htm#cr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A47E-001B-41DA-BCE0-BDBC622D46F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D2E41E-4CB6-4B0A-B4A1-95763856A5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cent Improvemen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ld root key for PK-Grid-CA expired on December 9, 2008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nce no certificate could be signed with it after December 8, 2007 as per polic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new key pair valid till December 2017, with a key length of 4096 bits has been generated and sent to the PMA, and hence distributed via the (International Grid Trust Federation) IGTF-relea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the last one year, the two root keys were valid for PK-Grid-CA. But the new certificate requests are being signed by the new root key. Old root key was being used for CRL sign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w, only the new root key is distributed and trusted on WLCG as the older one has recently expired on December 9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2008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D371-8470-4DFE-B81F-C880123E9F0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BE60B8-8464-43A7-8459-A2664C4D53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cent Improvemen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December 2007, the PK-Grid-CA team drafted the new CP-CPS (1.1.2.0) based on the structure suggested by RFC – 364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PS was approved by the NCP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which it was sent to the EU-Grid-PMA mailing list for approval which was approved by the PMA after its meeting in January 2008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AB32-682A-484A-B87D-AF6FEBF8D93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40F7F2-027F-472F-9BE6-935DA267CC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cent Improvemen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K-GRID-CA setup has been recently shifted in the new purpose campus of NC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building was designed keeping into consideration a proper place for the CA setu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fers better physical and operational secur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security oriented apparatus is in the pipeline including Closed-Circuit Cameras and HSM etc. for the CA roo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D1F4-3B37-4C02-A035-0A89E96E5CF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991078-334F-4403-BFBA-AAED267F33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5T06:13:57Z</dcterms:created>
  <dc:creator>Usman Ahmad Malik</dc:creator>
  <dc:description/>
  <dc:language>en-US</dc:language>
  <cp:lastModifiedBy>Usman A. Malik</cp:lastModifiedBy>
  <dcterms:modified xsi:type="dcterms:W3CDTF">2009-01-26T11:01:26Z</dcterms:modified>
  <cp:revision>1780</cp:revision>
  <dc:subject/>
  <dc:title>IBCAST IRS</dc:title>
</cp:coreProperties>
</file>