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81B-06E5-48BE-BC83-971AE42A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583-8A2A-4B3B-B340-E0411B72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A11-F2A4-4C6A-918E-289018A7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5DE-2220-43A2-B6F6-8D5470FD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E49-EFC2-4CF9-897F-CE49FA5E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931-587F-4EDB-A52A-556E8DA6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93C-680F-4FF0-931E-498097B2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D57-EFE1-4013-ADB7-D99C2944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8AB-2D0C-4707-AA8E-BEB0340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7F1-61B4-4FFC-B88E-694CE18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F01-EB65-4809-BAF5-AD671FC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841-2B00-4451-B442-ABE4FF39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A5539-8EE6-42F5-953F-97B0E189FD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E347E-C095-401D-8C4E-206CEF75A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le Seve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nce of three (out of four) undersea cables in the Mediterranean basin on December 19th,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retrieval of CR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81220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D5 hash collisions in X.509 certific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sk for new certificates issued using MD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GTF should not have any of thes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2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concern about MD5 weakness in gener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 certificates (and subordina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NRS subordinate using MD5 will change to SHA1 shor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xy certificates (Globus, VOMS, MyProx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obus discussed proxy certificate 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EC)DSA EE 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SSL client vuln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ly that IGTF CAs have certified (EC)DSA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8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will request CAs to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rying 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repositories of issued certific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? Certificates are publi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. Public phone number versus publish in phone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 access to RAT memb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d: Will not require this for 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Gather information to assess the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always tell CAs to modify practice in the future based on new risk/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 Checking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 Exponent &lt; 655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tokens (pkcs11-tool) tend to generate exponents 3 &amp; 5 by de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n-weak (Debian OpenSSL)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C)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issue? OpenSSL will be patc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ying parties should patch in any ca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assessment is diffic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members welco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: 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40:50Z</dcterms:created>
  <dc:creator>Jim Basney</dc:creator>
  <dc:description/>
  <dc:language>en-US</dc:language>
  <cp:lastModifiedBy>Jim Basney</cp:lastModifiedBy>
  <dcterms:modified xsi:type="dcterms:W3CDTF">2009-01-26T08:57:30Z</dcterms:modified>
  <cp:revision>4</cp:revision>
  <dc:subject/>
  <dc:title>IGTF RAT</dc:title>
</cp:coreProperties>
</file>