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BE5-4F9F-442F-96A8-F1D3E73B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7796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C3E-2C8E-4EC1-A9BE-69230B1D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022-89F8-4573-B128-F2CEA4D2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EFC-08CD-4167-8B4F-97666181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705-7E5F-49BC-AA60-E8C6A298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D4F-36E9-4A13-AD00-D65B5AB1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BA4-652E-41FB-B187-EF72A033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7D1-32A6-4D6B-9A77-642D18BB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834840"/>
            <a:ext cx="77706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EB3-722B-4BA9-9FD6-CC431472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DEE-9F57-47ED-BB61-A3D3AE4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9FA-F5EB-4672-A3B1-73FF1A69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358-B5F4-4161-ACDD-0F833FD9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56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23A235-BAF9-4265-B3A3-AE6855EFF86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4140360" y="5734080"/>
            <a:ext cx="4765680" cy="952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611280" y="5842080"/>
            <a:ext cx="27367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Jens' obligatory soap 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Can't be a PMA without a SoapBox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A random collection of Soapy thing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Nicosia, 26-28 Jan 2009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sing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2960" y="2142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have nam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ing robots for code signing doesn’t make sen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f acting on behalf of many users, meaningles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ople use host certific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sts can do everything people can d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curitif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municating systems behaviou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admi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municating user behaviou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VO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has a certificate done since it was (requested) revok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subsequently successfully revok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ork with RPs to improve operational security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ems like no-brain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does mean revealing addition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to whom, under which circ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ich areas increase impa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f. RA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OSCG et 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 Profi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rofile bas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 they diverge or converge, or neith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mensions: ~six dimens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ixing and matc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utomatic RA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re does the loa W&amp;F li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yond Authentication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o encrypt or not encryp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: already have PKI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: Certs expire; maintain CRL forever; no consistent way of locating keys (no keyservers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: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NOT RECOMMEND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yond Authent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20001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O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ther services where certificate is relev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 sign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o can have i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oes it me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 signing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 way to define righ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xcept for robots! (or probots!!)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ack to Authent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rvice certific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 we still need them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does it mean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o can have them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services can we “issue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 practices/recommend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2143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ack to Template CP/C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eating the computer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member your password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is a strong passphrase/w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specif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chec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4240" y="2143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deviations from PKI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nd those other aspects of 3647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, acceptance, suspension, modific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Manage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Key valid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 known key validation paramet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rsonnel polic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inning down those practice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ke the re-keying ques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emplate will help here, possib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will alone not be suffici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ildcard D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Not the Globus DNS wildcard!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vi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view revie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esn’t quite 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rat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iste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ensure and improve consisten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utomation is bett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Too much automation is dangerou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fficient base for common softwa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ow local flavou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ertificate management frame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andards, standards, standa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which one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inner Discussion Topic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RL cach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verance of undersea ca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ternal CRL cach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direct cli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hasing miscreants by CR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helping RPs and OCSPs et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e cases for “expired” CR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1424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more auto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umans do too many machine th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less auto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chines do human th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r once try to do it proper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s is no time for complace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ny things still not on top of other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Template Policy to the rescue™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re work…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ny things could be improved with better text, descrip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little working groups working on work needed to make work 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Housekeep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eb sites: locating repository oblig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istent interfaces for automated client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at least URLs? (.info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f. Jim’s tal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view certificat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view CP/CP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ocate support conta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vi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intaining revie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 (policies get updat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rat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Template Policy frame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not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eds an interfa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ts confusing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use” of D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are all those DNs in the lo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Job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yProxy proxies?  Proxied proxie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gent with central key or prox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hared private key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use” of credenti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4240" y="20714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Activation of private 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91440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Key token, Unencrypted (host), Encrypted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Activation of MyProxy account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Intentional use of prox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Proxy use of prox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Unintentional use of proxy or priv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Intentional misuse of proxy or priv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91440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ost key, user ke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engthen security by weakening i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reas of investig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improve secur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mpaign for enforcablier secu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ke it easier for RPs and opsec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ing MyProxy to manage credentia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ngle point of, er, someth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ngle sign-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-use of passw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single password is better (in some way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sing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eaker secu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redential autom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 act on behalf of users, e.g., port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 act independent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re these differen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47</cp:lastModifiedBy>
  <dcterms:modified xsi:type="dcterms:W3CDTF">2009-01-27T10:56:59Z</dcterms:modified>
  <cp:revision>62</cp:revision>
  <dc:subject/>
  <dc:title>PowerPoint Presentation</dc:title>
</cp:coreProperties>
</file>