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81737F7-8151-4C0F-97B4-D3ED1ED3AC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82FD3C6-7FC9-4841-855D-87235170AF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A09E93EB-7140-4ECE-9985-C467590557D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AB0507F7-EA5D-40A6-80B8-416FD422624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2D2F64FD-EB2E-49C5-9AB7-13E0B47579C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B9B5B1E2-2E58-471D-BDEE-0C19339721B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FAEF4F7E-40A5-4FB8-BF8B-27DAC7FD44D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202CEB86-2A4B-414F-AF3E-EE8A5E65B9F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4E396AF0-07CE-4F9A-BC43-900F1AD237F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0356DA18-7518-4E4C-8607-22061932440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4BE325FF-A2C4-4BC1-8F4D-DE65EB7F244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4934473F-F8F3-4CF2-89B5-B5A31C807F7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97D89295-3CED-48B1-B76B-0650FCE02EE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5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6-28, 2009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Nicosia, Cypru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4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lcome to Cypru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6" name="Picture 5" descr="C:\Users\davidg\AppData\Local\Temp\cslogo.gif"/>
          <p:cNvPicPr/>
          <p:nvPr/>
        </p:nvPicPr>
        <p:blipFill>
          <a:blip r:embed="rId1"/>
          <a:stretch/>
        </p:blipFill>
        <p:spPr>
          <a:xfrm>
            <a:off x="601560" y="1357200"/>
            <a:ext cx="4829400" cy="11210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469800" y="2881440"/>
            <a:ext cx="488484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0" y="1076040"/>
            <a:ext cx="914400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Monday 26 09:30 – 17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Welcome, agenda, minutes last meeting, note taker, introd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3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ound-table upd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from the APGridPMA (Yoshio Tanak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from the TAGPMA (Vinod Rebell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GTF Risk Assessment Team report: MD5, (EC)DSA (EE) keys, cable severance (TB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fficiently querying CAs for signing processes, issued certs, &amp;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 CAs verify the incoming requests for san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exponent &gt;=65537, known-weak keys, MD5,EC/DS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igration of Root certs and CRLs to SHA-1, and the implementation of SHA-256+ in M/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RL issues: web caching and alternate download locations (David Groe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DFN SLCS Service (Reimer Karlsen-Masu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3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4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NetherNordic integrated SLCS-MICS Service (Jan Meijer, Teun Nijss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new SWITCH PKI (Alessando Usai): review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tephen Davidson (QuoVadis): Policy and Practices in the SWITCH PKI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1155240"/>
            <a:ext cx="914400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Tuesday 27 09:30 – 17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 audit report-outs: PK-grid 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audit report-outs: GridK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on almost- and recently accredited CAs: RENAM, CALC, BY-Gr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d to the Profiles following the SLCS/MICS influ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First approve pending MICS prof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uthorization Working Group  report-out (David Kelse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3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4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audit report: NIIF (Tam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Jens’ soap boxes Ltd. (Jens Jens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ealing with certificates with different status (AA signing, life-critical MD EEC, etc)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AOPS Working Group (Christos Kanellopoulos, Yoshio Tanak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lying Part Defined Namespace constraints – WG last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 and change status of GFD.1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2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resentation of the Next Meeting (Zurich, May 20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3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1163880"/>
            <a:ext cx="91440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81bd"/>
                </a:solidFill>
                <a:latin typeface="Cambria"/>
                <a:ea typeface="Times New Roman"/>
              </a:rPr>
              <a:t>Wednesday 28 09:30 – 15: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haring Common Software? Towards a repository of references to ‘useful stuff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4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FD.125 compliance testing tools and demonstrations (David O’Callagh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1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1.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lf audit report-outs: BalticGrid CA (Hard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GP and Thawte-WoT signing party (please bring pre-filled forms and ID photocopi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2.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4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igning policy semantics: Does The Issuer Need To Be In The Allowed Subject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4.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ending issues and other bus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n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? Please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nutes from last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Christos and David OC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roun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Videoconferenc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For direct connections (not using the GDS), enter the conference number using the key pad using the far-end controls, and confirm with the "#" key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The conference will not show up in the main menu, AFAIK. </a:t>
            </a:r>
            <a:br>
              <a:rPr sz="1600"/>
            </a:b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Different numbers each day, but NO need to register equipment beforehand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l day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CU name mcu.surfnet.nl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CU IP 192.87.102.23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Mond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1 Start Mon, 26.01.2009 07:00 (UTC) Duration 10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3667316 Conf no 3667316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Tuesday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2 Start Tue, 27.01.2009 07:00 (UTC) Duration 10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8215000 Conf no 8215000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Wednesd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3 Start Wed, 28.01.2009 07:00 (UTC) Duration 09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2205160 Conf no 2205160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9-01-25T21:48:05Z</dcterms:modified>
  <cp:revision>477</cp:revision>
  <dc:subject/>
  <dc:title>European Grid Policy Management Authority</dc:title>
</cp:coreProperties>
</file>