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312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1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8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812760" y="9361440"/>
            <a:ext cx="29098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696BC-E996-4168-B330-728F97E3E6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9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9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0AC7-EB75-4554-9A72-4DFFA899B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FC53-C4FA-48D5-95EE-2C8AD9F8B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BECF-8E9F-41B3-9CD2-A9BB3D6BE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48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264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48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3F4E-216B-46AD-BDD7-3D7010704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A4BEE-493D-4501-9892-708F0832EA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9EFA-F5E0-4689-87CF-363C81800C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B85A2-ECD3-48AF-850C-F598C7D7FC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FDBF8-0869-4F90-9D14-BD5E62EF90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A95A7-3D6D-4711-9D10-91390ADB74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3280" y="6120"/>
            <a:ext cx="75549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69CDE-D1C1-4760-B7FB-50BD206A25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920C6-1FE5-4E08-8ED7-2B9BC5705B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24D7-972A-4EF7-8E2C-3FFD316F6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5EA60-A2B7-4A67-A49D-F15A14B70C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C57CD-1098-428C-92EE-9F7F0678A1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C114E-DC69-40BD-B812-986E090EA2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12BB1-52A1-4648-A487-97662E2899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48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796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264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48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796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E1B1D-451F-47CC-AF95-F6D9A5873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45A1-BB98-44ED-A744-91B35C319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1F34-13AA-407B-8AA0-EFE22E16D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7BA0-0833-4B24-9114-B59627977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3280" y="6120"/>
            <a:ext cx="75549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655E-F0D3-463B-9B5E-73DAEC25B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37B1-0BB8-430C-A69C-6415D5043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5044-A908-46FD-907A-32DB06DFB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13C0-9A08-4497-A080-F40627285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659772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763640" y="6597360"/>
            <a:ext cx="611208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5th EUGridPMA, January 28</a:t>
            </a:r>
            <a:r>
              <a:rPr b="0" lang="et-EE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2009, Nico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027640" y="6597360"/>
            <a:ext cx="3538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DF486-0034-45C2-B5B1-3D16908541C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57200"/>
            <a:ext cx="9144000" cy="519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e8f6">
                  <a:alpha val="6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53600" y="6448320"/>
            <a:ext cx="590400" cy="409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" y="2276640"/>
            <a:ext cx="9140760" cy="2736720"/>
          </a:xfrm>
          <a:prstGeom prst="rect">
            <a:avLst/>
          </a:prstGeom>
          <a:gradFill rotWithShape="0">
            <a:gsLst>
              <a:gs pos="0">
                <a:srgbClr val="064977">
                  <a:alpha val="49019"/>
                </a:srgbClr>
              </a:gs>
              <a:gs pos="50000">
                <a:srgbClr val="d5e8f6"/>
              </a:gs>
              <a:gs pos="100000">
                <a:srgbClr val="064977">
                  <a:alpha val="49019"/>
                </a:srgbClr>
              </a:gs>
            </a:gsLst>
            <a:lin ang="5400000"/>
          </a:gradFill>
          <a:ln w="9360">
            <a:solidFill>
              <a:srgbClr val="064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189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altic</a:t>
            </a:r>
            <a:r>
              <a:rPr b="0" lang="et-E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id</a:t>
            </a:r>
            <a:r>
              <a:rPr b="0" lang="et-EE" sz="3600" spc="-1" strike="noStrike">
                <a:solidFill>
                  <a:srgbClr val="ffffff"/>
                </a:solidFill>
                <a:latin typeface="Arial"/>
              </a:rPr>
              <a:t> Certification Auth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53600" y="6453360"/>
            <a:ext cx="590400" cy="40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3280" y="44280"/>
            <a:ext cx="755496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59772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763640" y="6597360"/>
            <a:ext cx="6112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ame, date and place of the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027640" y="6597360"/>
            <a:ext cx="3538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87717F-263E-4DFC-97D7-6A9E7EEACDE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63640" y="6597720"/>
            <a:ext cx="6118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15th EUGridPMA, January 28</a:t>
            </a:r>
            <a:r>
              <a:rPr b="0" i="1" lang="et-EE" sz="10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 2009, Nico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28000" y="6597720"/>
            <a:ext cx="3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9267F-261D-4A1C-A1A6-DF9B0DD150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66880"/>
            <a:ext cx="863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elf-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292640"/>
            <a:ext cx="860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i T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040" y="6072120"/>
            <a:ext cx="824040" cy="4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. Advice (must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s phrase of the encrypted private key must be kept also on an offline medium, separated from the encrypted private keys and guarded in a safe place where only the authorized personnel of the CA have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everything in one safe accessible only for the Director of E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have a separate safe for CA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L profile must be vers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now there are version 1 CRLs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EM file is availe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/CPS needs several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 archiving and auditing  procedures should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CRL 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90100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i.teder@eenet.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a.balticgrid.or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000" y="1341360"/>
            <a:ext cx="86500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Grid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tic Grid 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Grid CA gives certificates to end entities which are located in Estonia, Latvia or Lithuania and have interest in grid compu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ed: Nov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EENet, Tartu, Est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tat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i T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õnu Raitvi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i Anton (not any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3 issued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99 user, 297 host, 17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revo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5 LT, 292 LV, 275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3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9 user, 103 host, 1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uditing Guidelines for Grid 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commendation (minor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commendation (major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Advice (must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Could not evaluate (N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Recommendation (min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P/CPS should be structured as defined in RFC36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FC 2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certificate lifetime must be no longer then 2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certificate lifetime is not mentioned in CP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entity must request revocation of its certificate as soon as possible, but within one working day after detection of he/she lost or compromised the private key pertaining to the certificate or the data in the certificate are no longer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updates in CP/CPS and user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Recommendation (min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may be renewed or re-keyed for more than 5 years without a form of identity and eligibility verification, and this procedure must be described in the CP/C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/CPS updat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 Recommendation (maj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A must issue a new CRL at least 7 days before ex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notification methods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requests must only be rekeyd, not renew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igned same request a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A management software does not allow that 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A must perform operational audits of the CA/RA staff at least once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udited all 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 Recommendation (maj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 must record and archive all requests and confirm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archived cent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CP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jciech Zając</dc:creator>
  <dc:description/>
  <dc:language>en-US</dc:language>
  <cp:lastModifiedBy>Hardi Teder</cp:lastModifiedBy>
  <dcterms:modified xsi:type="dcterms:W3CDTF">2009-01-28T07:53:31Z</dcterms:modified>
  <cp:revision>23</cp:revision>
  <dc:subject/>
  <dc:title>Slajd 1</dc:title>
</cp:coreProperties>
</file>