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72E3-E480-4063-8D8F-8D9DBFC1F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AAC7-DF27-48FF-A7CB-1746795D3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CEED-A59B-48A0-9177-B94757CA9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A16E-1D78-4DAA-8C06-A5884644E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28B3-1438-4A02-86A5-452AC779A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CFAE-6B61-4176-B894-910AAFAA6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4DF4-C387-45FD-99F4-BAF1B8423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64EB-5A84-48EB-ABC7-7B9B03BF0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12CE-7EF5-43C4-9E9A-46E1AB0A3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0A61-A506-4FD3-B00C-4430F2CBB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CD58-B109-497B-8C64-74DCE1C7A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D5B-8501-4874-95CB-B17310489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011-F304-48F6-A472-79D2694EE764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Stephen’s talk for an overvi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utshell (see also my Lisbon’s 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8684-8FF8-4D62-95FB-5C6C09549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9" idx="2"/>
            <a:endCxn id="90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2"/>
            <a:endCxn id="97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8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3"/>
            <a:endCxn id="94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9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1"/>
            <a:endCxn id="102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2"/>
            <a:endCxn id="104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7F13-5311-48E8-A74B-834515726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(Big Thanks to Reimer and Jens!) 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 comment, most of the points were already met, they just needed some rewording in the CP/CPS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tokens:rewording done in the CP/CPS document; notice however that we will not support this use case for the time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HSM documentation: already audited by various International bodies; ready to disclose info on demand (see Stephen's talk)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architecture: same general comment; a separate document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D: the oid as in the grid section will change accordingly, but not the one on the main part of the CP/CPS, which is not grid specific: is it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of 12 months: is this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A84-42C6-4551-AFE5-647F317AD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2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ridPMA must be notified and must approve a change: this will be the case whenever a change in the grid par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between QV and IGTF necessary? The requirements for contracts is currently being considered by QuoVad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newed or re-keyed for more than 5 years without a form of auditable identity and eligibility verification:renewals are not supported and renewal requests are treated like a new certificate issu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an request revocation if they can sufficiently prove compromise or exposure of the associated private key: CP/CPS document change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ting authority must grant to the PMA and the Federation, by virtue of its accreditation, the right of unlimited re-distribution of its information: this is already the case; more input perhaps needed on the real m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F649-FA13-488F-AF13-60B54794F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’s major points 3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, specified by the accrediting PMA, via the method specified in the policy of the trust anchor repository: QuoVadis will be added to TACAR (already discussed with Ter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ttp or https URL of the PEM-formatted CA certificate: the QuoVadis website will show http of PEM certificate instead of being embe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on/log-out events are not recorded: Logon/logouts (both success and failure) are logged at a server level; CP/CPS updated according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software tokens, the private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rotected with a strong pass phrase, i.e., at least 12 characters long and following current best practice in choosing high-quality passwords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s pertaining to host and service certifi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tored without a pass phrase, b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dequately protected by system methods if stored without passphrase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CP/CPS explicitly allows proxies for the Grid 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F17B-071E-4CA4-A978-BAE39BCCDA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QuoVadis Accreditation Timeline</a:t>
            </a:r>
            <a:br>
              <a:rPr sz="4300"/>
            </a:b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                 Upd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oVadis CP/CPS draft version available and submitted to the reviewers (they will also receive an updated version of the spreadsheet with our feedback/comm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ccepted, the CP/CPS will be submitted for review and acceptance to the QuoVadis PMA (Februar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n acceptance, the CA will be created and tested (March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ion of QuoVadis into the IGTF distribution (by April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D8ED-3EE7-4BEE-BBC4-B3FCA1F1A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9-01-26T08:26:18Z</dcterms:modified>
  <cp:revision>58</cp:revision>
  <dc:subject/>
  <dc:title>QuoVadis accreditation with EuGridPMA</dc:title>
</cp:coreProperties>
</file>