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BA54-63B0-40A1-8E0B-633F880DD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705672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12720" y="5671080"/>
            <a:ext cx="705672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8AC8-CDA7-4F53-B605-FD2BFE20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1272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856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7856-9FD9-4DC4-9616-1C4DD53D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8800" y="50752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84520" y="50752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12720" y="56710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8800" y="56710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84520" y="56710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EA5A-364E-4457-86B5-8CEDDB7C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12720" y="5075280"/>
            <a:ext cx="70567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70567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55640" y="2347920"/>
            <a:ext cx="8569440" cy="75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272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12720" y="5075280"/>
            <a:ext cx="70567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EE6D-E10D-4906-93AD-7BFCA1B0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2856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12720" y="5671080"/>
            <a:ext cx="705672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705672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12720" y="5671080"/>
            <a:ext cx="705672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1272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2856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98800" y="50752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84520" y="50752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12720" y="56710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98800" y="56710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84520" y="56710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12720" y="5075280"/>
            <a:ext cx="70567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70567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70567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CD2C-D36B-49C8-94CE-3094A3EA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55640" y="2347920"/>
            <a:ext cx="8569440" cy="75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51272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2856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512720" y="5671080"/>
            <a:ext cx="705672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705672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512720" y="5671080"/>
            <a:ext cx="705672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51272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2856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98800" y="50752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84520" y="50752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512720" y="56710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98800" y="56710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84520" y="56710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0C60-9A94-495B-8F47-F16EAB88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8B7A-17A0-475C-BA41-9F4FB3BF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2347920"/>
            <a:ext cx="8569440" cy="75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6C51-59DF-4554-BE9B-7EB4E833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1272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23AD-D27B-4402-9624-4C0CF6D5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856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0818-0AB8-4873-A309-950F6608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12720" y="5671080"/>
            <a:ext cx="705672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B08B-0123-4FF5-9BED-5B902ED4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solidFill>
            <a:srgbClr val="2248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56000" y="303120"/>
            <a:ext cx="6121440" cy="642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kton Pro Ex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ekton Pro Ex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950760" y="1100160"/>
            <a:ext cx="4392360" cy="436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1890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692360"/>
            <a:ext cx="10080720" cy="5867280"/>
          </a:xfrm>
          <a:prstGeom prst="rect">
            <a:avLst/>
          </a:prstGeom>
          <a:solidFill>
            <a:srgbClr val="2248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00360" y="395280"/>
            <a:ext cx="7920000" cy="1440000"/>
          </a:xfrm>
          <a:prstGeom prst="roundRect">
            <a:avLst>
              <a:gd name="adj" fmla="val 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50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850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850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979280" y="180720"/>
            <a:ext cx="77389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22486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2486c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18560" y="6948360"/>
            <a:ext cx="1442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88360" y="6948360"/>
            <a:ext cx="1873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4F7B794-723B-457A-BE61-45253B3CCA42}" type="slidenum">
              <a:rPr b="0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4720" y="6885000"/>
            <a:ext cx="2351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anuary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44840" y="6885000"/>
            <a:ext cx="319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15th EuGridP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692360"/>
            <a:ext cx="10080720" cy="5867280"/>
          </a:xfrm>
          <a:prstGeom prst="rect">
            <a:avLst/>
          </a:prstGeom>
          <a:solidFill>
            <a:srgbClr val="2248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00360" y="395280"/>
            <a:ext cx="7920000" cy="1440000"/>
          </a:xfrm>
          <a:prstGeom prst="roundRect">
            <a:avLst>
              <a:gd name="adj" fmla="val 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7480" cy="1925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1890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ekton Pro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  <a:p>
            <a:pPr lvl="1" marL="216000" indent="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431640" algn="ctr">
              <a:lnSpc>
                <a:spcPct val="95000"/>
              </a:lnSpc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647640"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863640"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8636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8636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GRID-FR self audi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512720" y="5500800"/>
            <a:ext cx="705672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0" algn="ctr">
              <a:lnSpc>
                <a:spcPct val="75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ekton Pro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Tekton Pro"/>
              </a:rPr>
              <a:t>A. de Bignicourt</a:t>
            </a:r>
            <a:endParaRPr b="1" lang="en-US" sz="2000" spc="-1" strike="noStrike">
              <a:solidFill>
                <a:srgbClr val="ffffff"/>
              </a:solidFill>
              <a:latin typeface="Tekton Pro"/>
            </a:endParaRPr>
          </a:p>
          <a:p>
            <a:pPr marL="609480" indent="0" algn="ctr">
              <a:lnSpc>
                <a:spcPct val="75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2000" spc="-1" strike="noStrike">
              <a:solidFill>
                <a:srgbClr val="ffffff"/>
              </a:solidFill>
              <a:latin typeface="Tekton Pro"/>
            </a:endParaRPr>
          </a:p>
          <a:p>
            <a:pPr marL="609480" indent="0" algn="ctr">
              <a:lnSpc>
                <a:spcPct val="75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ekton Pro"/>
              </a:rPr>
              <a:t>(UREC / CNRS)</a:t>
            </a:r>
            <a:endParaRPr b="1" lang="en-US" sz="20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79280" y="179280"/>
            <a:ext cx="77389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22486c"/>
                </a:solidFill>
                <a:latin typeface="Arial"/>
              </a:rPr>
              <a:t>Guideline</a:t>
            </a:r>
            <a:endParaRPr b="1" lang="en-US" sz="4400" spc="-1" strike="noStrike">
              <a:solidFill>
                <a:srgbClr val="22486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50"/>
              </a:spcAft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GRID-FR 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Selfaudit : resul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CNRS’ PK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79280" y="179280"/>
            <a:ext cx="77389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22486c"/>
                </a:solidFill>
                <a:latin typeface="Arial"/>
              </a:rPr>
              <a:t>GRID-FR CA</a:t>
            </a:r>
            <a:endParaRPr b="1" lang="en-US" sz="4400" spc="-1" strike="noStrike">
              <a:solidFill>
                <a:srgbClr val="22486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ID-FR CA: classic 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2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sue certificates for institutes participating in GRID projects in which CNRS is involved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215640">
              <a:lnSpc>
                <a:spcPct val="83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GEE, LCG, DEISA , Grid 5000, ILDG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-Sciences, Integrative Biology, 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sue user, server and service certificates to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4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nch public institutes &amp; private institu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5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eign public &amp; private institutes, no HEP, and who do not have CA (catch-all) : France + 10 countr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179280"/>
            <a:ext cx="77389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22486c"/>
                </a:solidFill>
                <a:latin typeface="Arial"/>
              </a:rPr>
              <a:t>GRID-FR CA</a:t>
            </a:r>
            <a:endParaRPr b="1" lang="en-US" sz="4400" spc="-1" strike="noStrike">
              <a:solidFill>
                <a:srgbClr val="22486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227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609480">
              <a:lnSpc>
                <a:spcPct val="93000"/>
              </a:lnSpc>
              <a:spcAft>
                <a:spcPts val="850"/>
              </a:spcAft>
              <a:buSzPct val="102872"/>
              <a:buBlip>
                <a:blip r:embed="rId1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ructure of the CNRS’ PK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121360" y="3117960"/>
            <a:ext cx="422748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747720" y="1676520"/>
          <a:ext cx="8912160" cy="51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1676520"/>
                    <a:ext cx="8912160" cy="51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41440" y="180720"/>
            <a:ext cx="77392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22486c"/>
                </a:solidFill>
                <a:latin typeface="Arial"/>
              </a:rPr>
              <a:t>Statistics</a:t>
            </a:r>
            <a:endParaRPr b="1" lang="en-US" sz="4400" spc="-1" strike="noStrike">
              <a:solidFill>
                <a:srgbClr val="22486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179280"/>
            <a:ext cx="77389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22486c"/>
                </a:solidFill>
                <a:latin typeface="Arial"/>
              </a:rPr>
              <a:t>Self audit : Results</a:t>
            </a:r>
            <a:endParaRPr b="1" lang="en-US" sz="4400" spc="-1" strike="noStrike">
              <a:solidFill>
                <a:srgbClr val="22486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227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ositive point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sha1 (for GRID-FR CA and EE certificat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Negative point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NRS and CNRS-Projets: md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P / CPS: NOT OK for uppon C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A certificates : CRL distribution 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850"/>
              </a:spcAft>
              <a:buSzPct val="102884"/>
              <a:buBlip>
                <a:blip r:embed="rId7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 CA &amp; expir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0160" indent="-457200">
              <a:lnSpc>
                <a:spcPct val="93000"/>
              </a:lnSpc>
              <a:spcAft>
                <a:spcPts val="850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DR282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0160" indent="-457200">
              <a:lnSpc>
                <a:spcPct val="93000"/>
              </a:lnSpc>
              <a:spcAft>
                <a:spcPts val="850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0160" indent="-457200">
              <a:lnSpc>
                <a:spcPct val="93000"/>
              </a:lnSpc>
              <a:spcAft>
                <a:spcPts val="850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RID-F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8"/>
          <a:stretch/>
        </p:blipFill>
        <p:spPr>
          <a:xfrm>
            <a:off x="5121360" y="3117960"/>
            <a:ext cx="4227480" cy="2728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472000" y="2411280"/>
            <a:ext cx="3818160" cy="603720"/>
          </a:xfrm>
          <a:prstGeom prst="rect">
            <a:avLst/>
          </a:prstGeom>
          <a:noFill/>
          <a:ln w="28440">
            <a:solidFill>
              <a:srgbClr val="60c4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ignature Algorithm: md5WithRSAEncry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345080" y="3203640"/>
            <a:ext cx="863640" cy="14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09080" y="3132000"/>
            <a:ext cx="0" cy="10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79280" y="179280"/>
            <a:ext cx="77389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22486c"/>
                </a:solidFill>
                <a:latin typeface="Arial"/>
              </a:rPr>
              <a:t>CNRS’ PKI</a:t>
            </a:r>
            <a:endParaRPr b="1" lang="en-US" sz="4400" spc="-1" strike="noStrike">
              <a:solidFill>
                <a:srgbClr val="22486c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63680" y="2101680"/>
            <a:ext cx="784368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179280"/>
            <a:ext cx="77389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22486c"/>
                </a:solidFill>
                <a:latin typeface="Arial"/>
              </a:rPr>
              <a:t>CNRS’ PKI</a:t>
            </a:r>
            <a:endParaRPr b="1" lang="en-US" sz="4400" spc="-1" strike="noStrike">
              <a:solidFill>
                <a:srgbClr val="22486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DN and the way EE certificates are issued are the sa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Next steps for the future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3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P/CPS (according RFC 3647) internal revewing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4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obot certificates (3 « commands »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5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nfigure cache CR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6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lanning to move CA machines (from Toulouse to Ly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7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ntegrate HSM (FIPS 140-2 lvl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12720" y="5075280"/>
            <a:ext cx="70567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e Gross</dc:creator>
  <dc:description/>
  <dc:language>en-US</dc:language>
  <cp:lastModifiedBy>Alice</cp:lastModifiedBy>
  <dcterms:modified xsi:type="dcterms:W3CDTF">2009-01-27T07:07:20Z</dcterms:modified>
  <cp:revision>42</cp:revision>
  <dc:subject/>
  <dc:title>1989 -&gt; 1993</dc:title>
</cp:coreProperties>
</file>