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5AB-E0B3-4A57-A855-CDDF9675502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E0D-9F45-4E1F-8F04-70532FF2F5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98072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D5CB-A943-4D38-82AE-28BC25C9A0F2}" type="slidenum">
              <a:rPr b="0" lang="ja-JP" sz="11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6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AOPs WG Telec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263000" cy="197640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27 (Tue)  16:30 – 17:25 (GMT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Cyp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located with EUGridPM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s: Christos Kanellopoulos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shio Tan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フッター プレースホルダ 3"/>
          <p:cNvSpPr/>
          <p:nvPr/>
        </p:nvSpPr>
        <p:spPr>
          <a:xfrm>
            <a:off x="198108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851B-9A38-4DC1-BD98-B6EB82B1BB7D}" type="slidenum">
              <a:rPr b="0" lang="ja-JP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ying Party Defined Namespace Constraints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st C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s on GFD.125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ting Guidelines Document (Yosh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nda of the CAOPs/IGTF Workshop at OGF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22:23Z</dcterms:created>
  <dc:creator/>
  <dc:description/>
  <dc:language>en-US</dc:language>
  <cp:lastModifiedBy>Yoshio Tanaka</cp:lastModifiedBy>
  <cp:lastPrinted>2006-08-17T17:55:00Z</cp:lastPrinted>
  <dcterms:modified xsi:type="dcterms:W3CDTF">2009-01-27T10:17:33Z</dcterms:modified>
  <cp:revision>62</cp:revision>
  <dc:subject/>
  <dc:title>OGF slide presentation template</dc:title>
</cp:coreProperties>
</file>