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92E-DC7A-404F-BC2C-8E069482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856-9AC3-4783-A1E5-E9846BD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1F1-B7E8-4BA7-B4E0-ACE5222E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D54-2678-41D2-A2FC-D10E7CAA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08B-C911-434B-9738-1404F1E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00E-4F6E-4A98-BC61-14BD3492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69B-954F-426A-BB88-D3B7451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A10-9F31-41B5-995B-1F67AA9D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BA1-679D-4EDE-B852-CB20303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DE6-8FC2-4823-8756-FDFB3CA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56A-ADB6-4465-9A27-9ECCE1C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A0E-1E58-4344-99FE-AB7BEFF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E656-4E82-49A0-BDCF-25E10420B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odle.com/r5cnvskcftf534nz" TargetMode="External"/><Relationship Id="rId2" Type="http://schemas.openxmlformats.org/officeDocument/2006/relationships/hyperlink" Target="http://doodle.com/r?url=http%3A%2F%2Fwww.doegrids.org%2FDocs%2FDOEGrids-3.1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4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802F-5F34-44C0-B7F0-6A7DA97AD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DOEGrids.jpg"/>
          <p:cNvPicPr/>
          <p:nvPr/>
        </p:nvPicPr>
        <p:blipFill>
          <a:blip r:embed="rId6"/>
          <a:stretch/>
        </p:blipFill>
        <p:spPr>
          <a:xfrm>
            <a:off x="6019920" y="1600200"/>
            <a:ext cx="1558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692-FCDB-4312-9DBA-F138BC8F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udit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 800-53 framework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PKI CSPP – working on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Review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Security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G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-issu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nges caused a lot of trou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from Iplanet CMS to Redhat CS using old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other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every automatically issued certificate (renewals, certain kinds of RA agent functions) since Ju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5EC-8059-4BB4-960E-F82697DD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now pass lovingly over these documents as time permi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DOEGridsInternalAudit2007Report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f work done on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Audit2007-Response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odle.com/r5cnvskcftf534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egrids.org/Docs/DOEGrids-3.1.d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1AAC-9D30-4C42-B115-CE88AF3C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backgroun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up for audit in Se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of various features Nov-Dec 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su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s: census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” style committee, focused on early version of IGTF Audi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port Amsterdam Ja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Report Au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3647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” Audi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EB5-B53B-442E-9300-227BD8B6D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Repo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matters of interest to auditors; includes significant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list – discussed in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net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lan for issues found in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uditors’ spreadsheet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4EE0-1E03-495A-81E8-222B5206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al with ID verificatio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As to maintain identificat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PS format to RFC 36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offering a MICS-typ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/revamp DOEGrids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D &amp; authentication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CDE6-F89C-48E0-8C00-8A75A299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into 2 class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opics with obvious seriousness, where either the documentation was missing, or the CA operations didn’t conform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ssentially minor documentation error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0A9-F109-4930-AC51-5A5DDD67C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Audit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Verification (initial) was resolved at Amsterdam -&gt; resulted in TTP 1S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re-verification remains an ope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record retention – unde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 -&gt; see the “CA cloning”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CPS to RFC 3647– done – v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PS according to Audit Log – done v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Grids PMA re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remains a futur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C95-6ACF-4D2A-8ACF-1094B2E00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implemented at Apr 2008 TAGPMA at NERS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ESnet RA &amp; Philips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of v 2.10 -&gt; RFC 3647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DOEGrids Audit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B7C6-D482-400D-BE0F-FA7560CA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hru DOEGrids PMA approv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ESne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reflects the reality of how we must operate the CA &amp; its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troversial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serve the right to make chang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the right to cause a certificate to be revoked (or other CA operatio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&amp; confidentiality (N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447-4F7A-43D0-828F-32C4321F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issues become the next work program after DOEGrids CPS 3.1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re-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ifficult communit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s to support this are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currently studying the demographics &amp; plan to have a program for re-verifying ancient subscribers in place by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 responsibilities &amp;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P/GFD 125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gradual adoption – another community relations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identified as a custom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PS restru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RA Disclosure appendices, put in DOEGrids PM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ynamic content 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– linking with NIST 800-53 – based security and practic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various anachronisms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4:49:47Z</dcterms:created>
  <dc:creator>michael helm</dc:creator>
  <dc:description/>
  <dc:language>en-US</dc:language>
  <cp:lastModifiedBy>helm</cp:lastModifiedBy>
  <dcterms:modified xsi:type="dcterms:W3CDTF">2009-05-12T09:14:40Z</dcterms:modified>
  <cp:revision>26</cp:revision>
  <dc:subject/>
  <dc:title>DOEGrids Audit Report</dc:title>
</cp:coreProperties>
</file>