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AD07-8187-4CDD-86C6-873838C95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37693E1A-9249-43F7-9DCF-D51926F49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EDF-A43A-4B1F-88FF-98234F7BC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01EF843-059D-4236-AE8E-DE9DB3585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5FB-342D-4469-85E0-162B37611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141-DCEE-4605-8399-5A39EBEE3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CB63743-BCE3-43BD-8781-141D2B072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3299-F5B7-46BA-8F91-16E698079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124-A6A4-4F78-8E50-C179FE86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408-D135-4E5F-9CA5-08769F8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260-BE13-4FE0-ACEE-90DFEF7C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77A-DE8C-47D2-993A-EC5B5413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263-0544-4A86-B3DB-ED0D995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352-0DFC-4F80-8B72-C5CD25B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E77-BBA3-4F07-842E-CFE345ED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04A-9060-4861-B74C-E48AD906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A6C-0B33-4E45-8DA9-E7025460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714-8932-490F-85B3-581C623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977-B2A0-4AEE-87AF-0C280C3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79E-6948-438C-8EA2-AC9CBB72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A30-12D3-4E73-ADB6-D5AB9DF07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thena-scs.com/product.asp?pid=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hyperlink" Target="http://www.athena-scs.com/product.asp?pid=1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thena-scs.com/product.asp?pid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wmf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hyperlink" Target="http://www.athena-scs.com/product.asp?pid=1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net CA Cl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4120" y="2437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hivakaran Murugananth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DOEGrids.jpg"/>
          <p:cNvPicPr/>
          <p:nvPr/>
        </p:nvPicPr>
        <p:blipFill>
          <a:blip r:embed="rId6"/>
          <a:stretch/>
        </p:blipFill>
        <p:spPr>
          <a:xfrm>
            <a:off x="5410080" y="160020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a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3" descr=""/>
          <p:cNvPicPr/>
          <p:nvPr/>
        </p:nvPicPr>
        <p:blipFill>
          <a:blip r:embed="rId9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19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0FD5-1B6F-4917-9097-3A2CE766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2 - Replication of Ke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46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81080" y="5035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40"/>
          <p:cNvSpPr/>
          <p:nvPr/>
        </p:nvSpPr>
        <p:spPr>
          <a:xfrm>
            <a:off x="7162920" y="310356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44"/>
          <p:cNvSpPr/>
          <p:nvPr/>
        </p:nvSpPr>
        <p:spPr>
          <a:xfrm flipH="1">
            <a:off x="6786720" y="2057400"/>
            <a:ext cx="98568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4405320" y="587520"/>
            <a:ext cx="4541760" cy="218412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rc 51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500-0014-47A5-9B85-842D9A23E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ge 3 - Replication of CA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8720" y="5086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Line 44"/>
          <p:cNvSpPr/>
          <p:nvPr/>
        </p:nvSpPr>
        <p:spPr>
          <a:xfrm flipH="1">
            <a:off x="7508880" y="2057400"/>
            <a:ext cx="263520" cy="11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18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0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29F-0676-4B13-AE13-96441109C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get Stage - Geographic disp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750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56480" y="46371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71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2AB-8AFD-4E66-8D9A-A5A758EA7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Cloud"/>
          <p:cNvSpPr/>
          <p:nvPr/>
        </p:nvSpPr>
        <p:spPr>
          <a:xfrm>
            <a:off x="4346640" y="2476440"/>
            <a:ext cx="725400" cy="773280"/>
          </a:xfrm>
          <a:custGeom>
            <a:avLst/>
            <a:gdLst>
              <a:gd name="textAreaLeft" fmla="*/ 99720 w 725400"/>
              <a:gd name="textAreaRight" fmla="*/ 573840 w 7254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3503520" y="2476440"/>
            <a:ext cx="706680" cy="773280"/>
          </a:xfrm>
          <a:custGeom>
            <a:avLst/>
            <a:gdLst>
              <a:gd name="textAreaLeft" fmla="*/ 97200 w 706680"/>
              <a:gd name="textAreaRight" fmla="*/ 559080 w 70668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loud"/>
          <p:cNvSpPr/>
          <p:nvPr/>
        </p:nvSpPr>
        <p:spPr>
          <a:xfrm>
            <a:off x="5097600" y="2476440"/>
            <a:ext cx="846000" cy="773280"/>
          </a:xfrm>
          <a:custGeom>
            <a:avLst/>
            <a:gdLst>
              <a:gd name="textAreaLeft" fmla="*/ 116640 w 846000"/>
              <a:gd name="textAreaRight" fmla="*/ 669240 w 8460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Cloud"/>
          <p:cNvSpPr/>
          <p:nvPr/>
        </p:nvSpPr>
        <p:spPr>
          <a:xfrm>
            <a:off x="5816520" y="4414680"/>
            <a:ext cx="2824200" cy="1549440"/>
          </a:xfrm>
          <a:custGeom>
            <a:avLst/>
            <a:gdLst>
              <a:gd name="textAreaLeft" fmla="*/ 389160 w 2824200"/>
              <a:gd name="textAreaRight" fmla="*/ 2234160 w 2824200"/>
              <a:gd name="textAreaTop" fmla="*/ 234000 h 1549440"/>
              <a:gd name="textAreaBottom" fmla="*/ 1243800 h 1549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Cloud"/>
          <p:cNvSpPr/>
          <p:nvPr/>
        </p:nvSpPr>
        <p:spPr>
          <a:xfrm>
            <a:off x="425520" y="4430880"/>
            <a:ext cx="2763720" cy="1304640"/>
          </a:xfrm>
          <a:custGeom>
            <a:avLst/>
            <a:gdLst>
              <a:gd name="textAreaLeft" fmla="*/ 380880 w 2763720"/>
              <a:gd name="textAreaRight" fmla="*/ 2186280 w 2763720"/>
              <a:gd name="textAreaTop" fmla="*/ 196920 h 1304640"/>
              <a:gd name="textAreaBottom" fmla="*/ 1047240 h 1304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Cloud"/>
          <p:cNvSpPr/>
          <p:nvPr/>
        </p:nvSpPr>
        <p:spPr>
          <a:xfrm>
            <a:off x="4540320" y="630360"/>
            <a:ext cx="4167000" cy="1766880"/>
          </a:xfrm>
          <a:custGeom>
            <a:avLst/>
            <a:gdLst>
              <a:gd name="textAreaLeft" fmla="*/ 574200 w 4167000"/>
              <a:gd name="textAreaRight" fmla="*/ 3296520 w 416700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Cloud"/>
          <p:cNvSpPr/>
          <p:nvPr/>
        </p:nvSpPr>
        <p:spPr>
          <a:xfrm>
            <a:off x="177840" y="812880"/>
            <a:ext cx="4052880" cy="1766880"/>
          </a:xfrm>
          <a:custGeom>
            <a:avLst/>
            <a:gdLst>
              <a:gd name="textAreaLeft" fmla="*/ 558360 w 4052880"/>
              <a:gd name="textAreaRight" fmla="*/ 3206160 w 405288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Cloud"/>
          <p:cNvSpPr/>
          <p:nvPr/>
        </p:nvSpPr>
        <p:spPr>
          <a:xfrm>
            <a:off x="5504040" y="312588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loud"/>
          <p:cNvSpPr/>
          <p:nvPr/>
        </p:nvSpPr>
        <p:spPr>
          <a:xfrm>
            <a:off x="174600" y="3238560"/>
            <a:ext cx="3529080" cy="118260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78560 h 1182600"/>
              <a:gd name="textAreaBottom" fmla="*/ 949320 h 1182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Cloud"/>
          <p:cNvSpPr/>
          <p:nvPr/>
        </p:nvSpPr>
        <p:spPr>
          <a:xfrm>
            <a:off x="2616120" y="2467080"/>
            <a:ext cx="846360" cy="772920"/>
          </a:xfrm>
          <a:custGeom>
            <a:avLst/>
            <a:gdLst>
              <a:gd name="textAreaLeft" fmla="*/ 116640 w 846360"/>
              <a:gd name="textAreaRight" fmla="*/ 669600 w 846360"/>
              <a:gd name="textAreaTop" fmla="*/ 116640 h 772920"/>
              <a:gd name="textAreaBottom" fmla="*/ 620640 h 772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N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813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427880" y="51307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834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1" descr=""/>
          <p:cNvPicPr/>
          <p:nvPr/>
        </p:nvPicPr>
        <p:blipFill>
          <a:blip r:embed="rId10"/>
          <a:stretch/>
        </p:blipFill>
        <p:spPr>
          <a:xfrm>
            <a:off x="6396120" y="448452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7" descr="MCj04352420000[1]"/>
          <p:cNvPicPr/>
          <p:nvPr/>
        </p:nvPicPr>
        <p:blipFill>
          <a:blip r:embed="rId13"/>
          <a:stretch/>
        </p:blipFill>
        <p:spPr>
          <a:xfrm>
            <a:off x="2970360" y="2536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847" name="Cloud"/>
          <p:cNvSpPr/>
          <p:nvPr/>
        </p:nvSpPr>
        <p:spPr>
          <a:xfrm>
            <a:off x="3782880" y="6018120"/>
            <a:ext cx="1003320" cy="520920"/>
          </a:xfrm>
          <a:custGeom>
            <a:avLst/>
            <a:gdLst>
              <a:gd name="textAreaLeft" fmla="*/ 138240 w 1003320"/>
              <a:gd name="textAreaRight" fmla="*/ 793800 w 1003320"/>
              <a:gd name="textAreaTop" fmla="*/ 78480 h 520920"/>
              <a:gd name="textAreaBottom" fmla="*/ 418320 h 520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58"/>
          <p:cNvSpPr/>
          <p:nvPr/>
        </p:nvSpPr>
        <p:spPr>
          <a:xfrm>
            <a:off x="3639960" y="612936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LANs &amp; A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B39-3674-4878-8828-95AEFFDA6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keys &amp; 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LAN and A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, CA machine &amp; Remote Operator are in different VL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Ls definition for each VLAN, change control on AC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ipher firmware or driver upgrade depends on the Redhat Certificate System package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ux version of nCipher driver must be compiled with kernel header files, which means the Linux OS upgrade h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Back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up per CA instance ( DOEGrids, FusionGrid &amp; ESnetSS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 not allow auto push or auto sync between client and netHSM (the effect is similar to Windows doing automatic download and inst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ly we simply must document the correct process for future re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F5B2-8784-4D87-B464-D3672B509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L Publishing and CR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 publ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e publishing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rl.doegrids.org/crl.es.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ultiple replicas – use ANYCAST to find nea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 publishing – put them in the clo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azon Cloudfro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, Asia, EU lo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works similarly as ESnet  internal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possi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rect CRLs – alternate sig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14BB-2DCB-4C10-99A8-5036B584B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Brief Digression on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outing infrastruct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vertize the same IP address in different parts of th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usually (EVER) used on sam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s route traffic topologically best dest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particular node fails, router deletes route, and traffic moves elsewhere (~60 sec lat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ety of routing protocols : typically BG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erformance and transparency than other HA – like solutions,  for certain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ast HA ; round robin D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net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ning on LINUX  maps ANYCAST address to a BGP peering for the interface = port + V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config files mainta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n the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dog can be set on host: when application fails, zebra tears down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lso has UNICAST address for control/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appliances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2D8-577A-438F-A3C2-2CC10521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CAST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ical Application: root DNS name ser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tateless protocols and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suitable for certain session – based protocols, where the client or server manages the session appropriately (eg send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erving web pages (eg CR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haps we can get smarter about where and how many replicas we really n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ubtful for other CA applications – experimentation in fu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haps for CSR submission pages, or other web page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FAD-B37B-45F3-996C-CE1AA6FF0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Hat Certificate System Ver. 7.3 upgrade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dor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grades are a serious undert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ication (Clone) process needs to be tested and the limitations should be stud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CAST u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not appropriate for s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useful for serving passive web pages and CSR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the backen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A961-605E-4F10-AAF5-9C3B02375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requirement for al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Berkeley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Resource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ment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pare for addition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ABF-5493-4220-ACDD-E3BA126C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te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Operator Card and Workstation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 of authorized personal to request this 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verify the authorized personn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y require a protocol such as, Call Back on known phone numb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 trail for Remote Operator Card u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 the card – use – 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” does not necessarily mean a network operator (a combination of technician &amp; help desk support sta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ATF/PKI/Security/system administration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remote engineers (ESnet has 3 non-California-based remote lo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sted non-ESnet operations/engineering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key component of our disaster recovery strategy and will  require updating the ESnet disaster recovery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A7A-B4D7-49D5-BCD3-5D6EBE8BA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is a new development for ES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derable effort is being invested in remaking the network management / reporting / status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acement for various proprietary / commercial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has promise for CA cloning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 the status information of our systems and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additional specialized reporting about CA/PKI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of status information to wider range of personnel, including various remote ESnet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bvious ris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gios contro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under our control, ESnet fe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y (to us, &amp; ESnet as a wh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44B4-3EB7-45AB-91A2-8215DA73F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Management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AN Definition – Defin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s and VLAN configurations for local/remot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netHSM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Test CA Transition - in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netHSM usage configu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Remote Operator Card Machine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CE5-6814-4522-8A09-4CA71E577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 and clone with software tok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lover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ffects on active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stency of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n we lose a pending reques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Other effects on publishing of certificates and cr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and clone using netH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ea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e don’t currently plan to replicate the CA database separately from the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ckup copy (strategy we use to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9DE7-BFBB-4794-8563-7811856B7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RL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.org is in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% of the CRL download traffic has been mov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s.org will get  ‘ANYCAST’ make-over s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ior structure – follow ESnet website replicas at ESnet co-location/peering points around the 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ing at Cloudfro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the rest of IG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F78-AEAD-4141-9F65-D1CB49597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gios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s are building initial configurations and mod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able argument about security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expect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administration team will provide a (several) passive reporting modules for various servers or classes of ser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develop modules appropriate for our services where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imentation nee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on with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rely on other ESnet services leading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0A3-492D-4D14-A26E-134960643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s &amp; Mi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457200" y="838080"/>
          <a:ext cx="8229600" cy="37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failure between the CA machine and the netH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netHSM as primary and internal card (nShield) as backup (or vice-ver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etup at Remote Locations may not be desirable i.e not suitable for Certificate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using virtual remote location. Identify and correct remote site issues, then deploy remo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569D-3B49-46A5-B670-70DEDAE61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BAE0-D582-443C-BCCE-1BAFC9126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4"/>
          <p:cNvSpPr/>
          <p:nvPr/>
        </p:nvSpPr>
        <p:spPr>
          <a:xfrm>
            <a:off x="228600" y="990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we need to do to ensure that this is tru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essential problems that we need to addre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icate essentia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signing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database of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web portal ser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 publish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 additional operato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perse all the above geograph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, the operators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what is going on in this dispersed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implicit security conc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1B0-4AE6-487E-ADED-17B03C617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Ess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key manage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 compon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A (signing initiator, UI, databas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Hat CS cl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RL publishing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CAS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L Distribution from the Cloud – eg Amazon Cloudfro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operator &amp; geographic dispersion of opera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te operator servi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monitoring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ew development for this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C115-C1E2-48D6-90FA-D82EA1AA1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rc 47"/>
          <p:cNvSpPr/>
          <p:nvPr/>
        </p:nvSpPr>
        <p:spPr>
          <a:xfrm flipH="1" flipV="1">
            <a:off x="2898000" y="4136400"/>
            <a:ext cx="4349880" cy="888840"/>
          </a:xfrm>
          <a:custGeom>
            <a:avLst/>
            <a:gdLst>
              <a:gd name="textAreaLeft" fmla="*/ -360 w 4349880"/>
              <a:gd name="textAreaRight" fmla="*/ 4349880 w 434988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67"/>
          <p:cNvCxnSpPr/>
          <p:nvPr/>
        </p:nvCxnSpPr>
        <p:spPr>
          <a:xfrm flipH="1" flipV="1" rot="5400000">
            <a:off x="-267120" y="3084480"/>
            <a:ext cx="2326680" cy="575640"/>
          </a:xfrm>
          <a:prstGeom prst="curvedConnector5">
            <a:avLst>
              <a:gd name="adj1" fmla="val 64577"/>
              <a:gd name="adj2" fmla="val 50000"/>
              <a:gd name="adj3" fmla="val 64577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32" descr="MCj04349490000[1]"/>
          <p:cNvPicPr/>
          <p:nvPr/>
        </p:nvPicPr>
        <p:blipFill>
          <a:blip r:embed="rId1"/>
          <a:stretch/>
        </p:blipFill>
        <p:spPr>
          <a:xfrm>
            <a:off x="152280" y="4648320"/>
            <a:ext cx="127800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1" descr="Smart Card Reader - USB 2.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51451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287960" y="95076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612880" y="2389320"/>
            <a:ext cx="3287880" cy="1242720"/>
          </a:xfrm>
          <a:custGeom>
            <a:avLst/>
            <a:gdLst>
              <a:gd name="textAreaLeft" fmla="*/ 452880 w 3287880"/>
              <a:gd name="textAreaRight" fmla="*/ 2601000 w 32878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fbfbf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MCj04348450000[1]"/>
          <p:cNvPicPr/>
          <p:nvPr/>
        </p:nvPicPr>
        <p:blipFill>
          <a:blip r:embed="rId4"/>
          <a:stretch/>
        </p:blipFill>
        <p:spPr>
          <a:xfrm>
            <a:off x="1022400" y="110340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352420000[1]"/>
          <p:cNvPicPr/>
          <p:nvPr/>
        </p:nvPicPr>
        <p:blipFill>
          <a:blip r:embed="rId5"/>
          <a:stretch/>
        </p:blipFill>
        <p:spPr>
          <a:xfrm>
            <a:off x="3294000" y="1407960"/>
            <a:ext cx="63828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4348450000[1]"/>
          <p:cNvPicPr/>
          <p:nvPr/>
        </p:nvPicPr>
        <p:blipFill>
          <a:blip r:embed="rId6"/>
          <a:stretch/>
        </p:blipFill>
        <p:spPr>
          <a:xfrm>
            <a:off x="7128000" y="102708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MCj04352420000[1]"/>
          <p:cNvPicPr/>
          <p:nvPr/>
        </p:nvPicPr>
        <p:blipFill>
          <a:blip r:embed="rId7"/>
          <a:stretch/>
        </p:blipFill>
        <p:spPr>
          <a:xfrm>
            <a:off x="4713120" y="1407960"/>
            <a:ext cx="6400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457200" y="355284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>
            <a:off x="3932280" y="171288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1803240" y="1636560"/>
            <a:ext cx="14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94320" y="1712880"/>
            <a:ext cx="170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0" descr="Smart Card Reader - USB 2.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65960" y="4941720"/>
            <a:ext cx="887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MCj04349490000[1]"/>
          <p:cNvPicPr/>
          <p:nvPr/>
        </p:nvPicPr>
        <p:blipFill>
          <a:blip r:embed="rId11"/>
          <a:stretch/>
        </p:blipFill>
        <p:spPr>
          <a:xfrm>
            <a:off x="1093680" y="4684680"/>
            <a:ext cx="12765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38"/>
          <p:cNvSpPr/>
          <p:nvPr/>
        </p:nvSpPr>
        <p:spPr>
          <a:xfrm>
            <a:off x="4495680" y="99072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297560" y="297180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494320" y="5827680"/>
            <a:ext cx="18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343160" y="5834160"/>
            <a:ext cx="184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45"/>
          <p:cNvSpPr/>
          <p:nvPr/>
        </p:nvSpPr>
        <p:spPr>
          <a:xfrm flipH="1">
            <a:off x="7492680" y="4075200"/>
            <a:ext cx="60120" cy="58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1590840" y="4151160"/>
            <a:ext cx="199800" cy="52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77800" y="888840"/>
            <a:ext cx="127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6772320" y="843120"/>
            <a:ext cx="156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3" descr=""/>
          <p:cNvPicPr/>
          <p:nvPr/>
        </p:nvPicPr>
        <p:blipFill>
          <a:blip r:embed="rId12"/>
          <a:stretch/>
        </p:blipFill>
        <p:spPr>
          <a:xfrm>
            <a:off x="5494320" y="338940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Line 53"/>
          <p:cNvSpPr/>
          <p:nvPr/>
        </p:nvSpPr>
        <p:spPr>
          <a:xfrm>
            <a:off x="1803240" y="1712880"/>
            <a:ext cx="12067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9"/>
          <p:cNvSpPr/>
          <p:nvPr/>
        </p:nvSpPr>
        <p:spPr>
          <a:xfrm>
            <a:off x="471312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0"/>
          <p:cNvSpPr/>
          <p:nvPr/>
        </p:nvSpPr>
        <p:spPr>
          <a:xfrm>
            <a:off x="400356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94000" y="2779560"/>
            <a:ext cx="354240" cy="152640"/>
          </a:xfrm>
          <a:prstGeom prst="leftRightArrow">
            <a:avLst>
              <a:gd name="adj1" fmla="val 50000"/>
              <a:gd name="adj2" fmla="val 4982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4"/>
          <p:cNvSpPr/>
          <p:nvPr/>
        </p:nvSpPr>
        <p:spPr>
          <a:xfrm>
            <a:off x="308124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5"/>
          <p:cNvSpPr/>
          <p:nvPr/>
        </p:nvSpPr>
        <p:spPr>
          <a:xfrm>
            <a:off x="528156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2" descr=""/>
          <p:cNvPicPr/>
          <p:nvPr/>
        </p:nvPicPr>
        <p:blipFill>
          <a:blip r:embed="rId13"/>
          <a:stretch/>
        </p:blipFill>
        <p:spPr>
          <a:xfrm>
            <a:off x="6377040" y="4284720"/>
            <a:ext cx="1247760" cy="12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4352420000[1]"/>
          <p:cNvPicPr/>
          <p:nvPr/>
        </p:nvPicPr>
        <p:blipFill>
          <a:blip r:embed="rId14"/>
          <a:stretch/>
        </p:blipFill>
        <p:spPr>
          <a:xfrm>
            <a:off x="3675240" y="2730600"/>
            <a:ext cx="29520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52420000[1]"/>
          <p:cNvPicPr/>
          <p:nvPr/>
        </p:nvPicPr>
        <p:blipFill>
          <a:blip r:embed="rId15"/>
          <a:stretch/>
        </p:blipFill>
        <p:spPr>
          <a:xfrm>
            <a:off x="4379760" y="2760840"/>
            <a:ext cx="295560" cy="59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4352420000[1]"/>
          <p:cNvPicPr/>
          <p:nvPr/>
        </p:nvPicPr>
        <p:blipFill>
          <a:blip r:embed="rId16"/>
          <a:stretch/>
        </p:blipFill>
        <p:spPr>
          <a:xfrm>
            <a:off x="3024360" y="2624040"/>
            <a:ext cx="29664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352420000[1]"/>
          <p:cNvPicPr/>
          <p:nvPr/>
        </p:nvPicPr>
        <p:blipFill>
          <a:blip r:embed="rId17"/>
          <a:stretch/>
        </p:blipFill>
        <p:spPr>
          <a:xfrm>
            <a:off x="5092560" y="2746440"/>
            <a:ext cx="29556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Arc 47"/>
          <p:cNvSpPr/>
          <p:nvPr/>
        </p:nvSpPr>
        <p:spPr>
          <a:xfrm flipH="1" flipV="1">
            <a:off x="1571760" y="2093040"/>
            <a:ext cx="4349520" cy="1760760"/>
          </a:xfrm>
          <a:custGeom>
            <a:avLst/>
            <a:gdLst>
              <a:gd name="textAreaLeft" fmla="*/ 360 w 4349520"/>
              <a:gd name="textAreaRight" fmla="*/ 4350240 w 434952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rc 48"/>
          <p:cNvSpPr/>
          <p:nvPr/>
        </p:nvSpPr>
        <p:spPr>
          <a:xfrm flipV="1">
            <a:off x="2889360" y="2073960"/>
            <a:ext cx="4471920" cy="1688760"/>
          </a:xfrm>
          <a:custGeom>
            <a:avLst/>
            <a:gdLst>
              <a:gd name="textAreaLeft" fmla="*/ 0 w 4471920"/>
              <a:gd name="textAreaRight" fmla="*/ 4472280 w 4471920"/>
              <a:gd name="textAreaTop" fmla="*/ -360 h 1688760"/>
              <a:gd name="textAreaBottom" fmla="*/ 1688760 h 16887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48"/>
          <p:cNvSpPr/>
          <p:nvPr/>
        </p:nvSpPr>
        <p:spPr>
          <a:xfrm flipV="1">
            <a:off x="1943280" y="3952080"/>
            <a:ext cx="4456080" cy="1104840"/>
          </a:xfrm>
          <a:custGeom>
            <a:avLst/>
            <a:gdLst>
              <a:gd name="textAreaLeft" fmla="*/ 0 w 4456080"/>
              <a:gd name="textAreaRight" fmla="*/ 4456080 w 445608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857-1A07-4721-BB4F-DEA028301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urved Connector 54"/>
          <p:cNvCxnSpPr/>
          <p:nvPr/>
        </p:nvCxnSpPr>
        <p:spPr>
          <a:xfrm flipH="1" rot="16200000">
            <a:off x="1044360" y="2720520"/>
            <a:ext cx="130716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Curved Connector 56"/>
          <p:cNvCxnSpPr/>
          <p:nvPr/>
        </p:nvCxnSpPr>
        <p:spPr>
          <a:xfrm rot="5400000">
            <a:off x="6658920" y="2423880"/>
            <a:ext cx="1220040" cy="712080"/>
          </a:xfrm>
          <a:prstGeom prst="curvedConnector5">
            <a:avLst>
              <a:gd name="adj1" fmla="val 48288"/>
              <a:gd name="adj2" fmla="val 49974"/>
              <a:gd name="adj3" fmla="val 48288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Text Box 38"/>
          <p:cNvSpPr/>
          <p:nvPr/>
        </p:nvSpPr>
        <p:spPr>
          <a:xfrm>
            <a:off x="7297560" y="53352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0" descr="Smart Card Reader - USB 2.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5360" y="4522680"/>
            <a:ext cx="596880" cy="328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91080" y="164628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loud"/>
          <p:cNvSpPr/>
          <p:nvPr/>
        </p:nvSpPr>
        <p:spPr>
          <a:xfrm>
            <a:off x="4365720" y="2639880"/>
            <a:ext cx="2211120" cy="858960"/>
          </a:xfrm>
          <a:custGeom>
            <a:avLst/>
            <a:gdLst>
              <a:gd name="textAreaLeft" fmla="*/ 304560 w 2211120"/>
              <a:gd name="textAreaRight" fmla="*/ 1749240 w 2211120"/>
              <a:gd name="textAreaTop" fmla="*/ 129600 h 858960"/>
              <a:gd name="textAreaBottom" fmla="*/ 689400 h 8589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Cj04348450000[1]"/>
          <p:cNvPicPr/>
          <p:nvPr/>
        </p:nvPicPr>
        <p:blipFill>
          <a:blip r:embed="rId3"/>
          <a:stretch/>
        </p:blipFill>
        <p:spPr>
          <a:xfrm>
            <a:off x="3294000" y="175104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352420000[1]"/>
          <p:cNvPicPr/>
          <p:nvPr/>
        </p:nvPicPr>
        <p:blipFill>
          <a:blip r:embed="rId4"/>
          <a:stretch/>
        </p:blipFill>
        <p:spPr>
          <a:xfrm>
            <a:off x="4822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4348450000[1]"/>
          <p:cNvPicPr/>
          <p:nvPr/>
        </p:nvPicPr>
        <p:blipFill>
          <a:blip r:embed="rId5"/>
          <a:stretch/>
        </p:blipFill>
        <p:spPr>
          <a:xfrm>
            <a:off x="7400880" y="169848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MCj04352420000[1]"/>
          <p:cNvPicPr/>
          <p:nvPr/>
        </p:nvPicPr>
        <p:blipFill>
          <a:blip r:embed="rId6"/>
          <a:stretch/>
        </p:blipFill>
        <p:spPr>
          <a:xfrm>
            <a:off x="5776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2914560" y="3444840"/>
            <a:ext cx="1909800" cy="42084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5253120" y="217188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19600" y="211932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6302520" y="21718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0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62880" y="44053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MCj04349490000[1]"/>
          <p:cNvPicPr/>
          <p:nvPr/>
        </p:nvPicPr>
        <p:blipFill>
          <a:blip r:embed="rId10"/>
          <a:stretch/>
        </p:blipFill>
        <p:spPr>
          <a:xfrm>
            <a:off x="3341520" y="4227480"/>
            <a:ext cx="86076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8"/>
          <p:cNvSpPr/>
          <p:nvPr/>
        </p:nvSpPr>
        <p:spPr>
          <a:xfrm>
            <a:off x="7112160" y="121932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5634000" y="1749600"/>
            <a:ext cx="124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257960" y="3002040"/>
            <a:ext cx="132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6302520" y="5016600"/>
            <a:ext cx="142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3510000" y="5019840"/>
            <a:ext cx="132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3581280" y="2577960"/>
            <a:ext cx="333360" cy="73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7647120" y="3805200"/>
            <a:ext cx="41040" cy="4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676680" y="3857760"/>
            <a:ext cx="135000" cy="36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847960" y="1890720"/>
            <a:ext cx="1130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7162920" y="1571760"/>
            <a:ext cx="105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3" descr=""/>
          <p:cNvPicPr/>
          <p:nvPr/>
        </p:nvPicPr>
        <p:blipFill>
          <a:blip r:embed="rId11"/>
          <a:stretch/>
        </p:blipFill>
        <p:spPr>
          <a:xfrm>
            <a:off x="6302520" y="3332160"/>
            <a:ext cx="191124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Line 53"/>
          <p:cNvSpPr/>
          <p:nvPr/>
        </p:nvSpPr>
        <p:spPr>
          <a:xfrm>
            <a:off x="3819600" y="2171880"/>
            <a:ext cx="812880" cy="63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9"/>
          <p:cNvSpPr/>
          <p:nvPr/>
        </p:nvSpPr>
        <p:spPr>
          <a:xfrm>
            <a:off x="5776920" y="2962440"/>
            <a:ext cx="239760" cy="106200"/>
          </a:xfrm>
          <a:prstGeom prst="leftRightArrow">
            <a:avLst>
              <a:gd name="adj1" fmla="val 50000"/>
              <a:gd name="adj2" fmla="val 4494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5300640" y="2962440"/>
            <a:ext cx="238320" cy="106200"/>
          </a:xfrm>
          <a:prstGeom prst="leftRightArrow">
            <a:avLst>
              <a:gd name="adj1" fmla="val 50000"/>
              <a:gd name="adj2" fmla="val 4467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1"/>
          <p:cNvSpPr/>
          <p:nvPr/>
        </p:nvSpPr>
        <p:spPr>
          <a:xfrm>
            <a:off x="4822920" y="2909880"/>
            <a:ext cx="237960" cy="104760"/>
          </a:xfrm>
          <a:prstGeom prst="leftRightArrow">
            <a:avLst>
              <a:gd name="adj1" fmla="val 50000"/>
              <a:gd name="adj2" fmla="val 4521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280" bIns="8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4680000" y="3803760"/>
            <a:ext cx="79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159600" y="3803760"/>
            <a:ext cx="71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2" descr=""/>
          <p:cNvPicPr/>
          <p:nvPr/>
        </p:nvPicPr>
        <p:blipFill>
          <a:blip r:embed="rId12"/>
          <a:stretch/>
        </p:blipFill>
        <p:spPr>
          <a:xfrm>
            <a:off x="6896160" y="3949560"/>
            <a:ext cx="839880" cy="87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352420000[1]"/>
          <p:cNvPicPr/>
          <p:nvPr/>
        </p:nvPicPr>
        <p:blipFill>
          <a:blip r:embed="rId13"/>
          <a:stretch/>
        </p:blipFill>
        <p:spPr>
          <a:xfrm>
            <a:off x="5079960" y="287640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Cj04352420000[1]"/>
          <p:cNvPicPr/>
          <p:nvPr/>
        </p:nvPicPr>
        <p:blipFill>
          <a:blip r:embed="rId14"/>
          <a:stretch/>
        </p:blipFill>
        <p:spPr>
          <a:xfrm>
            <a:off x="5553000" y="289728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Cj04352420000[1]"/>
          <p:cNvPicPr/>
          <p:nvPr/>
        </p:nvPicPr>
        <p:blipFill>
          <a:blip r:embed="rId15"/>
          <a:stretch/>
        </p:blipFill>
        <p:spPr>
          <a:xfrm>
            <a:off x="4641840" y="2801880"/>
            <a:ext cx="198360" cy="41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52420000[1]"/>
          <p:cNvPicPr/>
          <p:nvPr/>
        </p:nvPicPr>
        <p:blipFill>
          <a:blip r:embed="rId16"/>
          <a:stretch/>
        </p:blipFill>
        <p:spPr>
          <a:xfrm>
            <a:off x="6032520" y="2887560"/>
            <a:ext cx="198360" cy="414360"/>
          </a:xfrm>
          <a:prstGeom prst="rect">
            <a:avLst/>
          </a:prstGeom>
          <a:ln w="0">
            <a:noFill/>
          </a:ln>
        </p:spPr>
      </p:pic>
      <p:sp>
        <p:nvSpPr>
          <p:cNvPr id="163" name="Arc 47"/>
          <p:cNvSpPr/>
          <p:nvPr/>
        </p:nvSpPr>
        <p:spPr>
          <a:xfrm flipH="1" flipV="1">
            <a:off x="3663360" y="2435400"/>
            <a:ext cx="2925720" cy="1217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360 h 1217520"/>
              <a:gd name="textAreaBottom" fmla="*/ 1218240 h 1217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rc 48"/>
          <p:cNvSpPr/>
          <p:nvPr/>
        </p:nvSpPr>
        <p:spPr>
          <a:xfrm flipV="1">
            <a:off x="4549680" y="2422080"/>
            <a:ext cx="3008520" cy="1168560"/>
          </a:xfrm>
          <a:custGeom>
            <a:avLst/>
            <a:gdLst>
              <a:gd name="textAreaLeft" fmla="*/ 0 w 3008520"/>
              <a:gd name="textAreaRight" fmla="*/ 3008880 w 3008520"/>
              <a:gd name="textAreaTop" fmla="*/ 360 h 1168560"/>
              <a:gd name="textAreaBottom" fmla="*/ 1169280 h 1168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rc 48"/>
          <p:cNvSpPr/>
          <p:nvPr/>
        </p:nvSpPr>
        <p:spPr>
          <a:xfrm flipV="1">
            <a:off x="3914640" y="3720240"/>
            <a:ext cx="2997360" cy="763560"/>
          </a:xfrm>
          <a:custGeom>
            <a:avLst/>
            <a:gdLst>
              <a:gd name="textAreaLeft" fmla="*/ 0 w 2997360"/>
              <a:gd name="textAreaRight" fmla="*/ 2997720 w 2997360"/>
              <a:gd name="textAreaTop" fmla="*/ -360 h 763560"/>
              <a:gd name="textAreaBottom" fmla="*/ 763560 h 763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rc 47"/>
          <p:cNvSpPr/>
          <p:nvPr/>
        </p:nvSpPr>
        <p:spPr>
          <a:xfrm flipH="1" flipV="1">
            <a:off x="4556880" y="3847320"/>
            <a:ext cx="2925720" cy="614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-360 h 614520"/>
              <a:gd name="textAreaBottom" fmla="*/ 614520 h 614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5" descr="j0299125"/>
          <p:cNvPicPr/>
          <p:nvPr/>
        </p:nvPicPr>
        <p:blipFill>
          <a:blip r:embed="rId17"/>
          <a:stretch/>
        </p:blipFill>
        <p:spPr>
          <a:xfrm>
            <a:off x="720720" y="181116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46"/>
          <p:cNvSpPr/>
          <p:nvPr/>
        </p:nvSpPr>
        <p:spPr>
          <a:xfrm>
            <a:off x="581040" y="1079640"/>
            <a:ext cx="1639800" cy="173340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1022" h="1086">
                <a:moveTo>
                  <a:pt x="2" y="296"/>
                </a:moveTo>
                <a:cubicBezTo>
                  <a:pt x="4" y="409"/>
                  <a:pt x="5" y="845"/>
                  <a:pt x="23" y="867"/>
                </a:cubicBezTo>
                <a:cubicBezTo>
                  <a:pt x="41" y="889"/>
                  <a:pt x="81" y="887"/>
                  <a:pt x="106" y="900"/>
                </a:cubicBezTo>
                <a:cubicBezTo>
                  <a:pt x="133" y="939"/>
                  <a:pt x="138" y="983"/>
                  <a:pt x="172" y="1015"/>
                </a:cubicBezTo>
                <a:cubicBezTo>
                  <a:pt x="174" y="1033"/>
                  <a:pt x="165" y="1056"/>
                  <a:pt x="177" y="1070"/>
                </a:cubicBezTo>
                <a:cubicBezTo>
                  <a:pt x="191" y="1086"/>
                  <a:pt x="253" y="1040"/>
                  <a:pt x="265" y="1032"/>
                </a:cubicBezTo>
                <a:cubicBezTo>
                  <a:pt x="276" y="1025"/>
                  <a:pt x="298" y="1010"/>
                  <a:pt x="298" y="1010"/>
                </a:cubicBezTo>
                <a:cubicBezTo>
                  <a:pt x="335" y="1022"/>
                  <a:pt x="294" y="1005"/>
                  <a:pt x="325" y="1032"/>
                </a:cubicBezTo>
                <a:cubicBezTo>
                  <a:pt x="343" y="1048"/>
                  <a:pt x="368" y="1061"/>
                  <a:pt x="391" y="1070"/>
                </a:cubicBezTo>
                <a:cubicBezTo>
                  <a:pt x="421" y="1066"/>
                  <a:pt x="451" y="1065"/>
                  <a:pt x="479" y="1053"/>
                </a:cubicBezTo>
                <a:cubicBezTo>
                  <a:pt x="499" y="1045"/>
                  <a:pt x="514" y="1033"/>
                  <a:pt x="534" y="1026"/>
                </a:cubicBezTo>
                <a:cubicBezTo>
                  <a:pt x="560" y="988"/>
                  <a:pt x="605" y="967"/>
                  <a:pt x="643" y="944"/>
                </a:cubicBezTo>
                <a:cubicBezTo>
                  <a:pt x="682" y="921"/>
                  <a:pt x="709" y="871"/>
                  <a:pt x="742" y="840"/>
                </a:cubicBezTo>
                <a:cubicBezTo>
                  <a:pt x="781" y="761"/>
                  <a:pt x="845" y="681"/>
                  <a:pt x="896" y="609"/>
                </a:cubicBezTo>
                <a:cubicBezTo>
                  <a:pt x="932" y="559"/>
                  <a:pt x="933" y="556"/>
                  <a:pt x="956" y="521"/>
                </a:cubicBezTo>
                <a:cubicBezTo>
                  <a:pt x="971" y="497"/>
                  <a:pt x="994" y="445"/>
                  <a:pt x="994" y="445"/>
                </a:cubicBezTo>
                <a:cubicBezTo>
                  <a:pt x="1019" y="332"/>
                  <a:pt x="1011" y="379"/>
                  <a:pt x="1022" y="302"/>
                </a:cubicBezTo>
                <a:cubicBezTo>
                  <a:pt x="1019" y="246"/>
                  <a:pt x="1022" y="195"/>
                  <a:pt x="1005" y="143"/>
                </a:cubicBezTo>
                <a:cubicBezTo>
                  <a:pt x="978" y="61"/>
                  <a:pt x="869" y="14"/>
                  <a:pt x="791" y="0"/>
                </a:cubicBezTo>
                <a:cubicBezTo>
                  <a:pt x="722" y="2"/>
                  <a:pt x="652" y="2"/>
                  <a:pt x="583" y="6"/>
                </a:cubicBezTo>
                <a:cubicBezTo>
                  <a:pt x="531" y="9"/>
                  <a:pt x="429" y="22"/>
                  <a:pt x="429" y="22"/>
                </a:cubicBezTo>
                <a:cubicBezTo>
                  <a:pt x="271" y="67"/>
                  <a:pt x="449" y="20"/>
                  <a:pt x="325" y="44"/>
                </a:cubicBezTo>
                <a:cubicBezTo>
                  <a:pt x="278" y="53"/>
                  <a:pt x="235" y="77"/>
                  <a:pt x="188" y="88"/>
                </a:cubicBezTo>
                <a:cubicBezTo>
                  <a:pt x="141" y="116"/>
                  <a:pt x="104" y="154"/>
                  <a:pt x="56" y="181"/>
                </a:cubicBezTo>
                <a:cubicBezTo>
                  <a:pt x="39" y="204"/>
                  <a:pt x="27" y="205"/>
                  <a:pt x="7" y="225"/>
                </a:cubicBezTo>
                <a:cubicBezTo>
                  <a:pt x="0" y="250"/>
                  <a:pt x="10" y="271"/>
                  <a:pt x="2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47"/>
          <p:cNvSpPr/>
          <p:nvPr/>
        </p:nvSpPr>
        <p:spPr>
          <a:xfrm flipV="1">
            <a:off x="1836720" y="2630160"/>
            <a:ext cx="8539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8"/>
          <p:cNvSpPr/>
          <p:nvPr/>
        </p:nvSpPr>
        <p:spPr>
          <a:xfrm flipV="1">
            <a:off x="1849320" y="2879640"/>
            <a:ext cx="9414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1846440" y="3030480"/>
            <a:ext cx="95868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1866960" y="3025800"/>
            <a:ext cx="8110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704880" y="34574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095640" y="1563840"/>
            <a:ext cx="137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493-7583-4D56-9786-97D66989F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SM Deployment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22360" y="1170000"/>
            <a:ext cx="6362640" cy="486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210960" y="612720"/>
            <a:ext cx="272124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rrent 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SM +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4179960"/>
            <a:ext cx="279072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tHSM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651720" y="743040"/>
            <a:ext cx="24922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ybe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brid HSM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87480" y="240516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CI nShield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031840" y="2562120"/>
            <a:ext cx="621000" cy="101880"/>
          </a:xfrm>
          <a:prstGeom prst="rightArrow">
            <a:avLst>
              <a:gd name="adj1" fmla="val 47824"/>
              <a:gd name="adj2" fmla="val 1231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195960" y="531180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tHSM 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5602320" y="5438880"/>
            <a:ext cx="590400" cy="171360"/>
          </a:xfrm>
          <a:prstGeom prst="leftArrow">
            <a:avLst>
              <a:gd name="adj1" fmla="val 50000"/>
              <a:gd name="adj2" fmla="val 86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6521400" y="4840200"/>
            <a:ext cx="149400" cy="471600"/>
          </a:xfrm>
          <a:prstGeom prst="upArrow">
            <a:avLst>
              <a:gd name="adj1" fmla="val 50000"/>
              <a:gd name="adj2" fmla="val 78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286760" y="3659040"/>
            <a:ext cx="1639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th(inter-module path)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6494400" y="3790800"/>
            <a:ext cx="793800" cy="157320"/>
          </a:xfrm>
          <a:prstGeom prst="leftArrow">
            <a:avLst>
              <a:gd name="adj1" fmla="val 50000"/>
              <a:gd name="adj2" fmla="val 1261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2894040" y="1187280"/>
            <a:ext cx="1568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511360" y="1187280"/>
            <a:ext cx="914400" cy="341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2538360" y="4830840"/>
            <a:ext cx="3272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3"/>
          <p:cNvSpPr/>
          <p:nvPr/>
        </p:nvSpPr>
        <p:spPr>
          <a:xfrm flipH="1">
            <a:off x="6400800" y="1774800"/>
            <a:ext cx="519120" cy="546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0CC-B8FE-42DB-9667-833AA66AD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Will DOEGrids CA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4560" y="4195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6720" y="31939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89400" y="33940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082520" y="14558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4000" y="1963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99240" y="53020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72280" y="2962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56360" y="2916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967520" y="39942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851360" y="2871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295360" y="2975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32040" y="2405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297080" y="4535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89880" y="3181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215200" y="34624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048440" y="39178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0"/>
          <p:cNvGrpSpPr/>
          <p:nvPr/>
        </p:nvGrpSpPr>
        <p:grpSpPr>
          <a:xfrm>
            <a:off x="746280" y="1336680"/>
            <a:ext cx="8397360" cy="5082840"/>
            <a:chOff x="746280" y="1336680"/>
            <a:chExt cx="8397360" cy="5082840"/>
          </a:xfrm>
        </p:grpSpPr>
        <p:sp>
          <p:nvSpPr>
            <p:cNvPr id="215" name="Freeform 21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  <a:close/>
                  <a:moveTo>
                    <a:pt x="874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  <a:close/>
                  <a:moveTo>
                    <a:pt x="320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  <a:close/>
                  <a:moveTo>
                    <a:pt x="0" y="750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  <a:close/>
                  <a:moveTo>
                    <a:pt x="852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  <a:close/>
                  <a:moveTo>
                    <a:pt x="1553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  <a:close/>
                  <a:moveTo>
                    <a:pt x="881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  <a:close/>
                  <a:moveTo>
                    <a:pt x="955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  <a:close/>
                  <a:moveTo>
                    <a:pt x="952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  <a:close/>
                  <a:moveTo>
                    <a:pt x="1432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  <a:close/>
                  <a:moveTo>
                    <a:pt x="9208" y="280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  <a:close/>
                  <a:moveTo>
                    <a:pt x="0" y="881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  <a:close/>
                  <a:moveTo>
                    <a:pt x="30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  <a:close/>
                  <a:moveTo>
                    <a:pt x="0" y="61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  <a:close/>
                  <a:moveTo>
                    <a:pt x="0" y="805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  <a:close/>
                  <a:moveTo>
                    <a:pt x="100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  <a:close/>
                  <a:moveTo>
                    <a:pt x="4159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  <a:close/>
                  <a:moveTo>
                    <a:pt x="0" y="405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  <a:close/>
                  <a:moveTo>
                    <a:pt x="17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  <a:close/>
                  <a:moveTo>
                    <a:pt x="831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5082480" y="34920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  <a:close/>
                  <a:moveTo>
                    <a:pt x="1689" y="9020"/>
                  </a:move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5080320" y="34902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  <a:close/>
                  <a:moveTo>
                    <a:pt x="0" y="2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  <a:close/>
                  <a:moveTo>
                    <a:pt x="0" y="2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  <a:close/>
                  <a:moveTo>
                    <a:pt x="936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  <a:close/>
                  <a:moveTo>
                    <a:pt x="0" y="5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  <a:close/>
                  <a:moveTo>
                    <a:pt x="2961" y="47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3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  <a:close/>
                  <a:moveTo>
                    <a:pt x="0" y="4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4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7112160" y="4390200"/>
              <a:ext cx="846000" cy="61812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5959" y="10000"/>
                  </a:moveTo>
                  <a:lnTo>
                    <a:pt x="5530" y="10000"/>
                  </a:lnTo>
                  <a:lnTo>
                    <a:pt x="5530" y="9696"/>
                  </a:lnTo>
                  <a:lnTo>
                    <a:pt x="5326" y="8848"/>
                  </a:lnTo>
                  <a:lnTo>
                    <a:pt x="5101" y="8575"/>
                  </a:lnTo>
                  <a:lnTo>
                    <a:pt x="4672" y="8272"/>
                  </a:lnTo>
                  <a:lnTo>
                    <a:pt x="4672" y="7727"/>
                  </a:lnTo>
                  <a:lnTo>
                    <a:pt x="4469" y="7424"/>
                  </a:lnTo>
                  <a:lnTo>
                    <a:pt x="4469" y="6848"/>
                  </a:lnTo>
                  <a:lnTo>
                    <a:pt x="4266" y="6848"/>
                  </a:lnTo>
                  <a:lnTo>
                    <a:pt x="4040" y="6848"/>
                  </a:lnTo>
                  <a:lnTo>
                    <a:pt x="3611" y="6272"/>
                  </a:lnTo>
                  <a:lnTo>
                    <a:pt x="3408" y="6000"/>
                  </a:lnTo>
                  <a:lnTo>
                    <a:pt x="3181" y="5726"/>
                  </a:lnTo>
                  <a:lnTo>
                    <a:pt x="2978" y="5423"/>
                  </a:lnTo>
                  <a:lnTo>
                    <a:pt x="2346" y="4575"/>
                  </a:lnTo>
                  <a:lnTo>
                    <a:pt x="1918" y="4575"/>
                  </a:lnTo>
                  <a:lnTo>
                    <a:pt x="1918" y="4303"/>
                  </a:lnTo>
                  <a:lnTo>
                    <a:pt x="1693" y="3727"/>
                  </a:lnTo>
                  <a:lnTo>
                    <a:pt x="1489" y="3423"/>
                  </a:lnTo>
                  <a:lnTo>
                    <a:pt x="1286" y="3151"/>
                  </a:lnTo>
                  <a:lnTo>
                    <a:pt x="1286" y="2848"/>
                  </a:lnTo>
                  <a:lnTo>
                    <a:pt x="857" y="2848"/>
                  </a:lnTo>
                  <a:lnTo>
                    <a:pt x="225" y="2575"/>
                  </a:lnTo>
                  <a:lnTo>
                    <a:pt x="0" y="2303"/>
                  </a:lnTo>
                  <a:lnTo>
                    <a:pt x="225" y="1727"/>
                  </a:lnTo>
                  <a:lnTo>
                    <a:pt x="428" y="1727"/>
                  </a:lnTo>
                  <a:lnTo>
                    <a:pt x="632" y="1424"/>
                  </a:lnTo>
                  <a:lnTo>
                    <a:pt x="1060" y="878"/>
                  </a:lnTo>
                  <a:lnTo>
                    <a:pt x="1286" y="878"/>
                  </a:lnTo>
                  <a:lnTo>
                    <a:pt x="1693" y="575"/>
                  </a:lnTo>
                  <a:lnTo>
                    <a:pt x="1693" y="303"/>
                  </a:lnTo>
                  <a:lnTo>
                    <a:pt x="1918" y="303"/>
                  </a:lnTo>
                  <a:lnTo>
                    <a:pt x="4469" y="0"/>
                  </a:lnTo>
                  <a:lnTo>
                    <a:pt x="4469" y="303"/>
                  </a:lnTo>
                  <a:lnTo>
                    <a:pt x="4672" y="303"/>
                  </a:lnTo>
                  <a:lnTo>
                    <a:pt x="5101" y="575"/>
                  </a:lnTo>
                  <a:lnTo>
                    <a:pt x="5101" y="878"/>
                  </a:lnTo>
                  <a:lnTo>
                    <a:pt x="7223" y="575"/>
                  </a:lnTo>
                  <a:lnTo>
                    <a:pt x="10000" y="2848"/>
                  </a:lnTo>
                  <a:lnTo>
                    <a:pt x="9774" y="2848"/>
                  </a:lnTo>
                  <a:lnTo>
                    <a:pt x="9571" y="3151"/>
                  </a:lnTo>
                  <a:lnTo>
                    <a:pt x="9367" y="3727"/>
                  </a:lnTo>
                  <a:lnTo>
                    <a:pt x="9142" y="4000"/>
                  </a:lnTo>
                  <a:lnTo>
                    <a:pt x="8939" y="4575"/>
                  </a:lnTo>
                  <a:lnTo>
                    <a:pt x="8939" y="4848"/>
                  </a:lnTo>
                  <a:lnTo>
                    <a:pt x="8939" y="5151"/>
                  </a:lnTo>
                  <a:lnTo>
                    <a:pt x="8939" y="5423"/>
                  </a:lnTo>
                  <a:lnTo>
                    <a:pt x="8713" y="5726"/>
                  </a:lnTo>
                  <a:lnTo>
                    <a:pt x="8510" y="6000"/>
                  </a:lnTo>
                  <a:lnTo>
                    <a:pt x="8284" y="6272"/>
                  </a:lnTo>
                  <a:lnTo>
                    <a:pt x="8081" y="6575"/>
                  </a:lnTo>
                  <a:lnTo>
                    <a:pt x="7878" y="6848"/>
                  </a:lnTo>
                  <a:lnTo>
                    <a:pt x="7652" y="7151"/>
                  </a:lnTo>
                  <a:lnTo>
                    <a:pt x="7449" y="7424"/>
                  </a:lnTo>
                  <a:lnTo>
                    <a:pt x="7223" y="7727"/>
                  </a:lnTo>
                  <a:lnTo>
                    <a:pt x="7020" y="8000"/>
                  </a:lnTo>
                  <a:lnTo>
                    <a:pt x="6817" y="8000"/>
                  </a:lnTo>
                  <a:lnTo>
                    <a:pt x="6591" y="8272"/>
                  </a:lnTo>
                  <a:lnTo>
                    <a:pt x="6591" y="8575"/>
                  </a:lnTo>
                  <a:lnTo>
                    <a:pt x="6388" y="8848"/>
                  </a:lnTo>
                  <a:lnTo>
                    <a:pt x="6162" y="8848"/>
                  </a:lnTo>
                  <a:lnTo>
                    <a:pt x="6162" y="9151"/>
                  </a:lnTo>
                  <a:lnTo>
                    <a:pt x="6162" y="9424"/>
                  </a:lnTo>
                  <a:lnTo>
                    <a:pt x="6162" y="9696"/>
                  </a:lnTo>
                  <a:lnTo>
                    <a:pt x="5959" y="9696"/>
                  </a:lnTo>
                  <a:lnTo>
                    <a:pt x="59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6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7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8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9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0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  <a:close/>
                  <a:moveTo>
                    <a:pt x="392" y="6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1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  <a:close/>
                  <a:moveTo>
                    <a:pt x="0" y="187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3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4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  <a:close/>
                  <a:moveTo>
                    <a:pt x="323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5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6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  <a:close/>
                  <a:moveTo>
                    <a:pt x="0" y="88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7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8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  <a:close/>
                  <a:moveTo>
                    <a:pt x="7564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9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0"/>
            <p:cNvSpPr/>
            <p:nvPr/>
          </p:nvSpPr>
          <p:spPr>
            <a:xfrm>
              <a:off x="8137440" y="3313800"/>
              <a:ext cx="179640" cy="282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741"/>
                  </a:moveTo>
                  <a:lnTo>
                    <a:pt x="10000" y="8079"/>
                  </a:lnTo>
                  <a:lnTo>
                    <a:pt x="9042" y="7483"/>
                  </a:lnTo>
                  <a:lnTo>
                    <a:pt x="7978" y="6225"/>
                  </a:lnTo>
                  <a:lnTo>
                    <a:pt x="5956" y="6225"/>
                  </a:lnTo>
                  <a:lnTo>
                    <a:pt x="5956" y="5629"/>
                  </a:lnTo>
                  <a:lnTo>
                    <a:pt x="5000" y="4966"/>
                  </a:lnTo>
                  <a:lnTo>
                    <a:pt x="5000" y="3708"/>
                  </a:lnTo>
                  <a:lnTo>
                    <a:pt x="4042" y="3708"/>
                  </a:lnTo>
                  <a:lnTo>
                    <a:pt x="2978" y="2516"/>
                  </a:lnTo>
                  <a:lnTo>
                    <a:pt x="2021" y="1854"/>
                  </a:lnTo>
                  <a:lnTo>
                    <a:pt x="2021" y="1257"/>
                  </a:lnTo>
                  <a:lnTo>
                    <a:pt x="2978" y="0"/>
                  </a:lnTo>
                  <a:lnTo>
                    <a:pt x="2021" y="0"/>
                  </a:lnTo>
                  <a:lnTo>
                    <a:pt x="957" y="0"/>
                  </a:lnTo>
                  <a:lnTo>
                    <a:pt x="957" y="596"/>
                  </a:lnTo>
                  <a:lnTo>
                    <a:pt x="957" y="1257"/>
                  </a:lnTo>
                  <a:lnTo>
                    <a:pt x="0" y="1257"/>
                  </a:lnTo>
                  <a:lnTo>
                    <a:pt x="5000" y="10000"/>
                  </a:lnTo>
                  <a:lnTo>
                    <a:pt x="10000" y="8741"/>
                  </a:lnTo>
                  <a:close/>
                  <a:moveTo>
                    <a:pt x="10000" y="874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  <a:close/>
                  <a:moveTo>
                    <a:pt x="2444" y="94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2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3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  <a:close/>
                  <a:moveTo>
                    <a:pt x="737" y="666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4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5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  <a:close/>
                  <a:moveTo>
                    <a:pt x="0" y="198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6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7"/>
            <p:cNvSpPr/>
            <p:nvPr/>
          </p:nvSpPr>
          <p:spPr>
            <a:xfrm>
              <a:off x="8622360" y="2749680"/>
              <a:ext cx="145440" cy="157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71"/>
                  </a:moveTo>
                  <a:lnTo>
                    <a:pt x="2500" y="7738"/>
                  </a:lnTo>
                  <a:lnTo>
                    <a:pt x="2500" y="8928"/>
                  </a:lnTo>
                  <a:lnTo>
                    <a:pt x="2500" y="10000"/>
                  </a:lnTo>
                  <a:lnTo>
                    <a:pt x="3815" y="7738"/>
                  </a:lnTo>
                  <a:lnTo>
                    <a:pt x="6184" y="6666"/>
                  </a:lnTo>
                  <a:lnTo>
                    <a:pt x="5000" y="6666"/>
                  </a:lnTo>
                  <a:lnTo>
                    <a:pt x="5000" y="5595"/>
                  </a:lnTo>
                  <a:lnTo>
                    <a:pt x="6184" y="4404"/>
                  </a:lnTo>
                  <a:lnTo>
                    <a:pt x="7500" y="4404"/>
                  </a:lnTo>
                  <a:lnTo>
                    <a:pt x="7500" y="5595"/>
                  </a:lnTo>
                  <a:lnTo>
                    <a:pt x="7500" y="6666"/>
                  </a:lnTo>
                  <a:lnTo>
                    <a:pt x="8684" y="6666"/>
                  </a:lnTo>
                  <a:lnTo>
                    <a:pt x="8684" y="5595"/>
                  </a:lnTo>
                  <a:lnTo>
                    <a:pt x="10000" y="5595"/>
                  </a:lnTo>
                  <a:lnTo>
                    <a:pt x="8684" y="4404"/>
                  </a:lnTo>
                  <a:lnTo>
                    <a:pt x="8684" y="3333"/>
                  </a:lnTo>
                  <a:lnTo>
                    <a:pt x="7500" y="3333"/>
                  </a:lnTo>
                  <a:lnTo>
                    <a:pt x="7500" y="2142"/>
                  </a:lnTo>
                  <a:lnTo>
                    <a:pt x="5000" y="2142"/>
                  </a:lnTo>
                  <a:lnTo>
                    <a:pt x="5000" y="1071"/>
                  </a:lnTo>
                  <a:lnTo>
                    <a:pt x="3815" y="1071"/>
                  </a:lnTo>
                  <a:lnTo>
                    <a:pt x="3815" y="0"/>
                  </a:lnTo>
                  <a:lnTo>
                    <a:pt x="0" y="1071"/>
                  </a:lnTo>
                  <a:close/>
                  <a:moveTo>
                    <a:pt x="0" y="107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8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  <a:close/>
                  <a:moveTo>
                    <a:pt x="0" y="437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  <a:close/>
                  <a:moveTo>
                    <a:pt x="0" y="106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1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2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  <a:close/>
                  <a:moveTo>
                    <a:pt x="9290" y="843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3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4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  <a:close/>
                  <a:moveTo>
                    <a:pt x="0" y="518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5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6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  <a:close/>
                  <a:moveTo>
                    <a:pt x="9843" y="737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07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  <a:close/>
                  <a:moveTo>
                    <a:pt x="0" y="96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09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0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  <a:close/>
                  <a:moveTo>
                    <a:pt x="9737" y="5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1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2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  <a:close/>
                  <a:moveTo>
                    <a:pt x="0" y="945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3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4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  <a:close/>
                  <a:moveTo>
                    <a:pt x="8831" y="954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5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6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  <a:close/>
                  <a:moveTo>
                    <a:pt x="1578" y="5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17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18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  <a:close/>
                  <a:moveTo>
                    <a:pt x="962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19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0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  <a:close/>
                  <a:moveTo>
                    <a:pt x="662" y="797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Freeform 123"/>
          <p:cNvSpPr/>
          <p:nvPr/>
        </p:nvSpPr>
        <p:spPr>
          <a:xfrm>
            <a:off x="100332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5262" y="0"/>
                </a:lnTo>
                <a:lnTo>
                  <a:pt x="10000" y="10000"/>
                </a:ln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solidFill>
            <a:srgbClr val="8cce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124"/>
          <p:cNvSpPr/>
          <p:nvPr/>
        </p:nvSpPr>
        <p:spPr>
          <a:xfrm flipH="1">
            <a:off x="936720" y="1434960"/>
            <a:ext cx="396720" cy="17258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25"/>
          <p:cNvSpPr/>
          <p:nvPr/>
        </p:nvSpPr>
        <p:spPr>
          <a:xfrm>
            <a:off x="3292560" y="2806560"/>
            <a:ext cx="86832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1444680" y="11397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127"/>
          <p:cNvSpPr/>
          <p:nvPr/>
        </p:nvSpPr>
        <p:spPr>
          <a:xfrm flipH="1" flipV="1">
            <a:off x="1294920" y="1434960"/>
            <a:ext cx="652680" cy="903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28"/>
          <p:cNvSpPr/>
          <p:nvPr/>
        </p:nvSpPr>
        <p:spPr>
          <a:xfrm>
            <a:off x="455760" y="44146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n Di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29"/>
          <p:cNvSpPr/>
          <p:nvPr/>
        </p:nvSpPr>
        <p:spPr>
          <a:xfrm>
            <a:off x="4998960" y="2425680"/>
            <a:ext cx="102708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130"/>
          <p:cNvSpPr/>
          <p:nvPr/>
        </p:nvSpPr>
        <p:spPr>
          <a:xfrm>
            <a:off x="6269760" y="2893320"/>
            <a:ext cx="862200" cy="3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32"/>
          <p:cNvSpPr/>
          <p:nvPr/>
        </p:nvSpPr>
        <p:spPr>
          <a:xfrm>
            <a:off x="6095880" y="4340160"/>
            <a:ext cx="86544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la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133"/>
          <p:cNvSpPr/>
          <p:nvPr/>
        </p:nvSpPr>
        <p:spPr>
          <a:xfrm>
            <a:off x="3490920" y="3381480"/>
            <a:ext cx="1633680" cy="759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134"/>
          <p:cNvSpPr/>
          <p:nvPr/>
        </p:nvSpPr>
        <p:spPr>
          <a:xfrm flipV="1">
            <a:off x="5165640" y="2992320"/>
            <a:ext cx="1068480" cy="433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3451320" y="409896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6"/>
          <p:cNvSpPr/>
          <p:nvPr/>
        </p:nvSpPr>
        <p:spPr>
          <a:xfrm rot="5400000">
            <a:off x="8360640" y="31730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137"/>
          <p:cNvSpPr/>
          <p:nvPr/>
        </p:nvSpPr>
        <p:spPr>
          <a:xfrm flipV="1">
            <a:off x="8062920" y="2785680"/>
            <a:ext cx="314280" cy="622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38"/>
          <p:cNvSpPr/>
          <p:nvPr/>
        </p:nvSpPr>
        <p:spPr>
          <a:xfrm>
            <a:off x="4495680" y="5356080"/>
            <a:ext cx="184320" cy="1796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00" h="10000">
                <a:moveTo>
                  <a:pt x="5000" y="0"/>
                </a:moveTo>
                <a:cubicBezTo>
                  <a:pt x="2238" y="0"/>
                  <a:pt x="0" y="2238"/>
                  <a:pt x="0" y="5000"/>
                </a:cubicBezTo>
                <a:cubicBezTo>
                  <a:pt x="0" y="7761"/>
                  <a:pt x="2238" y="10000"/>
                  <a:pt x="5000" y="10000"/>
                </a:cubicBezTo>
                <a:cubicBezTo>
                  <a:pt x="7761" y="10000"/>
                  <a:pt x="10000" y="7761"/>
                  <a:pt x="10000" y="5000"/>
                </a:cubicBezTo>
                <a:cubicBezTo>
                  <a:pt x="10000" y="2238"/>
                  <a:pt x="7761" y="0"/>
                  <a:pt x="5000" y="0"/>
                </a:cubicBezTo>
                <a:close/>
                <a:moveTo>
                  <a:pt x="5000" y="0"/>
                </a:move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139"/>
          <p:cNvSpPr/>
          <p:nvPr/>
        </p:nvSpPr>
        <p:spPr>
          <a:xfrm flipH="1">
            <a:off x="977400" y="1503360"/>
            <a:ext cx="397080" cy="172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880560" y="1465200"/>
            <a:ext cx="398520" cy="1722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41"/>
          <p:cNvSpPr/>
          <p:nvPr/>
        </p:nvSpPr>
        <p:spPr>
          <a:xfrm flipH="1" flipV="1">
            <a:off x="1333080" y="1423800"/>
            <a:ext cx="622440" cy="849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142"/>
          <p:cNvSpPr/>
          <p:nvPr/>
        </p:nvSpPr>
        <p:spPr>
          <a:xfrm flipH="1" flipV="1">
            <a:off x="1305000" y="1523880"/>
            <a:ext cx="568080" cy="8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43"/>
          <p:cNvSpPr/>
          <p:nvPr/>
        </p:nvSpPr>
        <p:spPr>
          <a:xfrm>
            <a:off x="3467160" y="3456000"/>
            <a:ext cx="16333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44"/>
          <p:cNvSpPr/>
          <p:nvPr/>
        </p:nvSpPr>
        <p:spPr>
          <a:xfrm>
            <a:off x="3500280" y="3406680"/>
            <a:ext cx="1635120" cy="76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45"/>
          <p:cNvSpPr/>
          <p:nvPr/>
        </p:nvSpPr>
        <p:spPr>
          <a:xfrm flipV="1">
            <a:off x="5197320" y="3032280"/>
            <a:ext cx="1068480" cy="43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46"/>
          <p:cNvSpPr/>
          <p:nvPr/>
        </p:nvSpPr>
        <p:spPr>
          <a:xfrm flipV="1">
            <a:off x="5180040" y="2953800"/>
            <a:ext cx="1069920" cy="435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147"/>
          <p:cNvSpPr/>
          <p:nvPr/>
        </p:nvSpPr>
        <p:spPr>
          <a:xfrm>
            <a:off x="6261120" y="2982960"/>
            <a:ext cx="860400" cy="3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148"/>
          <p:cNvSpPr/>
          <p:nvPr/>
        </p:nvSpPr>
        <p:spPr>
          <a:xfrm>
            <a:off x="6296040" y="2929680"/>
            <a:ext cx="860400" cy="349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49"/>
          <p:cNvSpPr/>
          <p:nvPr/>
        </p:nvSpPr>
        <p:spPr>
          <a:xfrm flipV="1">
            <a:off x="8082000" y="2499840"/>
            <a:ext cx="538200" cy="949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150"/>
          <p:cNvSpPr/>
          <p:nvPr/>
        </p:nvSpPr>
        <p:spPr>
          <a:xfrm flipV="1">
            <a:off x="8021520" y="2484000"/>
            <a:ext cx="54468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53"/>
          <p:cNvGrpSpPr/>
          <p:nvPr/>
        </p:nvGrpSpPr>
        <p:grpSpPr>
          <a:xfrm>
            <a:off x="7225920" y="2564640"/>
            <a:ext cx="1209960" cy="505800"/>
            <a:chOff x="7225920" y="2564640"/>
            <a:chExt cx="1209960" cy="505800"/>
          </a:xfrm>
        </p:grpSpPr>
        <p:sp>
          <p:nvSpPr>
            <p:cNvPr id="344" name="Line 154"/>
            <p:cNvSpPr/>
            <p:nvPr/>
          </p:nvSpPr>
          <p:spPr>
            <a:xfrm flipV="1">
              <a:off x="7225920" y="2564640"/>
              <a:ext cx="1123560" cy="4287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155"/>
            <p:cNvSpPr/>
            <p:nvPr/>
          </p:nvSpPr>
          <p:spPr>
            <a:xfrm flipV="1">
              <a:off x="7270560" y="2605320"/>
              <a:ext cx="1122480" cy="428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156"/>
            <p:cNvSpPr/>
            <p:nvPr/>
          </p:nvSpPr>
          <p:spPr>
            <a:xfrm flipV="1">
              <a:off x="7314480" y="2642760"/>
              <a:ext cx="1121400" cy="42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Text Box 157"/>
          <p:cNvSpPr/>
          <p:nvPr/>
        </p:nvSpPr>
        <p:spPr>
          <a:xfrm>
            <a:off x="1908000" y="20019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58"/>
          <p:cNvSpPr/>
          <p:nvPr/>
        </p:nvSpPr>
        <p:spPr>
          <a:xfrm>
            <a:off x="8329680" y="350532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ash. 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59"/>
          <p:cNvGrpSpPr/>
          <p:nvPr/>
        </p:nvGrpSpPr>
        <p:grpSpPr>
          <a:xfrm>
            <a:off x="3124080" y="4127400"/>
            <a:ext cx="291600" cy="216720"/>
            <a:chOff x="3124080" y="4127400"/>
            <a:chExt cx="291600" cy="216720"/>
          </a:xfrm>
        </p:grpSpPr>
        <p:sp>
          <p:nvSpPr>
            <p:cNvPr id="350" name="Oval 160"/>
            <p:cNvSpPr/>
            <p:nvPr/>
          </p:nvSpPr>
          <p:spPr>
            <a:xfrm>
              <a:off x="3124080" y="4138920"/>
              <a:ext cx="291600" cy="2052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161"/>
            <p:cNvSpPr/>
            <p:nvPr/>
          </p:nvSpPr>
          <p:spPr>
            <a:xfrm>
              <a:off x="3124080" y="4241880"/>
              <a:ext cx="27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62"/>
            <p:cNvSpPr/>
            <p:nvPr/>
          </p:nvSpPr>
          <p:spPr>
            <a:xfrm flipH="1">
              <a:off x="3266280" y="4127400"/>
              <a:ext cx="360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63"/>
          <p:cNvGrpSpPr/>
          <p:nvPr/>
        </p:nvGrpSpPr>
        <p:grpSpPr>
          <a:xfrm>
            <a:off x="4529160" y="3374280"/>
            <a:ext cx="607680" cy="2147040"/>
            <a:chOff x="4529160" y="3374280"/>
            <a:chExt cx="607680" cy="2147040"/>
          </a:xfrm>
        </p:grpSpPr>
        <p:sp>
          <p:nvSpPr>
            <p:cNvPr id="354" name="Freeform 164"/>
            <p:cNvSpPr/>
            <p:nvPr/>
          </p:nvSpPr>
          <p:spPr>
            <a:xfrm rot="507600">
              <a:off x="4750200" y="337824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5"/>
            <p:cNvSpPr/>
            <p:nvPr/>
          </p:nvSpPr>
          <p:spPr>
            <a:xfrm rot="507600">
              <a:off x="4678920" y="345492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6"/>
            <p:cNvSpPr/>
            <p:nvPr/>
          </p:nvSpPr>
          <p:spPr>
            <a:xfrm rot="507600">
              <a:off x="4779360" y="3463920"/>
              <a:ext cx="207360" cy="20530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53080"/>
                <a:gd name="textAreaBottom" fmla="*/ 2053440 h 2053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67"/>
          <p:cNvGrpSpPr/>
          <p:nvPr/>
        </p:nvGrpSpPr>
        <p:grpSpPr>
          <a:xfrm>
            <a:off x="4615200" y="4255920"/>
            <a:ext cx="2707200" cy="1438920"/>
            <a:chOff x="4615200" y="4255920"/>
            <a:chExt cx="2707200" cy="1438920"/>
          </a:xfrm>
        </p:grpSpPr>
        <p:sp>
          <p:nvSpPr>
            <p:cNvPr id="358" name="Freeform 168"/>
            <p:cNvSpPr/>
            <p:nvPr/>
          </p:nvSpPr>
          <p:spPr>
            <a:xfrm rot="3900000">
              <a:off x="5928840" y="35632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9"/>
            <p:cNvSpPr/>
            <p:nvPr/>
          </p:nvSpPr>
          <p:spPr>
            <a:xfrm rot="3900000">
              <a:off x="5798880" y="35578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70"/>
            <p:cNvSpPr/>
            <p:nvPr/>
          </p:nvSpPr>
          <p:spPr>
            <a:xfrm rot="3900000">
              <a:off x="5849280" y="3646800"/>
              <a:ext cx="209160" cy="2745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71"/>
          <p:cNvGrpSpPr/>
          <p:nvPr/>
        </p:nvGrpSpPr>
        <p:grpSpPr>
          <a:xfrm>
            <a:off x="6017400" y="2840760"/>
            <a:ext cx="1359000" cy="1611360"/>
            <a:chOff x="6017400" y="2840760"/>
            <a:chExt cx="1359000" cy="1611360"/>
          </a:xfrm>
        </p:grpSpPr>
        <p:sp>
          <p:nvSpPr>
            <p:cNvPr id="362" name="Freeform 172"/>
            <p:cNvSpPr/>
            <p:nvPr/>
          </p:nvSpPr>
          <p:spPr>
            <a:xfrm rot="19275600">
              <a:off x="6546240" y="271800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3"/>
            <p:cNvSpPr/>
            <p:nvPr/>
          </p:nvSpPr>
          <p:spPr>
            <a:xfrm rot="19275600">
              <a:off x="6542280" y="281664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4"/>
            <p:cNvSpPr/>
            <p:nvPr/>
          </p:nvSpPr>
          <p:spPr>
            <a:xfrm rot="19275600">
              <a:off x="6624720" y="2743200"/>
              <a:ext cx="226440" cy="175752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757520"/>
                <a:gd name="textAreaBottom" fmla="*/ 1757880 h 17575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175"/>
          <p:cNvGrpSpPr/>
          <p:nvPr/>
        </p:nvGrpSpPr>
        <p:grpSpPr>
          <a:xfrm>
            <a:off x="952560" y="3146400"/>
            <a:ext cx="695520" cy="1383840"/>
            <a:chOff x="952560" y="3146400"/>
            <a:chExt cx="695520" cy="1383840"/>
          </a:xfrm>
        </p:grpSpPr>
        <p:sp>
          <p:nvSpPr>
            <p:cNvPr id="366" name="Line 176"/>
            <p:cNvSpPr/>
            <p:nvPr/>
          </p:nvSpPr>
          <p:spPr>
            <a:xfrm>
              <a:off x="952560" y="3190320"/>
              <a:ext cx="596880" cy="13399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177"/>
            <p:cNvSpPr/>
            <p:nvPr/>
          </p:nvSpPr>
          <p:spPr>
            <a:xfrm>
              <a:off x="1001520" y="3168360"/>
              <a:ext cx="597240" cy="1340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178"/>
            <p:cNvSpPr/>
            <p:nvPr/>
          </p:nvSpPr>
          <p:spPr>
            <a:xfrm>
              <a:off x="1050840" y="3146400"/>
              <a:ext cx="597240" cy="133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79"/>
          <p:cNvGrpSpPr/>
          <p:nvPr/>
        </p:nvGrpSpPr>
        <p:grpSpPr>
          <a:xfrm>
            <a:off x="1538640" y="4457160"/>
            <a:ext cx="1648440" cy="516960"/>
            <a:chOff x="1538640" y="4457160"/>
            <a:chExt cx="1648440" cy="516960"/>
          </a:xfrm>
        </p:grpSpPr>
        <p:sp>
          <p:nvSpPr>
            <p:cNvPr id="370" name="Line 180"/>
            <p:cNvSpPr/>
            <p:nvPr/>
          </p:nvSpPr>
          <p:spPr>
            <a:xfrm>
              <a:off x="1538640" y="4538520"/>
              <a:ext cx="162648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181"/>
            <p:cNvSpPr/>
            <p:nvPr/>
          </p:nvSpPr>
          <p:spPr>
            <a:xfrm>
              <a:off x="1549800" y="4497840"/>
              <a:ext cx="162612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182"/>
            <p:cNvSpPr/>
            <p:nvPr/>
          </p:nvSpPr>
          <p:spPr>
            <a:xfrm>
              <a:off x="1560600" y="4457160"/>
              <a:ext cx="1626480" cy="43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Group 189"/>
          <p:cNvGrpSpPr/>
          <p:nvPr/>
        </p:nvGrpSpPr>
        <p:grpSpPr>
          <a:xfrm>
            <a:off x="3084840" y="4851720"/>
            <a:ext cx="1402920" cy="583200"/>
            <a:chOff x="3084840" y="4851720"/>
            <a:chExt cx="1402920" cy="583200"/>
          </a:xfrm>
        </p:grpSpPr>
        <p:sp>
          <p:nvSpPr>
            <p:cNvPr id="374" name="Line 190"/>
            <p:cNvSpPr/>
            <p:nvPr/>
          </p:nvSpPr>
          <p:spPr>
            <a:xfrm>
              <a:off x="3084840" y="493524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91"/>
            <p:cNvSpPr/>
            <p:nvPr/>
          </p:nvSpPr>
          <p:spPr>
            <a:xfrm>
              <a:off x="3099960" y="489348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92"/>
            <p:cNvSpPr/>
            <p:nvPr/>
          </p:nvSpPr>
          <p:spPr>
            <a:xfrm>
              <a:off x="3115440" y="4851720"/>
              <a:ext cx="1372320" cy="49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211"/>
          <p:cNvGrpSpPr/>
          <p:nvPr/>
        </p:nvGrpSpPr>
        <p:grpSpPr>
          <a:xfrm>
            <a:off x="1907640" y="2360880"/>
            <a:ext cx="1439280" cy="1006920"/>
            <a:chOff x="1907640" y="2360880"/>
            <a:chExt cx="1439280" cy="1006920"/>
          </a:xfrm>
        </p:grpSpPr>
        <p:sp>
          <p:nvSpPr>
            <p:cNvPr id="378" name="Line 212"/>
            <p:cNvSpPr/>
            <p:nvPr/>
          </p:nvSpPr>
          <p:spPr>
            <a:xfrm>
              <a:off x="1907640" y="2435760"/>
              <a:ext cx="1388880" cy="93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13"/>
            <p:cNvSpPr/>
            <p:nvPr/>
          </p:nvSpPr>
          <p:spPr>
            <a:xfrm>
              <a:off x="1932480" y="239832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14"/>
            <p:cNvSpPr/>
            <p:nvPr/>
          </p:nvSpPr>
          <p:spPr>
            <a:xfrm>
              <a:off x="1957680" y="236088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15"/>
          <p:cNvGrpSpPr/>
          <p:nvPr/>
        </p:nvGrpSpPr>
        <p:grpSpPr>
          <a:xfrm>
            <a:off x="7065360" y="2963160"/>
            <a:ext cx="987120" cy="523440"/>
            <a:chOff x="7065360" y="2963160"/>
            <a:chExt cx="987120" cy="523440"/>
          </a:xfrm>
        </p:grpSpPr>
        <p:sp>
          <p:nvSpPr>
            <p:cNvPr id="382" name="Line 216"/>
            <p:cNvSpPr/>
            <p:nvPr/>
          </p:nvSpPr>
          <p:spPr>
            <a:xfrm>
              <a:off x="7065360" y="3054240"/>
              <a:ext cx="945360" cy="43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217"/>
            <p:cNvSpPr/>
            <p:nvPr/>
          </p:nvSpPr>
          <p:spPr>
            <a:xfrm>
              <a:off x="7086240" y="3008880"/>
              <a:ext cx="945360" cy="432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218"/>
            <p:cNvSpPr/>
            <p:nvPr/>
          </p:nvSpPr>
          <p:spPr>
            <a:xfrm>
              <a:off x="7107120" y="2963160"/>
              <a:ext cx="945360" cy="432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Group 301"/>
          <p:cNvGrpSpPr/>
          <p:nvPr/>
        </p:nvGrpSpPr>
        <p:grpSpPr>
          <a:xfrm>
            <a:off x="7220520" y="3323880"/>
            <a:ext cx="865800" cy="1289880"/>
            <a:chOff x="7220520" y="3323880"/>
            <a:chExt cx="865800" cy="1289880"/>
          </a:xfrm>
        </p:grpSpPr>
        <p:sp>
          <p:nvSpPr>
            <p:cNvPr id="386" name="Freeform 302"/>
            <p:cNvSpPr/>
            <p:nvPr/>
          </p:nvSpPr>
          <p:spPr>
            <a:xfrm rot="1654800">
              <a:off x="7581240" y="329940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 rot="1654800">
              <a:off x="7503480" y="331956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 rot="1654800">
              <a:off x="7594920" y="336312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 Box 305"/>
          <p:cNvSpPr/>
          <p:nvPr/>
        </p:nvSpPr>
        <p:spPr>
          <a:xfrm>
            <a:off x="4435920" y="2881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ansas 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306"/>
          <p:cNvSpPr/>
          <p:nvPr/>
        </p:nvSpPr>
        <p:spPr>
          <a:xfrm>
            <a:off x="4248000" y="55418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307"/>
          <p:cNvSpPr/>
          <p:nvPr/>
        </p:nvSpPr>
        <p:spPr>
          <a:xfrm>
            <a:off x="6763680" y="24732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ev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308"/>
          <p:cNvGrpSpPr/>
          <p:nvPr/>
        </p:nvGrpSpPr>
        <p:grpSpPr>
          <a:xfrm>
            <a:off x="3182040" y="3344760"/>
            <a:ext cx="352440" cy="923040"/>
            <a:chOff x="3182040" y="3344760"/>
            <a:chExt cx="352440" cy="923040"/>
          </a:xfrm>
        </p:grpSpPr>
        <p:sp>
          <p:nvSpPr>
            <p:cNvPr id="393" name="Freeform 309"/>
            <p:cNvSpPr/>
            <p:nvPr/>
          </p:nvSpPr>
          <p:spPr>
            <a:xfrm rot="21436200">
              <a:off x="3260880" y="33490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 rot="21436200">
              <a:off x="3202560" y="33886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 rot="21436200">
              <a:off x="3304080" y="3381120"/>
              <a:ext cx="209520" cy="874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330"/>
          <p:cNvGrpSpPr/>
          <p:nvPr/>
        </p:nvGrpSpPr>
        <p:grpSpPr>
          <a:xfrm>
            <a:off x="6895800" y="4280040"/>
            <a:ext cx="503640" cy="340920"/>
            <a:chOff x="6895800" y="4280040"/>
            <a:chExt cx="503640" cy="340920"/>
          </a:xfrm>
        </p:grpSpPr>
        <p:sp>
          <p:nvSpPr>
            <p:cNvPr id="397" name="Freeform 331"/>
            <p:cNvSpPr/>
            <p:nvPr/>
          </p:nvSpPr>
          <p:spPr>
            <a:xfrm rot="10800000">
              <a:off x="6895800" y="4450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32"/>
            <p:cNvSpPr/>
            <p:nvPr/>
          </p:nvSpPr>
          <p:spPr>
            <a:xfrm>
              <a:off x="6899400" y="4280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333"/>
            <p:cNvGrpSpPr/>
            <p:nvPr/>
          </p:nvGrpSpPr>
          <p:grpSpPr>
            <a:xfrm>
              <a:off x="6896880" y="4280760"/>
              <a:ext cx="500760" cy="340200"/>
              <a:chOff x="6896880" y="4280760"/>
              <a:chExt cx="500760" cy="340200"/>
            </a:xfrm>
          </p:grpSpPr>
          <p:sp>
            <p:nvSpPr>
              <p:cNvPr id="400" name="Oval 334"/>
              <p:cNvSpPr/>
              <p:nvPr/>
            </p:nvSpPr>
            <p:spPr>
              <a:xfrm>
                <a:off x="6896880" y="4280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Line 335"/>
              <p:cNvSpPr/>
              <p:nvPr/>
            </p:nvSpPr>
            <p:spPr>
              <a:xfrm>
                <a:off x="6896880" y="4451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2" name="Oval 338"/>
          <p:cNvSpPr/>
          <p:nvPr/>
        </p:nvSpPr>
        <p:spPr>
          <a:xfrm rot="618600">
            <a:off x="890640" y="2878200"/>
            <a:ext cx="662040" cy="59508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39"/>
          <p:cNvSpPr/>
          <p:nvPr/>
        </p:nvSpPr>
        <p:spPr>
          <a:xfrm>
            <a:off x="5857920" y="2822400"/>
            <a:ext cx="657360" cy="511200"/>
          </a:xfrm>
          <a:custGeom>
            <a:avLst/>
            <a:gdLst>
              <a:gd name="textAreaLeft" fmla="*/ 0 w 657360"/>
              <a:gd name="textAreaRight" fmla="*/ 657360 w 657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77" h="294">
                <a:moveTo>
                  <a:pt x="260" y="212"/>
                </a:moveTo>
                <a:cubicBezTo>
                  <a:pt x="232" y="255"/>
                  <a:pt x="208" y="282"/>
                  <a:pt x="171" y="288"/>
                </a:cubicBezTo>
                <a:cubicBezTo>
                  <a:pt x="134" y="294"/>
                  <a:pt x="58" y="291"/>
                  <a:pt x="38" y="250"/>
                </a:cubicBezTo>
                <a:cubicBezTo>
                  <a:pt x="18" y="209"/>
                  <a:pt x="0" y="78"/>
                  <a:pt x="51" y="41"/>
                </a:cubicBezTo>
                <a:cubicBezTo>
                  <a:pt x="102" y="4"/>
                  <a:pt x="307" y="0"/>
                  <a:pt x="342" y="28"/>
                </a:cubicBezTo>
                <a:cubicBezTo>
                  <a:pt x="377" y="56"/>
                  <a:pt x="291" y="175"/>
                  <a:pt x="260" y="212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40"/>
          <p:cNvSpPr/>
          <p:nvPr/>
        </p:nvSpPr>
        <p:spPr>
          <a:xfrm>
            <a:off x="8313840" y="2835360"/>
            <a:ext cx="399960" cy="372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41"/>
          <p:cNvSpPr/>
          <p:nvPr/>
        </p:nvSpPr>
        <p:spPr>
          <a:xfrm>
            <a:off x="7753320" y="3592440"/>
            <a:ext cx="401760" cy="372960"/>
          </a:xfrm>
          <a:custGeom>
            <a:avLst/>
            <a:gdLst>
              <a:gd name="textAreaLeft" fmla="*/ 0 w 401760"/>
              <a:gd name="textAreaRight" fmla="*/ 402120 w 401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343"/>
          <p:cNvGrpSpPr/>
          <p:nvPr/>
        </p:nvGrpSpPr>
        <p:grpSpPr>
          <a:xfrm>
            <a:off x="1056960" y="1254240"/>
            <a:ext cx="503640" cy="339120"/>
            <a:chOff x="1056960" y="1254240"/>
            <a:chExt cx="503640" cy="339120"/>
          </a:xfrm>
        </p:grpSpPr>
        <p:sp>
          <p:nvSpPr>
            <p:cNvPr id="407" name="Freeform 344"/>
            <p:cNvSpPr/>
            <p:nvPr/>
          </p:nvSpPr>
          <p:spPr>
            <a:xfrm rot="10800000">
              <a:off x="1056960" y="14234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45"/>
            <p:cNvSpPr/>
            <p:nvPr/>
          </p:nvSpPr>
          <p:spPr>
            <a:xfrm>
              <a:off x="1060560" y="12542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9" name="Group 346"/>
            <p:cNvGrpSpPr/>
            <p:nvPr/>
          </p:nvGrpSpPr>
          <p:grpSpPr>
            <a:xfrm>
              <a:off x="1058040" y="1254960"/>
              <a:ext cx="500760" cy="338400"/>
              <a:chOff x="1058040" y="1254960"/>
              <a:chExt cx="500760" cy="338400"/>
            </a:xfrm>
          </p:grpSpPr>
          <p:sp>
            <p:nvSpPr>
              <p:cNvPr id="410" name="Oval 347"/>
              <p:cNvSpPr/>
              <p:nvPr/>
            </p:nvSpPr>
            <p:spPr>
              <a:xfrm>
                <a:off x="1058040" y="1254960"/>
                <a:ext cx="500760" cy="338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348"/>
              <p:cNvSpPr/>
              <p:nvPr/>
            </p:nvSpPr>
            <p:spPr>
              <a:xfrm>
                <a:off x="1058040" y="14245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2" name="Group 362"/>
          <p:cNvGrpSpPr/>
          <p:nvPr/>
        </p:nvGrpSpPr>
        <p:grpSpPr>
          <a:xfrm>
            <a:off x="6011640" y="2660760"/>
            <a:ext cx="503280" cy="340920"/>
            <a:chOff x="6011640" y="2660760"/>
            <a:chExt cx="503280" cy="340920"/>
          </a:xfrm>
        </p:grpSpPr>
        <p:sp>
          <p:nvSpPr>
            <p:cNvPr id="413" name="Freeform 363"/>
            <p:cNvSpPr/>
            <p:nvPr/>
          </p:nvSpPr>
          <p:spPr>
            <a:xfrm rot="10800000">
              <a:off x="6011640" y="28314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4"/>
            <p:cNvSpPr/>
            <p:nvPr/>
          </p:nvSpPr>
          <p:spPr>
            <a:xfrm>
              <a:off x="6014880" y="26607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5" name="Group 365"/>
            <p:cNvGrpSpPr/>
            <p:nvPr/>
          </p:nvGrpSpPr>
          <p:grpSpPr>
            <a:xfrm>
              <a:off x="6013080" y="2661840"/>
              <a:ext cx="500040" cy="339840"/>
              <a:chOff x="6013080" y="2661840"/>
              <a:chExt cx="500040" cy="339840"/>
            </a:xfrm>
          </p:grpSpPr>
          <p:sp>
            <p:nvSpPr>
              <p:cNvPr id="416" name="Oval 366"/>
              <p:cNvSpPr/>
              <p:nvPr/>
            </p:nvSpPr>
            <p:spPr>
              <a:xfrm>
                <a:off x="6013080" y="26618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367"/>
              <p:cNvSpPr/>
              <p:nvPr/>
            </p:nvSpPr>
            <p:spPr>
              <a:xfrm>
                <a:off x="6013080" y="28321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8" name="Group 392"/>
          <p:cNvGrpSpPr/>
          <p:nvPr/>
        </p:nvGrpSpPr>
        <p:grpSpPr>
          <a:xfrm>
            <a:off x="7824960" y="3394080"/>
            <a:ext cx="501480" cy="339480"/>
            <a:chOff x="7824960" y="3394080"/>
            <a:chExt cx="501480" cy="339480"/>
          </a:xfrm>
        </p:grpSpPr>
        <p:sp>
          <p:nvSpPr>
            <p:cNvPr id="419" name="Freeform 393"/>
            <p:cNvSpPr/>
            <p:nvPr/>
          </p:nvSpPr>
          <p:spPr>
            <a:xfrm rot="10800000">
              <a:off x="7824960" y="356364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94"/>
            <p:cNvSpPr/>
            <p:nvPr/>
          </p:nvSpPr>
          <p:spPr>
            <a:xfrm>
              <a:off x="7828200" y="339408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1" name="Group 395"/>
            <p:cNvGrpSpPr/>
            <p:nvPr/>
          </p:nvGrpSpPr>
          <p:grpSpPr>
            <a:xfrm>
              <a:off x="7825680" y="3394800"/>
              <a:ext cx="498960" cy="338760"/>
              <a:chOff x="7825680" y="3394800"/>
              <a:chExt cx="498960" cy="338760"/>
            </a:xfrm>
          </p:grpSpPr>
          <p:sp>
            <p:nvSpPr>
              <p:cNvPr id="422" name="Oval 396"/>
              <p:cNvSpPr/>
              <p:nvPr/>
            </p:nvSpPr>
            <p:spPr>
              <a:xfrm>
                <a:off x="7825680" y="3394800"/>
                <a:ext cx="498960" cy="338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397"/>
              <p:cNvSpPr/>
              <p:nvPr/>
            </p:nvSpPr>
            <p:spPr>
              <a:xfrm>
                <a:off x="7825680" y="3564720"/>
                <a:ext cx="496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406"/>
          <p:cNvGrpSpPr/>
          <p:nvPr/>
        </p:nvGrpSpPr>
        <p:grpSpPr>
          <a:xfrm>
            <a:off x="4890600" y="3363840"/>
            <a:ext cx="503640" cy="340920"/>
            <a:chOff x="4890600" y="3363840"/>
            <a:chExt cx="503640" cy="340920"/>
          </a:xfrm>
        </p:grpSpPr>
        <p:sp>
          <p:nvSpPr>
            <p:cNvPr id="425" name="Freeform 407"/>
            <p:cNvSpPr/>
            <p:nvPr/>
          </p:nvSpPr>
          <p:spPr>
            <a:xfrm rot="10800000">
              <a:off x="4890600" y="35341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08"/>
            <p:cNvSpPr/>
            <p:nvPr/>
          </p:nvSpPr>
          <p:spPr>
            <a:xfrm>
              <a:off x="4894200" y="33638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409"/>
            <p:cNvGrpSpPr/>
            <p:nvPr/>
          </p:nvGrpSpPr>
          <p:grpSpPr>
            <a:xfrm>
              <a:off x="4891680" y="3364560"/>
              <a:ext cx="500760" cy="340200"/>
              <a:chOff x="4891680" y="3364560"/>
              <a:chExt cx="500760" cy="340200"/>
            </a:xfrm>
          </p:grpSpPr>
          <p:sp>
            <p:nvSpPr>
              <p:cNvPr id="428" name="Oval 410"/>
              <p:cNvSpPr/>
              <p:nvPr/>
            </p:nvSpPr>
            <p:spPr>
              <a:xfrm>
                <a:off x="4891680" y="33645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411"/>
              <p:cNvSpPr/>
              <p:nvPr/>
            </p:nvSpPr>
            <p:spPr>
              <a:xfrm>
                <a:off x="4891680" y="35352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0" name="Group 412"/>
          <p:cNvGrpSpPr/>
          <p:nvPr/>
        </p:nvGrpSpPr>
        <p:grpSpPr>
          <a:xfrm>
            <a:off x="4343040" y="5216400"/>
            <a:ext cx="503640" cy="340920"/>
            <a:chOff x="4343040" y="5216400"/>
            <a:chExt cx="503640" cy="340920"/>
          </a:xfrm>
        </p:grpSpPr>
        <p:sp>
          <p:nvSpPr>
            <p:cNvPr id="431" name="Freeform 413"/>
            <p:cNvSpPr/>
            <p:nvPr/>
          </p:nvSpPr>
          <p:spPr>
            <a:xfrm rot="10800000">
              <a:off x="4343040" y="53866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14"/>
            <p:cNvSpPr/>
            <p:nvPr/>
          </p:nvSpPr>
          <p:spPr>
            <a:xfrm>
              <a:off x="4346640" y="52164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3" name="Group 415"/>
            <p:cNvGrpSpPr/>
            <p:nvPr/>
          </p:nvGrpSpPr>
          <p:grpSpPr>
            <a:xfrm>
              <a:off x="4344120" y="5217120"/>
              <a:ext cx="500760" cy="340200"/>
              <a:chOff x="4344120" y="5217120"/>
              <a:chExt cx="500760" cy="340200"/>
            </a:xfrm>
          </p:grpSpPr>
          <p:sp>
            <p:nvSpPr>
              <p:cNvPr id="434" name="Oval 416"/>
              <p:cNvSpPr/>
              <p:nvPr/>
            </p:nvSpPr>
            <p:spPr>
              <a:xfrm>
                <a:off x="4344120" y="52171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417"/>
              <p:cNvSpPr/>
              <p:nvPr/>
            </p:nvSpPr>
            <p:spPr>
              <a:xfrm>
                <a:off x="4344120" y="53877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8"/>
          <p:cNvGrpSpPr/>
          <p:nvPr/>
        </p:nvGrpSpPr>
        <p:grpSpPr>
          <a:xfrm>
            <a:off x="6598800" y="3774960"/>
            <a:ext cx="503640" cy="340920"/>
            <a:chOff x="6598800" y="3774960"/>
            <a:chExt cx="503640" cy="340920"/>
          </a:xfrm>
        </p:grpSpPr>
        <p:sp>
          <p:nvSpPr>
            <p:cNvPr id="437" name="Freeform 419"/>
            <p:cNvSpPr/>
            <p:nvPr/>
          </p:nvSpPr>
          <p:spPr>
            <a:xfrm rot="10800000">
              <a:off x="6598800" y="39452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6602400" y="377496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9" name="Group 421"/>
            <p:cNvGrpSpPr/>
            <p:nvPr/>
          </p:nvGrpSpPr>
          <p:grpSpPr>
            <a:xfrm>
              <a:off x="6599880" y="3775680"/>
              <a:ext cx="500760" cy="340200"/>
              <a:chOff x="6599880" y="3775680"/>
              <a:chExt cx="500760" cy="340200"/>
            </a:xfrm>
          </p:grpSpPr>
          <p:sp>
            <p:nvSpPr>
              <p:cNvPr id="440" name="Oval 422"/>
              <p:cNvSpPr/>
              <p:nvPr/>
            </p:nvSpPr>
            <p:spPr>
              <a:xfrm>
                <a:off x="6599880" y="377568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423"/>
              <p:cNvSpPr/>
              <p:nvPr/>
            </p:nvSpPr>
            <p:spPr>
              <a:xfrm>
                <a:off x="6599880" y="39463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2" name="Group 510"/>
          <p:cNvGrpSpPr/>
          <p:nvPr/>
        </p:nvGrpSpPr>
        <p:grpSpPr>
          <a:xfrm>
            <a:off x="8234280" y="2365200"/>
            <a:ext cx="515880" cy="351000"/>
            <a:chOff x="8234280" y="2365200"/>
            <a:chExt cx="515880" cy="351000"/>
          </a:xfrm>
        </p:grpSpPr>
        <p:sp>
          <p:nvSpPr>
            <p:cNvPr id="443" name="Freeform 509"/>
            <p:cNvSpPr/>
            <p:nvPr/>
          </p:nvSpPr>
          <p:spPr>
            <a:xfrm rot="10800000">
              <a:off x="8249760" y="253512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26"/>
            <p:cNvSpPr/>
            <p:nvPr/>
          </p:nvSpPr>
          <p:spPr>
            <a:xfrm>
              <a:off x="8234280" y="236520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427"/>
            <p:cNvGrpSpPr/>
            <p:nvPr/>
          </p:nvGrpSpPr>
          <p:grpSpPr>
            <a:xfrm>
              <a:off x="8250120" y="2376360"/>
              <a:ext cx="500040" cy="339840"/>
              <a:chOff x="8250120" y="2376360"/>
              <a:chExt cx="500040" cy="339840"/>
            </a:xfrm>
          </p:grpSpPr>
          <p:sp>
            <p:nvSpPr>
              <p:cNvPr id="446" name="Oval 428"/>
              <p:cNvSpPr/>
              <p:nvPr/>
            </p:nvSpPr>
            <p:spPr>
              <a:xfrm>
                <a:off x="8250120" y="237636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Line 429"/>
              <p:cNvSpPr/>
              <p:nvPr/>
            </p:nvSpPr>
            <p:spPr>
              <a:xfrm>
                <a:off x="8250120" y="254664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8" name="Group 430"/>
          <p:cNvGrpSpPr/>
          <p:nvPr/>
        </p:nvGrpSpPr>
        <p:grpSpPr>
          <a:xfrm>
            <a:off x="6943320" y="2838600"/>
            <a:ext cx="503640" cy="340920"/>
            <a:chOff x="6943320" y="2838600"/>
            <a:chExt cx="503640" cy="340920"/>
          </a:xfrm>
        </p:grpSpPr>
        <p:sp>
          <p:nvSpPr>
            <p:cNvPr id="449" name="Freeform 431"/>
            <p:cNvSpPr/>
            <p:nvPr/>
          </p:nvSpPr>
          <p:spPr>
            <a:xfrm rot="10800000">
              <a:off x="6943320" y="30088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32"/>
            <p:cNvSpPr/>
            <p:nvPr/>
          </p:nvSpPr>
          <p:spPr>
            <a:xfrm>
              <a:off x="6946920" y="28386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433"/>
            <p:cNvGrpSpPr/>
            <p:nvPr/>
          </p:nvGrpSpPr>
          <p:grpSpPr>
            <a:xfrm>
              <a:off x="6944400" y="2839320"/>
              <a:ext cx="500760" cy="340200"/>
              <a:chOff x="6944400" y="2839320"/>
              <a:chExt cx="500760" cy="340200"/>
            </a:xfrm>
          </p:grpSpPr>
          <p:sp>
            <p:nvSpPr>
              <p:cNvPr id="452" name="Oval 434"/>
              <p:cNvSpPr/>
              <p:nvPr/>
            </p:nvSpPr>
            <p:spPr>
              <a:xfrm>
                <a:off x="6944400" y="28393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Line 435"/>
              <p:cNvSpPr/>
              <p:nvPr/>
            </p:nvSpPr>
            <p:spPr>
              <a:xfrm>
                <a:off x="6944400" y="30099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4" name="Line 449"/>
          <p:cNvSpPr/>
          <p:nvPr/>
        </p:nvSpPr>
        <p:spPr>
          <a:xfrm>
            <a:off x="1027080" y="3156120"/>
            <a:ext cx="2340000" cy="2044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448"/>
          <p:cNvSpPr/>
          <p:nvPr/>
        </p:nvSpPr>
        <p:spPr>
          <a:xfrm>
            <a:off x="993600" y="3205080"/>
            <a:ext cx="2387880" cy="22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400"/>
          <p:cNvGrpSpPr/>
          <p:nvPr/>
        </p:nvGrpSpPr>
        <p:grpSpPr>
          <a:xfrm>
            <a:off x="3149280" y="3218040"/>
            <a:ext cx="503640" cy="340920"/>
            <a:chOff x="3149280" y="3218040"/>
            <a:chExt cx="503640" cy="340920"/>
          </a:xfrm>
        </p:grpSpPr>
        <p:sp>
          <p:nvSpPr>
            <p:cNvPr id="457" name="Freeform 401"/>
            <p:cNvSpPr/>
            <p:nvPr/>
          </p:nvSpPr>
          <p:spPr>
            <a:xfrm rot="10800000">
              <a:off x="3149280" y="3388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2"/>
            <p:cNvSpPr/>
            <p:nvPr/>
          </p:nvSpPr>
          <p:spPr>
            <a:xfrm>
              <a:off x="3152880" y="3218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Group 403"/>
            <p:cNvGrpSpPr/>
            <p:nvPr/>
          </p:nvGrpSpPr>
          <p:grpSpPr>
            <a:xfrm>
              <a:off x="3150360" y="3218760"/>
              <a:ext cx="500760" cy="340200"/>
              <a:chOff x="3150360" y="3218760"/>
              <a:chExt cx="500760" cy="340200"/>
            </a:xfrm>
          </p:grpSpPr>
          <p:sp>
            <p:nvSpPr>
              <p:cNvPr id="460" name="Oval 404"/>
              <p:cNvSpPr/>
              <p:nvPr/>
            </p:nvSpPr>
            <p:spPr>
              <a:xfrm>
                <a:off x="3150360" y="3218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Line 405"/>
              <p:cNvSpPr/>
              <p:nvPr/>
            </p:nvSpPr>
            <p:spPr>
              <a:xfrm>
                <a:off x="3150360" y="3389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2" name="Group 436"/>
          <p:cNvGrpSpPr/>
          <p:nvPr/>
        </p:nvGrpSpPr>
        <p:grpSpPr>
          <a:xfrm>
            <a:off x="816120" y="3002040"/>
            <a:ext cx="502920" cy="340920"/>
            <a:chOff x="816120" y="3002040"/>
            <a:chExt cx="502920" cy="340920"/>
          </a:xfrm>
        </p:grpSpPr>
        <p:sp>
          <p:nvSpPr>
            <p:cNvPr id="463" name="Freeform 437"/>
            <p:cNvSpPr/>
            <p:nvPr/>
          </p:nvSpPr>
          <p:spPr>
            <a:xfrm rot="10800000">
              <a:off x="816120" y="317232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38"/>
            <p:cNvSpPr/>
            <p:nvPr/>
          </p:nvSpPr>
          <p:spPr>
            <a:xfrm>
              <a:off x="819360" y="300204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5" name="Group 439"/>
            <p:cNvGrpSpPr/>
            <p:nvPr/>
          </p:nvGrpSpPr>
          <p:grpSpPr>
            <a:xfrm>
              <a:off x="816840" y="3002760"/>
              <a:ext cx="500400" cy="340200"/>
              <a:chOff x="816840" y="3002760"/>
              <a:chExt cx="500400" cy="340200"/>
            </a:xfrm>
          </p:grpSpPr>
          <p:sp>
            <p:nvSpPr>
              <p:cNvPr id="466" name="Oval 440"/>
              <p:cNvSpPr/>
              <p:nvPr/>
            </p:nvSpPr>
            <p:spPr>
              <a:xfrm>
                <a:off x="816840" y="3002760"/>
                <a:ext cx="50040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441"/>
              <p:cNvSpPr/>
              <p:nvPr/>
            </p:nvSpPr>
            <p:spPr>
              <a:xfrm>
                <a:off x="816840" y="3173400"/>
                <a:ext cx="49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8" name="Group 450"/>
          <p:cNvGrpSpPr/>
          <p:nvPr/>
        </p:nvGrpSpPr>
        <p:grpSpPr>
          <a:xfrm>
            <a:off x="3076200" y="4158000"/>
            <a:ext cx="304920" cy="684720"/>
            <a:chOff x="3076200" y="4158000"/>
            <a:chExt cx="304920" cy="684720"/>
          </a:xfrm>
        </p:grpSpPr>
        <p:sp>
          <p:nvSpPr>
            <p:cNvPr id="469" name="Freeform 451"/>
            <p:cNvSpPr/>
            <p:nvPr/>
          </p:nvSpPr>
          <p:spPr>
            <a:xfrm rot="21436200">
              <a:off x="3143160" y="41616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52"/>
            <p:cNvSpPr/>
            <p:nvPr/>
          </p:nvSpPr>
          <p:spPr>
            <a:xfrm rot="21436200">
              <a:off x="3091320" y="419112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53"/>
            <p:cNvSpPr/>
            <p:nvPr/>
          </p:nvSpPr>
          <p:spPr>
            <a:xfrm rot="21436200">
              <a:off x="3180960" y="41850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Group 318"/>
          <p:cNvGrpSpPr/>
          <p:nvPr/>
        </p:nvGrpSpPr>
        <p:grpSpPr>
          <a:xfrm>
            <a:off x="3006360" y="4102200"/>
            <a:ext cx="503640" cy="340920"/>
            <a:chOff x="3006360" y="4102200"/>
            <a:chExt cx="503640" cy="340920"/>
          </a:xfrm>
        </p:grpSpPr>
        <p:sp>
          <p:nvSpPr>
            <p:cNvPr id="473" name="Freeform 319"/>
            <p:cNvSpPr/>
            <p:nvPr/>
          </p:nvSpPr>
          <p:spPr>
            <a:xfrm rot="10800000">
              <a:off x="3006360" y="42724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20"/>
            <p:cNvSpPr/>
            <p:nvPr/>
          </p:nvSpPr>
          <p:spPr>
            <a:xfrm>
              <a:off x="3009960" y="41022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Group 321"/>
            <p:cNvGrpSpPr/>
            <p:nvPr/>
          </p:nvGrpSpPr>
          <p:grpSpPr>
            <a:xfrm>
              <a:off x="3007440" y="4102920"/>
              <a:ext cx="500760" cy="340200"/>
              <a:chOff x="3007440" y="4102920"/>
              <a:chExt cx="500760" cy="340200"/>
            </a:xfrm>
          </p:grpSpPr>
          <p:sp>
            <p:nvSpPr>
              <p:cNvPr id="476" name="Oval 322"/>
              <p:cNvSpPr/>
              <p:nvPr/>
            </p:nvSpPr>
            <p:spPr>
              <a:xfrm>
                <a:off x="3007440" y="41029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Line 323"/>
              <p:cNvSpPr/>
              <p:nvPr/>
            </p:nvSpPr>
            <p:spPr>
              <a:xfrm>
                <a:off x="3007440" y="42735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8" name="Group 454"/>
          <p:cNvGrpSpPr/>
          <p:nvPr/>
        </p:nvGrpSpPr>
        <p:grpSpPr>
          <a:xfrm>
            <a:off x="2901600" y="4700520"/>
            <a:ext cx="503640" cy="340920"/>
            <a:chOff x="2901600" y="4700520"/>
            <a:chExt cx="503640" cy="340920"/>
          </a:xfrm>
        </p:grpSpPr>
        <p:sp>
          <p:nvSpPr>
            <p:cNvPr id="479" name="Freeform 455"/>
            <p:cNvSpPr/>
            <p:nvPr/>
          </p:nvSpPr>
          <p:spPr>
            <a:xfrm rot="10800000">
              <a:off x="2901600" y="48708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56"/>
            <p:cNvSpPr/>
            <p:nvPr/>
          </p:nvSpPr>
          <p:spPr>
            <a:xfrm>
              <a:off x="2905200" y="47005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457"/>
            <p:cNvGrpSpPr/>
            <p:nvPr/>
          </p:nvGrpSpPr>
          <p:grpSpPr>
            <a:xfrm>
              <a:off x="2902680" y="4701240"/>
              <a:ext cx="500760" cy="340200"/>
              <a:chOff x="2902680" y="4701240"/>
              <a:chExt cx="500760" cy="340200"/>
            </a:xfrm>
          </p:grpSpPr>
          <p:sp>
            <p:nvSpPr>
              <p:cNvPr id="482" name="Oval 458"/>
              <p:cNvSpPr/>
              <p:nvPr/>
            </p:nvSpPr>
            <p:spPr>
              <a:xfrm>
                <a:off x="2902680" y="470124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459"/>
              <p:cNvSpPr/>
              <p:nvPr/>
            </p:nvSpPr>
            <p:spPr>
              <a:xfrm>
                <a:off x="2902680" y="487188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4" name="Text Box 469"/>
          <p:cNvSpPr/>
          <p:nvPr/>
        </p:nvSpPr>
        <p:spPr>
          <a:xfrm>
            <a:off x="8259840" y="215568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490"/>
          <p:cNvGrpSpPr/>
          <p:nvPr/>
        </p:nvGrpSpPr>
        <p:grpSpPr>
          <a:xfrm>
            <a:off x="1079640" y="3892680"/>
            <a:ext cx="505800" cy="339480"/>
            <a:chOff x="1079640" y="3892680"/>
            <a:chExt cx="505800" cy="339480"/>
          </a:xfrm>
        </p:grpSpPr>
        <p:sp>
          <p:nvSpPr>
            <p:cNvPr id="486" name="Freeform 489"/>
            <p:cNvSpPr/>
            <p:nvPr/>
          </p:nvSpPr>
          <p:spPr>
            <a:xfrm>
              <a:off x="1085760" y="38970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84"/>
            <p:cNvSpPr/>
            <p:nvPr/>
          </p:nvSpPr>
          <p:spPr>
            <a:xfrm rot="10800000">
              <a:off x="1079640" y="406224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486"/>
            <p:cNvGrpSpPr/>
            <p:nvPr/>
          </p:nvGrpSpPr>
          <p:grpSpPr>
            <a:xfrm>
              <a:off x="1081080" y="3892680"/>
              <a:ext cx="499680" cy="339480"/>
              <a:chOff x="1081080" y="3892680"/>
              <a:chExt cx="499680" cy="339480"/>
            </a:xfrm>
          </p:grpSpPr>
          <p:sp>
            <p:nvSpPr>
              <p:cNvPr id="489" name="Oval 487"/>
              <p:cNvSpPr/>
              <p:nvPr/>
            </p:nvSpPr>
            <p:spPr>
              <a:xfrm>
                <a:off x="1081080" y="389268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Line 488"/>
              <p:cNvSpPr/>
              <p:nvPr/>
            </p:nvSpPr>
            <p:spPr>
              <a:xfrm>
                <a:off x="1081080" y="406296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Group 511"/>
          <p:cNvGrpSpPr/>
          <p:nvPr/>
        </p:nvGrpSpPr>
        <p:grpSpPr>
          <a:xfrm>
            <a:off x="1695600" y="2192400"/>
            <a:ext cx="515880" cy="350280"/>
            <a:chOff x="1695600" y="2192400"/>
            <a:chExt cx="515880" cy="350280"/>
          </a:xfrm>
        </p:grpSpPr>
        <p:sp>
          <p:nvSpPr>
            <p:cNvPr id="492" name="Freeform 512"/>
            <p:cNvSpPr/>
            <p:nvPr/>
          </p:nvSpPr>
          <p:spPr>
            <a:xfrm rot="10800000">
              <a:off x="1711080" y="23616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13"/>
            <p:cNvSpPr/>
            <p:nvPr/>
          </p:nvSpPr>
          <p:spPr>
            <a:xfrm>
              <a:off x="1695600" y="21924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4" name="Group 514"/>
            <p:cNvGrpSpPr/>
            <p:nvPr/>
          </p:nvGrpSpPr>
          <p:grpSpPr>
            <a:xfrm>
              <a:off x="1711440" y="2203200"/>
              <a:ext cx="500040" cy="339480"/>
              <a:chOff x="1711440" y="2203200"/>
              <a:chExt cx="500040" cy="339480"/>
            </a:xfrm>
          </p:grpSpPr>
          <p:sp>
            <p:nvSpPr>
              <p:cNvPr id="495" name="Oval 515"/>
              <p:cNvSpPr/>
              <p:nvPr/>
            </p:nvSpPr>
            <p:spPr>
              <a:xfrm>
                <a:off x="1711440" y="220320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Line 516"/>
              <p:cNvSpPr/>
              <p:nvPr/>
            </p:nvSpPr>
            <p:spPr>
              <a:xfrm>
                <a:off x="1711440" y="237348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Group 517"/>
          <p:cNvGrpSpPr/>
          <p:nvPr/>
        </p:nvGrpSpPr>
        <p:grpSpPr>
          <a:xfrm>
            <a:off x="1393920" y="4346640"/>
            <a:ext cx="515880" cy="350280"/>
            <a:chOff x="1393920" y="4346640"/>
            <a:chExt cx="515880" cy="350280"/>
          </a:xfrm>
        </p:grpSpPr>
        <p:sp>
          <p:nvSpPr>
            <p:cNvPr id="498" name="Freeform 518"/>
            <p:cNvSpPr/>
            <p:nvPr/>
          </p:nvSpPr>
          <p:spPr>
            <a:xfrm rot="10800000">
              <a:off x="1409400" y="45158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19"/>
            <p:cNvSpPr/>
            <p:nvPr/>
          </p:nvSpPr>
          <p:spPr>
            <a:xfrm>
              <a:off x="1393920" y="43466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520"/>
            <p:cNvGrpSpPr/>
            <p:nvPr/>
          </p:nvGrpSpPr>
          <p:grpSpPr>
            <a:xfrm>
              <a:off x="1409760" y="4357440"/>
              <a:ext cx="500040" cy="339480"/>
              <a:chOff x="1409760" y="4357440"/>
              <a:chExt cx="500040" cy="339480"/>
            </a:xfrm>
          </p:grpSpPr>
          <p:sp>
            <p:nvSpPr>
              <p:cNvPr id="501" name="Oval 521"/>
              <p:cNvSpPr/>
              <p:nvPr/>
            </p:nvSpPr>
            <p:spPr>
              <a:xfrm>
                <a:off x="1409760" y="435744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522"/>
              <p:cNvSpPr/>
              <p:nvPr/>
            </p:nvSpPr>
            <p:spPr>
              <a:xfrm>
                <a:off x="1409760" y="45277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3" name="Text Box 536"/>
          <p:cNvSpPr/>
          <p:nvPr/>
        </p:nvSpPr>
        <p:spPr>
          <a:xfrm>
            <a:off x="615960" y="393228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539"/>
          <p:cNvSpPr/>
          <p:nvPr/>
        </p:nvSpPr>
        <p:spPr>
          <a:xfrm>
            <a:off x="3346560" y="46213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540"/>
          <p:cNvGrpSpPr/>
          <p:nvPr/>
        </p:nvGrpSpPr>
        <p:grpSpPr>
          <a:xfrm>
            <a:off x="5886000" y="2712960"/>
            <a:ext cx="503280" cy="340920"/>
            <a:chOff x="5886000" y="2712960"/>
            <a:chExt cx="503280" cy="340920"/>
          </a:xfrm>
        </p:grpSpPr>
        <p:sp>
          <p:nvSpPr>
            <p:cNvPr id="506" name="Freeform 541"/>
            <p:cNvSpPr/>
            <p:nvPr/>
          </p:nvSpPr>
          <p:spPr>
            <a:xfrm rot="10800000">
              <a:off x="5886000" y="28836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42"/>
            <p:cNvSpPr/>
            <p:nvPr/>
          </p:nvSpPr>
          <p:spPr>
            <a:xfrm>
              <a:off x="5889240" y="27129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543"/>
            <p:cNvGrpSpPr/>
            <p:nvPr/>
          </p:nvGrpSpPr>
          <p:grpSpPr>
            <a:xfrm>
              <a:off x="5887440" y="2714040"/>
              <a:ext cx="500040" cy="339840"/>
              <a:chOff x="5887440" y="2714040"/>
              <a:chExt cx="500040" cy="339840"/>
            </a:xfrm>
          </p:grpSpPr>
          <p:sp>
            <p:nvSpPr>
              <p:cNvPr id="509" name="Oval 544"/>
              <p:cNvSpPr/>
              <p:nvPr/>
            </p:nvSpPr>
            <p:spPr>
              <a:xfrm>
                <a:off x="5887440" y="27140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Line 545"/>
              <p:cNvSpPr/>
              <p:nvPr/>
            </p:nvSpPr>
            <p:spPr>
              <a:xfrm>
                <a:off x="5887440" y="28843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1" name="Group 552"/>
          <p:cNvGrpSpPr/>
          <p:nvPr/>
        </p:nvGrpSpPr>
        <p:grpSpPr>
          <a:xfrm>
            <a:off x="8015400" y="2733840"/>
            <a:ext cx="505800" cy="339480"/>
            <a:chOff x="8015400" y="2733840"/>
            <a:chExt cx="505800" cy="339480"/>
          </a:xfrm>
        </p:grpSpPr>
        <p:sp>
          <p:nvSpPr>
            <p:cNvPr id="512" name="Freeform 553"/>
            <p:cNvSpPr/>
            <p:nvPr/>
          </p:nvSpPr>
          <p:spPr>
            <a:xfrm>
              <a:off x="8021520" y="273816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54"/>
            <p:cNvSpPr/>
            <p:nvPr/>
          </p:nvSpPr>
          <p:spPr>
            <a:xfrm rot="10800000">
              <a:off x="8015400" y="29034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4" name="Group 555"/>
            <p:cNvGrpSpPr/>
            <p:nvPr/>
          </p:nvGrpSpPr>
          <p:grpSpPr>
            <a:xfrm>
              <a:off x="8016840" y="2733840"/>
              <a:ext cx="499680" cy="339480"/>
              <a:chOff x="8016840" y="2733840"/>
              <a:chExt cx="499680" cy="339480"/>
            </a:xfrm>
          </p:grpSpPr>
          <p:sp>
            <p:nvSpPr>
              <p:cNvPr id="515" name="Oval 556"/>
              <p:cNvSpPr/>
              <p:nvPr/>
            </p:nvSpPr>
            <p:spPr>
              <a:xfrm>
                <a:off x="8016840" y="273384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Line 557"/>
              <p:cNvSpPr/>
              <p:nvPr/>
            </p:nvSpPr>
            <p:spPr>
              <a:xfrm>
                <a:off x="8016840" y="290412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Group 546"/>
          <p:cNvGrpSpPr/>
          <p:nvPr/>
        </p:nvGrpSpPr>
        <p:grpSpPr>
          <a:xfrm>
            <a:off x="7937640" y="2773440"/>
            <a:ext cx="502560" cy="340920"/>
            <a:chOff x="7937640" y="2773440"/>
            <a:chExt cx="502560" cy="340920"/>
          </a:xfrm>
        </p:grpSpPr>
        <p:sp>
          <p:nvSpPr>
            <p:cNvPr id="518" name="Freeform 547"/>
            <p:cNvSpPr/>
            <p:nvPr/>
          </p:nvSpPr>
          <p:spPr>
            <a:xfrm rot="10800000">
              <a:off x="7937640" y="294408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48"/>
            <p:cNvSpPr/>
            <p:nvPr/>
          </p:nvSpPr>
          <p:spPr>
            <a:xfrm>
              <a:off x="7940520" y="277344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0" name="Group 549"/>
            <p:cNvGrpSpPr/>
            <p:nvPr/>
          </p:nvGrpSpPr>
          <p:grpSpPr>
            <a:xfrm>
              <a:off x="7938720" y="2774520"/>
              <a:ext cx="499680" cy="339840"/>
              <a:chOff x="7938720" y="2774520"/>
              <a:chExt cx="499680" cy="339840"/>
            </a:xfrm>
          </p:grpSpPr>
          <p:sp>
            <p:nvSpPr>
              <p:cNvPr id="521" name="Oval 550"/>
              <p:cNvSpPr/>
              <p:nvPr/>
            </p:nvSpPr>
            <p:spPr>
              <a:xfrm>
                <a:off x="7938720" y="2774520"/>
                <a:ext cx="49968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Line 551"/>
              <p:cNvSpPr/>
              <p:nvPr/>
            </p:nvSpPr>
            <p:spPr>
              <a:xfrm>
                <a:off x="7938720" y="294480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3" name="AutoShape 328"/>
          <p:cNvSpPr/>
          <p:nvPr/>
        </p:nvSpPr>
        <p:spPr>
          <a:xfrm>
            <a:off x="628560" y="2949480"/>
            <a:ext cx="995400" cy="750960"/>
          </a:xfrm>
          <a:custGeom>
            <a:avLst/>
            <a:gdLst>
              <a:gd name="textAreaLeft" fmla="*/ 307440 w 995400"/>
              <a:gd name="textAreaRight" fmla="*/ 687960 w 995400"/>
              <a:gd name="textAreaTop" fmla="*/ 286920 h 750960"/>
              <a:gd name="textAreaBottom" fmla="*/ 573840 h 750960"/>
            </a:gdLst>
            <a:ahLst/>
            <a:rect l="textAreaLeft" t="textAreaTop" r="textAreaRight" b="textAreaBottom"/>
            <a:pathLst>
              <a:path w="995363" h="750888">
                <a:moveTo>
                  <a:pt x="1" y="286813"/>
                </a:moveTo>
                <a:lnTo>
                  <a:pt x="380197" y="286815"/>
                </a:lnTo>
                <a:lnTo>
                  <a:pt x="497682" y="0"/>
                </a:lnTo>
                <a:lnTo>
                  <a:pt x="615166" y="286815"/>
                </a:lnTo>
                <a:lnTo>
                  <a:pt x="995362" y="286813"/>
                </a:lnTo>
                <a:lnTo>
                  <a:pt x="687776" y="464072"/>
                </a:lnTo>
                <a:lnTo>
                  <a:pt x="805266" y="750886"/>
                </a:lnTo>
                <a:lnTo>
                  <a:pt x="497682" y="573623"/>
                </a:lnTo>
                <a:lnTo>
                  <a:pt x="190097" y="750886"/>
                </a:lnTo>
                <a:lnTo>
                  <a:pt x="307587" y="46407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329"/>
          <p:cNvSpPr/>
          <p:nvPr/>
        </p:nvSpPr>
        <p:spPr>
          <a:xfrm>
            <a:off x="5705640" y="2513160"/>
            <a:ext cx="927000" cy="873000"/>
          </a:xfrm>
          <a:custGeom>
            <a:avLst/>
            <a:gdLst>
              <a:gd name="textAreaLeft" fmla="*/ 286560 w 927000"/>
              <a:gd name="textAreaRight" fmla="*/ 640440 w 927000"/>
              <a:gd name="textAreaTop" fmla="*/ 333360 h 873000"/>
              <a:gd name="textAreaBottom" fmla="*/ 667080 h 873000"/>
            </a:gdLst>
            <a:ahLst/>
            <a:rect l="textAreaLeft" t="textAreaTop" r="textAreaRight" b="textAreaBottom"/>
            <a:pathLst>
              <a:path w="927100" h="873125">
                <a:moveTo>
                  <a:pt x="1" y="333503"/>
                </a:moveTo>
                <a:lnTo>
                  <a:pt x="354123" y="333506"/>
                </a:lnTo>
                <a:lnTo>
                  <a:pt x="463550" y="0"/>
                </a:lnTo>
                <a:lnTo>
                  <a:pt x="572977" y="333506"/>
                </a:lnTo>
                <a:lnTo>
                  <a:pt x="927099" y="333503"/>
                </a:lnTo>
                <a:lnTo>
                  <a:pt x="640607" y="539618"/>
                </a:lnTo>
                <a:lnTo>
                  <a:pt x="750040" y="873122"/>
                </a:lnTo>
                <a:lnTo>
                  <a:pt x="463550" y="667004"/>
                </a:lnTo>
                <a:lnTo>
                  <a:pt x="177060" y="873122"/>
                </a:lnTo>
                <a:lnTo>
                  <a:pt x="286493" y="5396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330"/>
          <p:cNvSpPr/>
          <p:nvPr/>
        </p:nvSpPr>
        <p:spPr>
          <a:xfrm>
            <a:off x="7988400" y="2592360"/>
            <a:ext cx="900000" cy="763560"/>
          </a:xfrm>
          <a:custGeom>
            <a:avLst/>
            <a:gdLst>
              <a:gd name="textAreaLeft" fmla="*/ 277920 w 900000"/>
              <a:gd name="textAreaRight" fmla="*/ 622080 w 900000"/>
              <a:gd name="textAreaTop" fmla="*/ 291600 h 763560"/>
              <a:gd name="textAreaBottom" fmla="*/ 583560 h 763560"/>
            </a:gdLst>
            <a:ahLst/>
            <a:rect l="textAreaLeft" t="textAreaTop" r="textAreaRight" b="textAreaBottom"/>
            <a:pathLst>
              <a:path w="900113" h="763587">
                <a:moveTo>
                  <a:pt x="1" y="291663"/>
                </a:moveTo>
                <a:lnTo>
                  <a:pt x="343815" y="291666"/>
                </a:lnTo>
                <a:lnTo>
                  <a:pt x="450057" y="0"/>
                </a:lnTo>
                <a:lnTo>
                  <a:pt x="556298" y="291666"/>
                </a:lnTo>
                <a:lnTo>
                  <a:pt x="900112" y="291663"/>
                </a:lnTo>
                <a:lnTo>
                  <a:pt x="621960" y="471920"/>
                </a:lnTo>
                <a:lnTo>
                  <a:pt x="728207" y="763584"/>
                </a:lnTo>
                <a:lnTo>
                  <a:pt x="450057" y="583325"/>
                </a:lnTo>
                <a:lnTo>
                  <a:pt x="171906" y="763584"/>
                </a:lnTo>
                <a:lnTo>
                  <a:pt x="278153" y="4719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331"/>
          <p:cNvSpPr/>
          <p:nvPr/>
        </p:nvSpPr>
        <p:spPr>
          <a:xfrm>
            <a:off x="0" y="3343320"/>
            <a:ext cx="8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332"/>
          <p:cNvSpPr/>
          <p:nvPr/>
        </p:nvSpPr>
        <p:spPr>
          <a:xfrm>
            <a:off x="5813280" y="27543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Date Placeholder 3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7C94-0A64-4579-A5F5-90BC947C2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45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0" descr="Smart Card Reader - USB 2.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1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MCj04349490000[1]"/>
          <p:cNvPicPr/>
          <p:nvPr/>
        </p:nvPicPr>
        <p:blipFill>
          <a:blip r:embed="rId10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33" descr=""/>
          <p:cNvPicPr/>
          <p:nvPr/>
        </p:nvPicPr>
        <p:blipFill>
          <a:blip r:embed="rId11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1" descr=""/>
          <p:cNvPicPr/>
          <p:nvPr/>
        </p:nvPicPr>
        <p:blipFill>
          <a:blip r:embed="rId12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MCj04352420000[1]"/>
          <p:cNvPicPr/>
          <p:nvPr/>
        </p:nvPicPr>
        <p:blipFill>
          <a:blip r:embed="rId13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4352420000[1]"/>
          <p:cNvPicPr/>
          <p:nvPr/>
        </p:nvPicPr>
        <p:blipFill>
          <a:blip r:embed="rId14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MCj04352420000[1]"/>
          <p:cNvPicPr/>
          <p:nvPr/>
        </p:nvPicPr>
        <p:blipFill>
          <a:blip r:embed="rId15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MCj04352420000[1]"/>
          <p:cNvPicPr/>
          <p:nvPr/>
        </p:nvPicPr>
        <p:blipFill>
          <a:blip r:embed="rId16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239760" y="4187880"/>
            <a:ext cx="4079880" cy="213660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5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13B-FC90-4079-BAB7-B434DB1B1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5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5:32:39Z</dcterms:created>
  <dc:creator>helm</dc:creator>
  <dc:description/>
  <dc:language>en-US</dc:language>
  <cp:lastModifiedBy>helm</cp:lastModifiedBy>
  <dcterms:modified xsi:type="dcterms:W3CDTF">2009-05-12T10:40:12Z</dcterms:modified>
  <cp:revision>10</cp:revision>
  <dc:subject/>
  <dc:title>ESnet CA Cloning</dc:title>
</cp:coreProperties>
</file>