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90B7D-ECBF-400F-AC58-629E89766E9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9F74D-5D8E-4AAF-950B-F833D6C4FE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F9491-06C1-4255-ABAA-A26D29BFDE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60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028960"/>
            <a:ext cx="822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37280"/>
            <a:ext cx="822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524DB-2EAD-48AE-BB26-0FF5702BA1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60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02896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02896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3728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3728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37322-EE25-4418-B3DF-B9C8569983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60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02896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02896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02896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3728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3728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3728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8910A-BEE9-43E7-8D21-EFA6636647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529BD-7160-4CF2-915A-DA6A41DF492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260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202896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79D68-6C2C-4052-BA41-98D420D83E3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260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02896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C0D73-EE38-46DE-9406-90927E1E0C8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260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028960"/>
            <a:ext cx="4015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2028960"/>
            <a:ext cx="4015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129B8-1281-408E-ACDC-5325B4401AE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260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718EF-15E4-447B-8079-8B95B144089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1276200"/>
            <a:ext cx="82296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AA222-E8BC-4383-AC09-DE16CE63A99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260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02896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028960"/>
            <a:ext cx="4015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33728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CA591-4E44-46E2-9787-1315314661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60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02896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E5C11-A57E-4D93-BC20-A72E985031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260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028960"/>
            <a:ext cx="4015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202896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33728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A26DB-A0AC-42F0-B151-E892233119F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260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02896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02896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337280"/>
            <a:ext cx="822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EFC4B-612B-46D9-93A8-12385E5D3AC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260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2028960"/>
            <a:ext cx="822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337280"/>
            <a:ext cx="822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3F550-80F3-4B7C-ABB2-DA629A98A39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260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02896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202896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33728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33728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1FAEE-1749-4546-BACE-2B495053A78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260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02896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202896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202896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33728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33728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33728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C7100-458A-46AD-8BBE-27F004CD69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60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02896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BA716-0B12-460E-9AE1-4624A2CF98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60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028960"/>
            <a:ext cx="4015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028960"/>
            <a:ext cx="4015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84EE4-F4E7-45D6-A031-6BA8F73499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60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CCD3E-AAA9-4D93-9F72-8FDEE0E497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76200"/>
            <a:ext cx="82296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A1D17-E146-45B5-ADA2-EF136DC7E4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60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02896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028960"/>
            <a:ext cx="4015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3728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74C03-0EB1-419B-8C53-151BE6363D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60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028960"/>
            <a:ext cx="4015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02896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3728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D48D9-5112-44DE-AF52-C8B29437FE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60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02896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02896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37280"/>
            <a:ext cx="822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8055C-47D8-40EB-9C44-30519CA7E7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1" descr="QV_border_qv"/>
          <p:cNvPicPr/>
          <p:nvPr/>
        </p:nvPicPr>
        <p:blipFill>
          <a:blip r:embed="rId2"/>
          <a:stretch/>
        </p:blipFill>
        <p:spPr>
          <a:xfrm>
            <a:off x="-14400" y="-14400"/>
            <a:ext cx="9158400" cy="6872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2762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202896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52720"/>
            <a:ext cx="380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23C4A-78FE-4E2B-A839-482A16B0884B}" type="slidenum">
              <a:rPr b="0" lang="en-GB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6" descr="QVlogo2008.jpg"/>
          <p:cNvPicPr/>
          <p:nvPr/>
        </p:nvPicPr>
        <p:blipFill>
          <a:blip r:embed="rId3"/>
          <a:stretch/>
        </p:blipFill>
        <p:spPr>
          <a:xfrm>
            <a:off x="358920" y="311040"/>
            <a:ext cx="253980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QV_border_qv"/>
          <p:cNvPicPr/>
          <p:nvPr/>
        </p:nvPicPr>
        <p:blipFill>
          <a:blip r:embed="rId2"/>
          <a:stretch/>
        </p:blipFill>
        <p:spPr>
          <a:xfrm>
            <a:off x="-14400" y="-14400"/>
            <a:ext cx="9158400" cy="68724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QVlogo2008.jpg"/>
          <p:cNvPicPr/>
          <p:nvPr/>
        </p:nvPicPr>
        <p:blipFill>
          <a:blip r:embed="rId3"/>
          <a:stretch/>
        </p:blipFill>
        <p:spPr>
          <a:xfrm>
            <a:off x="339840" y="330120"/>
            <a:ext cx="2539800" cy="635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Swissanchor.gif"/>
          <p:cNvPicPr/>
          <p:nvPr/>
        </p:nvPicPr>
        <p:blipFill>
          <a:blip r:embed="rId4"/>
          <a:stretch/>
        </p:blipFill>
        <p:spPr>
          <a:xfrm>
            <a:off x="1373040" y="1935000"/>
            <a:ext cx="6143760" cy="1791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2762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202896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9BA7D-67F6-44CA-8AE6-F908310BED07}" type="slidenum">
              <a:rPr b="0" lang="en-GB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240" y="4350960"/>
            <a:ext cx="6451560" cy="80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QuoVadis Group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5235120"/>
            <a:ext cx="6400800" cy="90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oman Brunner, Group CE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Update for EUGridPMA – May 12, 200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2762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Example:  Trust/Link SSL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2028960"/>
            <a:ext cx="4280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-vetted details allows immediate issuance of SSL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emplates for consistency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paration of institution “accounts”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legated administration, ability to accommodate different approval regime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ingle login for Subscribers to manage all their SSL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ustom emails for lifecycle event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lexibility for certificate types, use of SANs, etc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QuoVadis can provide demonstrations for interested group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5008680" y="2092320"/>
            <a:ext cx="3597120" cy="26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240" y="4350960"/>
            <a:ext cx="6451560" cy="80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Roman Brunner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5235120"/>
            <a:ext cx="6400800" cy="90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.brunner@quovadisglobal.c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+41 71 272 60 6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2762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QuoVadis Snapshot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202896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unded 1999 as Commercial Certification Authority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ffices in Switzerland, UK, Holland, Bermuda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rganisations want to “use digital certificates” more than “run their own PKI”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mplexity of PKI policy and technology can distract from the actual busines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QuoVadis provides turnkey solutions surrounding digital certificates and digital signature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llow the customer to focus on their users and core systems/processe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ritical mass to provide: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pecialised registration systems to improve user experience, compliance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ure hosting and operations of the PKI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pport for arcane PKI issue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udits and accreditation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Wide distribution of roots in OS and Browser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2762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Do It Yourself ?</a:t>
            </a: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249480" y="397980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</a:rPr>
              <a:t>O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498600" y="1917720"/>
            <a:ext cx="135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Opera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policy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proced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1995120" y="541008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Archi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7665120" y="1373040"/>
            <a:ext cx="10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Poli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Appr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3622680" y="2819520"/>
            <a:ext cx="173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3305160" y="3741840"/>
            <a:ext cx="135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Opera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1523160" y="502920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Root 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313560" y="312408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Dire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3278160" y="576576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To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5604120" y="2666880"/>
            <a:ext cx="12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Smart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issu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3"/>
          <p:cNvSpPr/>
          <p:nvPr/>
        </p:nvSpPr>
        <p:spPr>
          <a:xfrm>
            <a:off x="4750200" y="3505320"/>
            <a:ext cx="118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Vali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2224080" y="4191120"/>
            <a:ext cx="12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Na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con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318200" y="4343400"/>
            <a:ext cx="13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Regul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compl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311040" y="5105520"/>
            <a:ext cx="106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Renew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4606920" y="167148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O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7630920" y="5070600"/>
            <a:ext cx="132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Rev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9"/>
          <p:cNvSpPr/>
          <p:nvPr/>
        </p:nvSpPr>
        <p:spPr>
          <a:xfrm>
            <a:off x="2016360" y="3124080"/>
            <a:ext cx="139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Reg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0"/>
          <p:cNvSpPr/>
          <p:nvPr/>
        </p:nvSpPr>
        <p:spPr>
          <a:xfrm>
            <a:off x="8034120" y="352116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Leg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li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1"/>
          <p:cNvSpPr/>
          <p:nvPr/>
        </p:nvSpPr>
        <p:spPr>
          <a:xfrm>
            <a:off x="5083200" y="565452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CP &amp; C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2"/>
          <p:cNvSpPr/>
          <p:nvPr/>
        </p:nvSpPr>
        <p:spPr>
          <a:xfrm>
            <a:off x="3729240" y="2006640"/>
            <a:ext cx="101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Back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3"/>
          <p:cNvSpPr/>
          <p:nvPr/>
        </p:nvSpPr>
        <p:spPr>
          <a:xfrm>
            <a:off x="2704680" y="495288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Firew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4"/>
          <p:cNvSpPr/>
          <p:nvPr/>
        </p:nvSpPr>
        <p:spPr>
          <a:xfrm>
            <a:off x="7313760" y="4206960"/>
            <a:ext cx="163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Bus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continuity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5"/>
          <p:cNvSpPr/>
          <p:nvPr/>
        </p:nvSpPr>
        <p:spPr>
          <a:xfrm>
            <a:off x="418320" y="5816520"/>
            <a:ext cx="246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Policy and Proced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6"/>
          <p:cNvSpPr/>
          <p:nvPr/>
        </p:nvSpPr>
        <p:spPr>
          <a:xfrm>
            <a:off x="6505920" y="5649840"/>
            <a:ext cx="142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organ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7"/>
          <p:cNvSpPr/>
          <p:nvPr/>
        </p:nvSpPr>
        <p:spPr>
          <a:xfrm>
            <a:off x="6743160" y="1828800"/>
            <a:ext cx="8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Tr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8"/>
          <p:cNvSpPr/>
          <p:nvPr/>
        </p:nvSpPr>
        <p:spPr>
          <a:xfrm>
            <a:off x="3842640" y="5207040"/>
            <a:ext cx="17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End-to-end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9"/>
          <p:cNvSpPr/>
          <p:nvPr/>
        </p:nvSpPr>
        <p:spPr>
          <a:xfrm>
            <a:off x="994320" y="381780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Operations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0"/>
          <p:cNvSpPr/>
          <p:nvPr/>
        </p:nvSpPr>
        <p:spPr>
          <a:xfrm>
            <a:off x="7498800" y="2514600"/>
            <a:ext cx="13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System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1"/>
          <p:cNvSpPr/>
          <p:nvPr/>
        </p:nvSpPr>
        <p:spPr>
          <a:xfrm>
            <a:off x="5557680" y="19051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2"/>
          <p:cNvSpPr/>
          <p:nvPr/>
        </p:nvSpPr>
        <p:spPr>
          <a:xfrm>
            <a:off x="2084040" y="1922400"/>
            <a:ext cx="119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end-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3"/>
          <p:cNvSpPr/>
          <p:nvPr/>
        </p:nvSpPr>
        <p:spPr>
          <a:xfrm>
            <a:off x="5758920" y="4724280"/>
            <a:ext cx="12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4"/>
          <p:cNvSpPr/>
          <p:nvPr/>
        </p:nvSpPr>
        <p:spPr>
          <a:xfrm>
            <a:off x="2346840" y="26748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5"/>
          <p:cNvSpPr/>
          <p:nvPr/>
        </p:nvSpPr>
        <p:spPr>
          <a:xfrm>
            <a:off x="384120" y="434340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6"/>
          <p:cNvSpPr/>
          <p:nvPr/>
        </p:nvSpPr>
        <p:spPr>
          <a:xfrm>
            <a:off x="6059520" y="373392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7"/>
          <p:cNvSpPr/>
          <p:nvPr/>
        </p:nvSpPr>
        <p:spPr>
          <a:xfrm>
            <a:off x="6977880" y="2895480"/>
            <a:ext cx="12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Concept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25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30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350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400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4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5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5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600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65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700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750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8000"/>
                            </p:stCondLst>
                            <p:childTnLst>
                              <p:par>
                                <p:cTn id="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850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900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950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500"/>
                            </p:stCondLst>
                            <p:childTnLst>
                              <p:par>
                                <p:cTn id="1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1000"/>
                            </p:stCondLst>
                            <p:childTnLst>
                              <p:par>
                                <p:cTn id="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1500"/>
                            </p:stCondLst>
                            <p:childTnLst>
                              <p:par>
                                <p:cTn id="1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2500"/>
                            </p:stCondLst>
                            <p:childTnLst>
                              <p:par>
                                <p:cTn id="1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3000"/>
                            </p:stCondLst>
                            <p:childTnLst>
                              <p:par>
                                <p:cTn id="1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3500"/>
                            </p:stCondLst>
                            <p:childTnLst>
                              <p:par>
                                <p:cTn id="1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4000"/>
                            </p:stCondLst>
                            <p:childTnLst>
                              <p:par>
                                <p:cTn id="1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4500"/>
                            </p:stCondLst>
                            <p:childTnLst>
                              <p:par>
                                <p:cTn id="1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5000"/>
                            </p:stCondLst>
                            <p:childTnLst>
                              <p:par>
                                <p:cTn id="1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5500"/>
                            </p:stCondLst>
                            <p:childTnLst>
                              <p:par>
                                <p:cTn id="1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6000"/>
                            </p:stCondLst>
                            <p:childTnLst>
                              <p:par>
                                <p:cTn id="1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2762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Service Overview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202896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igital Certificat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nd User certificates, including Qualified and Advanced certificates, for various uses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unctional certificates, including ElDI-V/GeBüV, code signing, gateway, etc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SL including the new Extended Validation SSL.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Managed PK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utsourced certification authorities (CA) that can be tailored to the particular needs of a client or community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apid-deployment Trust/Link registration authority (RA) web portals for easy issuance for both End User and SSL certificates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igning Servic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rusted time-stamping to reinforce data integrity and non-repudiation in the submission, storage/archive, or tracking of electronic records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igital signing tools (both client and server side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Root Servic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oot CA hosting for organisations wishing to set up their own trust anchors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oot CA signing enhances the trust and recognition of customers’ in-house CAs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KI policy, technologies, and integration into customer environments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2762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Root Distribution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2028960"/>
            <a:ext cx="4038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rowser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icrosoft Internet Explorer 5.0+ (including Maxthon and others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ozilla Firefox 1.02+ (including Camino, Fennec, and Sea Monkey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pera 9.26+ (including Opera Mini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afari 1.0+  (including mobile Safari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oogle Chrome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Konqueror and K-Meleon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Operating Syste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icrosoft Windows XP+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pple OS/X+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IM Blackberry 4+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KD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Java (in progress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48320" y="2028960"/>
            <a:ext cx="4038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Email Client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pple Mail.app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udora 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icrosoft Entourage 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icrosoft Outlook 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icrosoft Outlook Express 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ozilla Thunderbird 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ozilla Sea Monkey 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IM Blackberry Mail (part of Core Applications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icrosoft Office 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pen Office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ide array of OSS applications that use the Mozilla NSS libraries 3.9+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Adobe Acrobat (in progress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2762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Audits and Accreditations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202896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QuoVadis seeks accreditations in support of our client needs: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WebTrust for Certification Authoritie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WebTrust for Extended Validation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Swiss Qualified Certification Services Provider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Netherlands Qualified Certification Services Provider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Bermuda Authorised Certification Services Provider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Currently obtaining PKI Overheid Accreditation in the Netherland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Picture 2" descr="http://www.quovadisglobal.bm/~/media/Images/CompanyLogos/logo%20bermudaCSP.ashx"/>
          <p:cNvPicPr/>
          <p:nvPr/>
        </p:nvPicPr>
        <p:blipFill>
          <a:blip r:embed="rId1"/>
          <a:stretch/>
        </p:blipFill>
        <p:spPr>
          <a:xfrm>
            <a:off x="7550280" y="5557680"/>
            <a:ext cx="453960" cy="8398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http://www.quovadisglobal.bm/~/media/Images/CompanyLogos/WebTrust%20CA.ashx"/>
          <p:cNvPicPr/>
          <p:nvPr/>
        </p:nvPicPr>
        <p:blipFill>
          <a:blip r:embed="rId2"/>
          <a:stretch/>
        </p:blipFill>
        <p:spPr>
          <a:xfrm>
            <a:off x="2576520" y="5557680"/>
            <a:ext cx="668160" cy="8240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http://www.quovadisglobal.bm/~/media/Images/CompanyLogos/WebTrustEV.ashx"/>
          <p:cNvPicPr/>
          <p:nvPr/>
        </p:nvPicPr>
        <p:blipFill>
          <a:blip r:embed="rId3"/>
          <a:stretch/>
        </p:blipFill>
        <p:spPr>
          <a:xfrm>
            <a:off x="4259160" y="5556240"/>
            <a:ext cx="668520" cy="8049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http://www.quovadisglobal.bm/~/media/Images/CompanyLogos/logo%20swissCSP.ashx"/>
          <p:cNvPicPr/>
          <p:nvPr/>
        </p:nvPicPr>
        <p:blipFill>
          <a:blip r:embed="rId4"/>
          <a:stretch/>
        </p:blipFill>
        <p:spPr>
          <a:xfrm>
            <a:off x="1035000" y="5557680"/>
            <a:ext cx="544680" cy="8607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QuoVadis BSI seal ETS 010 for Dutch CSP"/>
          <p:cNvPicPr/>
          <p:nvPr/>
        </p:nvPicPr>
        <p:blipFill>
          <a:blip r:embed="rId5"/>
          <a:stretch/>
        </p:blipFill>
        <p:spPr>
          <a:xfrm>
            <a:off x="5943600" y="5557680"/>
            <a:ext cx="622440" cy="8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2762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QuoVadis Grid CA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6840" y="2028960"/>
            <a:ext cx="4197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ustom GridCA built for SWITCH in compliance with EUGridPMA standard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Updates made to QuoVadis CP/CP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olved from QuoVadis relationship providing SSL to SWITCH institutions using Trust/Link SSL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vailable for other EUGrid members’ use: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Reduce PKI management burden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imple interface for user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hained to QuoVadis root for wider “trust” in end user software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1"/>
          <a:stretch/>
        </p:blipFill>
        <p:spPr>
          <a:xfrm>
            <a:off x="5245200" y="1952640"/>
            <a:ext cx="311148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2762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EUGridPMA Accreditation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202896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UGridPMA team has performed a detailed review and approval of: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he QuoVadis CP/CP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he QuoVadis Grid Issuing CA, End User, Server and CRL certificate profile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he repository on the QuoVadis website (http://www.quovadisglobal.com/repository) contains  the QuoVadis Grid Issuing CA certificate, the Grid CRL, and the QuoVadis Root Certificate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Update to CP/CPS will be posted when CA goes into production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QuoVadis are currently in progress with the TACAR application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A big thanks to all the EUGridPMA reviewers for all their hard work, time, and input!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2762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Certificate Types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202896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Grid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End User certificate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for authentication and secure e-mai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Grid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Server certificate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for authentication and secure communication with Grid resourc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Grid members who wish to use the Grid CA would sign up as Participating Institutions/Registration Authoriti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QuoVadis is working with SWITCH to document procedures for RA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ertificates will be issued and managed using our Trust/Link web applications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rust/Link For End 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rust/Link For SS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8T13:09:53Z</dcterms:created>
  <dc:creator>EVC</dc:creator>
  <dc:description/>
  <dc:language>en-US</dc:language>
  <cp:lastModifiedBy>bkilborn</cp:lastModifiedBy>
  <dcterms:modified xsi:type="dcterms:W3CDTF">2009-05-11T13:37:20Z</dcterms:modified>
  <cp:revision>226</cp:revision>
  <dc:subject/>
  <dc:title>Slide 1</dc:title>
</cp:coreProperties>
</file>