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CB0-6D50-4F90-8B38-7F2B09FF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3776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C9C-A1E0-4343-A926-B81F2038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385C-2EC5-47B1-ABD9-9E5B4540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5DD-87B0-480D-BAFA-94DBA383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E89-C265-4B94-B827-703862CD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0E5-37E4-4EBC-AC5E-80792E63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2D9-5EFD-460F-8B97-D56DFF5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2B2-5DF1-4F4A-9D5D-ABF0F417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2C5-75D5-4408-A7A2-0B1F857A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BFE-799C-4830-AA75-DB043C5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306-7055-41F8-ACE2-58BBA50F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C4B-9051-46FC-A3F0-30961479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3071-15F1-4D4F-A770-289AFB778FCD}" type="slidenum">
              <a:rPr b="0" lang="en-GB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ngs"/>
          <p:cNvPicPr/>
          <p:nvPr/>
        </p:nvPicPr>
        <p:blipFill>
          <a:blip r:embed="rId3"/>
          <a:stretch/>
        </p:blipFill>
        <p:spPr>
          <a:xfrm>
            <a:off x="4140360" y="5734080"/>
            <a:ext cx="4765680" cy="952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gridpp2_logo"/>
          <p:cNvPicPr/>
          <p:nvPr/>
        </p:nvPicPr>
        <p:blipFill>
          <a:blip r:embed="rId4"/>
          <a:stretch/>
        </p:blipFill>
        <p:spPr>
          <a:xfrm>
            <a:off x="611280" y="5842080"/>
            <a:ext cx="27367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Jens’ 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soap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85520" y="3714840"/>
            <a:ext cx="7715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’t be a PMA without a Soapbox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Jens Jensen, R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U GridPMA, Switch, Z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ich, 11-13 May 2009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frastructu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14240" y="2285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tworks – (internet/web needed for at least CR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NS, inter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NS, exter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chines, hardwa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hysical prot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tern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Front) datab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gging and archiving (if different) (WORM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 operator interfa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gning infrastruct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SM, if us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datab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per and/or onlin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people/ro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 Mana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884160" indent="-4680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, adm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A manager mana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884160" indent="-4680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managers, RA operators (variation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(Self)audi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“Manual” Trus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2960" y="2356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hotocopies (or equiv) of 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ppointment lett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INs, if 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ivate keys throughout PK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ssphr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tern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4240" y="20714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0070c0"/>
                </a:solidFill>
                <a:latin typeface="Lucida Grande"/>
              </a:rPr>
              <a:t>availabil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dundancy, monitor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00b050"/>
                </a:solidFill>
                <a:latin typeface="Lucida Grande"/>
              </a:rPr>
              <a:t>integr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ckup, integrity check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confidential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cryption, physical protection, release proce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509520" y="3143160"/>
            <a:ext cx="2465280" cy="10688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dit resul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nal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lf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ternal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43040" y="2071440"/>
            <a:ext cx="62150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Assurance – Lo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Effort – L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Expertise – Lo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evel of Contribution? – Lo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ing change – inertia – Lo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nghy vs supertank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Reputation(?) – L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tching up with changing requirem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neral rule of decay and obsolesce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mponents, docum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: Rule of that curvy t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CA – exception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ping with special cases and erro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on a case by case bas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e humans vs comps later in pr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S II &amp; I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OLICY AND SOFTWAR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WHAT IS A CA?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dde Caesari quae sunt Caesari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o orthogonise or no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Jens’ Law of Humans vs Comput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Jens’ Law of Complex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CP/CPS Templ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“1”SC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software – see next Pa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s (non-exhaustive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2960" y="2356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ither describe separate dimens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private key prot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identity vetting W&amp;F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scribe with O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IDs are not order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.e,. .1 &gt; .2 &gt; .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Straight Connector 22"/>
          <p:cNvSpPr/>
          <p:nvPr/>
        </p:nvSpPr>
        <p:spPr>
          <a:xfrm flipH="1">
            <a:off x="2356920" y="5286240"/>
            <a:ext cx="7164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5"/>
          <p:cNvSpPr/>
          <p:nvPr/>
        </p:nvSpPr>
        <p:spPr>
          <a:xfrm flipH="1">
            <a:off x="3214800" y="5286240"/>
            <a:ext cx="7128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onde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nstead of “how is it implemented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is the goal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LoA is achiev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APs relate to each other in this respe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 mapp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r no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44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thog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a good th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parates things that are separ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odula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n-orthog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asier to interpre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ngle mapping to other levels (maybe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384000" y="514368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it makes sense to do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ivate key in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ssword protec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r genera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ertificate pers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2F id vett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GTF-reke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 am a Classic…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384000" y="514368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it makes sense to do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w of Humans vs Comput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puters are good at computer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ke computers do them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umans are good at human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ive human things back to huma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perating Manu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existing pract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special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scourage too much creativ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uidelines – goo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n IGTF CA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the institution running the issuing autho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the trust anchor, a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cert and a (sub-)namespa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collection of certs and namespa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person (le roi, c’est moi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w of Complexit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simple things simple, complex things possible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things as simple as possible, but not simpler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Complexity has to go somewhe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e Software Triang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Isosceles Triangle 3"/>
          <p:cNvSpPr/>
          <p:nvPr/>
        </p:nvSpPr>
        <p:spPr>
          <a:xfrm>
            <a:off x="2571840" y="2643120"/>
            <a:ext cx="3857400" cy="2714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071960" y="20718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500880" y="478620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227520" y="492912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mplex)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 – web CA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F can no longer import certs from fil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ckwards DNs, IE on Vist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version from PKCS#12 to PE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ort/export for non-personal ce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rust web sites flag not set on cert imp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new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ort into brows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pem of course is O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taining use of private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igning Polici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ation of RPDN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Good(ish) certs outside RPDN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ore softwa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FC will release Java clients softwa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n Source lice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 soon as I get round to doing i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Java clients STFC-licen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ree (beer) for non-commerci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oapbo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l of the above (ish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lus the following…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4240" y="226188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pport infrastructure (eg helpdesk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tact emails (e.g., .info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ront end – certificate request/downloa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1360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newal and RA interface (if differen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ck end – signing servi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R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1360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d OCSP, if avail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otification ser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suance, renewal, reke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voc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ame, most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nusual ev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atisfying repository oblig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ublications according to local (usu country) la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GT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PDNC… (see later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 manager’s GPG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ACAR registration paper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ttendance rec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MA most recent presentation rec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MA most recent audit rec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GT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MA reviewer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itial, re-review: mails, spreadshee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inreq and AP implement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1:45:44Z</dcterms:created>
  <dc:creator>jj47</dc:creator>
  <dc:description/>
  <dc:language>en-US</dc:language>
  <cp:lastModifiedBy>jj47</cp:lastModifiedBy>
  <dcterms:modified xsi:type="dcterms:W3CDTF">2009-05-12T14:05:55Z</dcterms:modified>
  <cp:revision>135</cp:revision>
  <dc:subject/>
  <dc:title>Slide 1</dc:title>
</cp:coreProperties>
</file>