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B62-36F2-4FC2-AB5B-2C19622E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CC51-C911-4A13-8C4C-E8E8A52C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240-6BD6-4E93-B97A-FC633E69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F0F-4623-430B-B023-65C20752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831-241F-4833-9D61-F52C5ED5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FEC-E8DA-4A77-9FF4-5E452205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5A5-6225-470C-8D94-B5523D13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308-5216-4683-A7E7-6BA6A044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CBE-6DEB-4B6B-B4B8-660F0385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11F-51B8-4718-88BF-AE8825DA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2826-3A5E-4E65-B452-ADE0532F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561-BDD1-4325-989E-917C6C74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FBC9E-C082-4A8C-BEF7-7EC88ACC1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isk Assessment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tagpma.es.net/wiki/bin/view/IGTF-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gtf-rat@eugridpm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B0F90-3B20-4B39-8398-12A7C29DE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Ps Not Updating CRL U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Grids CA reported (Apr 11) that about 25% of CRL requests are to the old UR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L changed in IGTF distribution a month earl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is a concer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ction should we t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20FAF-3E31-420E-8519-33055693A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D5 hash collisions in X.509 certific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for new certificates issued using MD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GTF should not have any of thes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90102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so concern about MD5 weakness in genera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 certificates (and subordinat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ld CNRS subordinate using MD5; new CNRS2 hierarchy using SHA1 released Januar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PACGrid, Grid-Ireland, UK eScience, KFKI RMKI, IUCC, Polish Grid, Grid Canada still using MD5 in CR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rid-Ireland and UK eScience will switch to SHA-1 by Ju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xy certificates (Globus, VOMS, MyProx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us migrating away from MD5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tp://bugzilla.globus.org/globus/show_bug.cgi?id=661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EF093-AF76-470F-91DD-B2056ADA7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EC)DSA EE Ke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SSL client vuln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ikely that IGTF CAs have certified (EC)DSA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90108.t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 requested CAs to a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CAs found (EC)DSA certific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(EC)DSA certificates valid until Aug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60ED1-895D-47A5-A785-A2831269A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nity Checking Requ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SA Exponent &lt; 655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ware tokens (pkcs11-tool) tend to generate exponents 3 &amp; 5 by defa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n-weak (Debian OpenSSL)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C)D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FC43F-200F-4F36-8715-4EDAC580C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6C258-B76D-4EEF-8AF9-D097D76CC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ttp://tagpma.es.net/wiki/bin/view/IGTF-RAT/2009-0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melin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5 Jan: RAT begins drafting mess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1 Feb: Request sent to CA opera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3 Feb: 57 of 80 CAs responded; reminder s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2 Mar: 75 of 80 CAs responded; reminder s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6 Mar: 77 of 80 CAs respon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7 Apr: 77 of 80 CAs responded; reminder s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 Apr: 78 of 80 CAs respon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E7F85-2F8C-443C-9A3F-34FE19E4F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CAs issued certificates containing (EC)DSA keys, expiring by Aug 27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 CAs issued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CAs are currently issuing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 CAs issued CRLs using MD5. 7 are currently issuing CRL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9 CAs have implemented automated checks for RSA keys with weak expon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CAs have implemented automated checks for known weak Debian OpenSSL ke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8 CAs have implemented automated checks for issued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2B8F0-F4FF-4057-976A-E383C2865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ail to CA contact address in distrib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survey (surveymonkey.co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bjection received; response sent by email inst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s considered priv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y results publi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publish response times for each C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E7381-D08D-47C3-9331-702B7A52F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-1 -&gt; SHA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D5 weaknesses remind us about weaknesses in SHA-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ST advises to replace SHA-1 by end of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-1 Collision search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iaik.tugraz.at/content/research/krypto/sha1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is our level of concern about SHA-1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ath forward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stand software support for SHA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with middleware providers to support SHA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urage upgrade to OpenSSL 0.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relying parties support SHA-2 (in 2010?), begin issuing SHA-2 certific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0D9FD-7364-4B1E-AA39-E4DFAE052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0:22:18Z</dcterms:created>
  <dc:creator>Jim Basney</dc:creator>
  <dc:description/>
  <dc:language>en-US</dc:language>
  <cp:lastModifiedBy>Jim Basney</cp:lastModifiedBy>
  <dcterms:modified xsi:type="dcterms:W3CDTF">2009-05-11T00:52:10Z</dcterms:modified>
  <cp:revision>15</cp:revision>
  <dc:subject/>
  <dc:title>IGTF RAT</dc:title>
</cp:coreProperties>
</file>