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594C-F91C-4BBC-B058-E038796D930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8C82-A799-4A26-9DE8-B7716F66959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A4DD-2653-4154-8CFE-A1E97CD58EE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5A5C-4328-45CC-B20C-208EA3BC51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E69B-B524-4537-9B7A-E6BC886297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3FD4-780A-40F3-A087-6D08290866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1609-3AAC-4F1B-80C8-598D394073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984A-D770-4006-9AFD-6DD9218268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4313-8381-4AFD-8730-25CE757BF8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3CA8-9652-441C-8297-E005A53C92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EBA8-C8F8-4A77-A239-301AA09450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3FD4-83CC-4D63-9EFE-E6E3D0A3C6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0AEB-9A47-42B9-BFFF-6557C3FA11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2087-2B15-4278-A109-2F61E546AE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CF94-F949-437E-A409-D0E0B2478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D7BA-AA36-4E4B-881B-E3AB857FCE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3494-9CF5-4273-8EB7-937807F5E9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4AA9-34B7-40D4-9851-5E287B6104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5E2A-94DA-4DBA-9D04-19772F2F58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1FC2-4AB2-4A88-AAA2-4772B77F2D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48C1-DC5F-440E-ACDB-663A18288F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E67D-3CD9-457F-9D49-4BD6E315F3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BDB7-3948-4761-87FD-228E11E9F6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104A-5414-494F-9954-96DB702F3F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25F-E107-4B23-AAEF-B472A86B864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13A-DB12-4E37-859A-8F806A7E9BA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250-FDCD-4CDE-85AF-0CC83E5CBB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D8B-40EB-4431-B9D9-0F5DDE9C9C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4B9-2C4D-4FD9-A0EC-CC005FF9F7B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F7C-40D9-480A-A322-D2487B3432D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F55-180B-4327-A25B-A4623C92C6C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41E-E4D6-4930-90D6-EEC34754AC5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9CE-0CE2-48B8-A34C-EED19AF49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E9A-BE2E-484D-A4E8-A7B1BB4693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D87-6800-463D-968F-1B5A9DD48A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2E8-21FE-43B8-B40D-CF4B6532E85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879200"/>
            <a:ext cx="736632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60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be6030"/>
              </a:solidFill>
              <a:latin typeface="Verdana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91520" cy="14223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19007400">
            <a:off x="-329760" y="297000"/>
            <a:ext cx="1751040" cy="355320"/>
          </a:xfrm>
          <a:prstGeom prst="rect">
            <a:avLst/>
          </a:prstGeom>
          <a:solidFill>
            <a:srgbClr val="bd0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Hellas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596880" y="3822840"/>
            <a:ext cx="10147320" cy="3035160"/>
          </a:xfrm>
          <a:prstGeom prst="roundRect">
            <a:avLst>
              <a:gd name="adj" fmla="val 6273"/>
            </a:avLst>
          </a:prstGeom>
          <a:solidFill>
            <a:srgbClr val="ebebe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algn="ct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algn="ct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algn="ct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86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176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352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9880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47880" y="1942920"/>
            <a:ext cx="280692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353160" indent="-2286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66640" indent="-2286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760" indent="-2286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01124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22472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22472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22472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86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176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352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9880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36680" indent="-2588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1" marL="725400" indent="-2426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2" marL="1058760" indent="-25848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3" marL="1376280" indent="-2588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4" marL="1681200" indent="-2588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5" marL="1681200" indent="-258840">
              <a:spcBef>
                <a:spcPts val="1599"/>
              </a:spcBef>
              <a:buClr>
                <a:srgbClr val="000000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6" marL="1681200" indent="-258840">
              <a:spcBef>
                <a:spcPts val="1599"/>
              </a:spcBef>
              <a:buClr>
                <a:srgbClr val="000000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02320"/>
            <a:ext cx="9144000" cy="355680"/>
          </a:xfrm>
          <a:prstGeom prst="rect">
            <a:avLst/>
          </a:prstGeom>
          <a:solidFill>
            <a:srgbClr val="bdbdbd"/>
          </a:solidFill>
          <a:ln w="12600">
            <a:solidFill>
              <a:srgbClr val="65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91520" cy="142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19007400">
            <a:off x="-355680" y="283680"/>
            <a:ext cx="1751040" cy="355680"/>
          </a:xfrm>
          <a:prstGeom prst="rect">
            <a:avLst/>
          </a:prstGeom>
          <a:solidFill>
            <a:srgbClr val="bd0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Verdana"/>
              </a:rPr>
              <a:t>HellasGrid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8780040" y="6540120"/>
            <a:ext cx="2811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191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668C-C678-4F73-B706-B8388497CC31}" type="slidenum">
              <a:rPr b="0" lang="en-US" sz="1200" spc="-1" strike="noStrike">
                <a:solidFill>
                  <a:srgbClr val="919191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160" y="6572160"/>
            <a:ext cx="618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19191"/>
                </a:solidFill>
                <a:latin typeface="Verdana"/>
                <a:ea typeface="Verdana"/>
              </a:rPr>
              <a:t>16th EUGridPMA Meeting, 13 May 2009, Zur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50976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8408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699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5576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297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297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297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3124080"/>
            <a:ext cx="9144000" cy="3581280"/>
            <a:chOff x="0" y="3124080"/>
            <a:chExt cx="9144000" cy="3581280"/>
          </a:xfrm>
        </p:grpSpPr>
        <p:sp>
          <p:nvSpPr>
            <p:cNvPr id="122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9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9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6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81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920" y="312408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8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2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5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62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7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9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24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69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6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1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3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920" y="312408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0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29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15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67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0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72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24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77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29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18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34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86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39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91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34340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4068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 fontScale="65000"/>
          </a:bodyPr>
          <a:p>
            <a:pPr marL="91440"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" indent="-65880" algn="ctr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91440" indent="-65880" algn="ctr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3869280" y="1003680"/>
            <a:ext cx="150840" cy="48448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2"/>
          </p:nvPr>
        </p:nvSpPr>
        <p:spPr>
          <a:xfrm>
            <a:off x="8034480" y="6248520"/>
            <a:ext cx="3124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C3F4-C3EA-4565-B0DB-9DCDA2AF1EA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263" name=""/>
            <p:cNvSpPr/>
            <p:nvPr/>
          </p:nvSpPr>
          <p:spPr>
            <a:xfrm>
              <a:off x="0" y="259092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342900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350532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302760"/>
            <a:ext cx="8001000" cy="167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7132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marL="44280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5064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60440" indent="-31752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3480" indent="-30168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36760" indent="-295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36760" indent="-295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36760" indent="-295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"/>
          </p:nvPr>
        </p:nvSpPr>
        <p:spPr>
          <a:xfrm>
            <a:off x="8034480" y="6248520"/>
            <a:ext cx="3124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E072-D897-4788-B8D4-79B9F3C9749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3962520" cy="13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406440" y="3378240"/>
            <a:ext cx="417816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406440" y="990720"/>
            <a:ext cx="417816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tria@grid.auth.gr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88840" y="1447920"/>
            <a:ext cx="73663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6030"/>
                </a:solidFill>
                <a:latin typeface="Verdana"/>
              </a:rPr>
              <a:t>Towards Managed Credential Stores and a “national” virtual smart card</a:t>
            </a:r>
            <a:endParaRPr b="0" lang="en-US" sz="4000" spc="-1" strike="noStrike">
              <a:solidFill>
                <a:srgbClr val="be6030"/>
              </a:solidFill>
              <a:latin typeface="Verdana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4965840"/>
            <a:ext cx="6858000" cy="1726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96800" algn="r">
              <a:lnSpc>
                <a:spcPct val="98000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Christos Kanellopoulos (skanct@grid.auth.g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Christos Triantafyllidis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tria@grid.auth.gr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16th EUGridP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Zurich, 13 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-152280" y="3809880"/>
            <a:ext cx="98168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t has been stated numerous times: </a:t>
            </a:r>
            <a:r>
              <a:rPr b="0" lang="en-US" sz="2200" spc="-1" strike="noStrike" u="sng">
                <a:solidFill>
                  <a:srgbClr val="c36a3d"/>
                </a:solidFill>
                <a:uFillTx/>
                <a:latin typeface="Verdana"/>
              </a:rPr>
              <a:t>The users do not want to deal with certificat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57C2-CCAE-4B6F-AD10-F4A60A3109C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ill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y are a proven technology for working on distributed computing infrastructur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and most importantly the provide a solution NOW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D6FD-F282-420A-8EFB-E137955D318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to make the user experience bett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88840" y="1333440"/>
            <a:ext cx="7366320" cy="49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ry to move many of the standard operations to the web (registering to the grid, joining VOs, accessing UIs </a:t>
            </a:r>
            <a:r>
              <a:rPr b="0" i="1" lang="en-US" sz="2200" spc="-1" strike="noStrike">
                <a:solidFill>
                  <a:srgbClr val="c36a3d"/>
                </a:solidFill>
                <a:latin typeface="Verdana"/>
              </a:rPr>
              <a:t>[14th EUGridPMA meeting, Lisbon]</a:t>
            </a: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Leverage emerging national AAI as a more user friendly service for the user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 MyProxy service for long term proxy storage. Retrieve proxies on  demand. What about security?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r convenience vs  Security !!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94B2-11C8-46FA-909B-144A97839A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urity vs common pract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88840" y="1333440"/>
            <a:ext cx="7366320" cy="513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Almost all users generate their key pairs through the browser faciliti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can be exported from the keystore of the browser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t is up to the user to configure the keystore in order to set a pass-phrase for accessing its content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are also stored on a UI protected by filesystem ACL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rs store long term proxies on various MyProxy services for their convenience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B142-8373-452B-B14B-27B112B75A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on proble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Browser incompatibilities (IE6 vs IE7 vs IE8 vs Firefox vs Chrome etc etc)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How to transfer their certificates from the browser to the UI (or the other way around)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orgetting passphras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Losing the private key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0405-23E8-49DA-8D97-B17750C1CE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on User Pract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Almost all users generate their key pairs through the browser faciliti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can be exported from the keystore of the browser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t is up to the user to configure the keystore in order to set a pass-phrase for accessing its content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are also stored on a UI protected by filesystem ACLs 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D46D-95A5-4C6C-A9A2-C1CCF95813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the works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On the HellasGrid Training Infrastructure we are focusing on using Greek National AAI in order to provide on demand generation and delivery of key pairs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One MyProxy service as an online CA, to generate and store user key pair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 the production MyProxy service  to use for proxy storage and delegation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A646-8D04-46CC-8042-AF94D3C0E1C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antages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88840" y="1333440"/>
            <a:ext cx="7366320" cy="518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marL="1109520" indent="-25848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user does not have to deal with private/public key generation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2" marL="1109520" indent="-25848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or normal grid usage the user just uses proxies and thus the private key pair does not have to be exposed in a large number of places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2" marL="1109520" indent="-25848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n case the user accidentally loses the key pair they can retrieve it again from the service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1C2D-AF11-476B-A6BD-AD02FA3203C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s Triantafyllidis</dc:creator>
  <dc:description/>
  <dc:language>en-US</dc:language>
  <cp:lastModifiedBy/>
  <cp:revision>0</cp:revision>
  <dc:subject/>
  <dc:title>HellasGrid CA - RA Duties</dc:title>
</cp:coreProperties>
</file>