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A68-D409-4C93-9996-3F919637DA42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15657-EB2B-4CFD-A0DF-45AD291F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3F1A-83B8-4173-93A5-FE4B46E4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C8230-AA86-4B72-BD4B-C00ACFE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920B8-9422-48A3-88D0-8DB5429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6D272-F0DA-4AF0-8DD7-3C325F8E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3D32-7040-426C-B7C0-69D2DDF9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DE50A-06B7-4664-8181-1417AEA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76B44-526D-477D-A336-F187269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D0252-E547-46EE-9A71-E6A935A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A2FC-DD7E-4DAA-B7F5-4699E576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EF3CB-EF00-448E-A906-11E8E23E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DDB6A-9B4A-4129-95BB-E8EEC007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44920"/>
            <a:ext cx="34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th EUGridPMA Mtg, 11 May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7ED-9D03-4670-A4F1-E78D133FA5E4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EBA0-F881-4C3F-9BBE-BC2D638254D9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gpma.org/files/MICS_AP_FINAL_1.1.pdf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jpe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c.pdf" TargetMode="External"/><Relationship Id="rId2" Type="http://schemas.openxmlformats.org/officeDocument/2006/relationships/hyperlink" Target="http://tagpma.es.net/wiki/bin/view/Main/SLCS2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6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n Update from the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AGPM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Zurich, Switzerland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11th May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492280"/>
            <a:ext cx="3527280" cy="1287000"/>
            <a:chOff x="468360" y="249228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49228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13668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032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version of the MICS profile (V1.0 17/07/2007) is undergoing revi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approved V1.1 (02/05/08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agpma.org/files/MICS_AP_FINAL_1.1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 to bring it in line with other profi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es NOT contain changes (yet) to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e next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nguage used in Profi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membership growing stead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versity is leading to various (valid?) interpretations of Auth. Profile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lot of common/similar text in all three 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s the true intent of the policy statements being captured by the current language in the APs or is the meaning of the writers being forgo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e Jens’ Kihon Soapbox Present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brought this up at the last EUGridPMA meeting with respect to the Classic Pro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r MICS, TAGPMA members are requesting an IGTF discussion on what constitutes “traceability” before addressing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ther Relevant Highl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vived Bridge W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hen can we move to SHA-2?” discu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Jim Basney showed that InCommon Federation’s Silver Identity Assurance Policy meets current SLCS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oE Grids Audit Report – Some interesting feedback that perhaps should somehow filter back into Yoshio’s Audit guidelines – See Mike’s tal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ould be happy to be responsible for DoE Grid CA should ESnet wish to transfer accreditation from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lmost Accredited FiNALl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ermi Lab’s SLSC CA is almost accredited (credits to Irwin Gaines) – only missing the OK from one reviewer for the Operational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be in the next IGTF distrib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so expect NCSA’s Federated-SLCS CA to be accredited before the next distribution is due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urther questions to Jim Basn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MICS CA from TACC is also pretty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roposing a joint PMA (IGTF all hands) meeting in Banff, Alberta, Canada, during week of the 12th October 2009, co-located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GF 27, 12th to 16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EEE Grid 2009, 13th to 15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ybera/CANARIE National Summit, 13th to 15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Considering extending the IGTF Session to one and half or two days during OGF and using some part of Saturday 17th to minimise overlap with other ev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lease discu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Given Banff is going to busy, need to make arrangements and reservations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s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13th M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in and participate in any of our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6720" y="1484280"/>
            <a:ext cx="5182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RC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Snet (DOEGrids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(PSC)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4"/>
          <a:stretch/>
        </p:blipFill>
        <p:spPr>
          <a:xfrm>
            <a:off x="0" y="1916280"/>
            <a:ext cx="3697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tinues to be 22 Members from North, Central and South Ame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1 IGTF Accredited CAs (8 Classic, 2 SLCS, 1 M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urther 1 Classic, 2 SLCS and 1 MICS CAs in process of accreditation </a:t>
            </a: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(more on this later)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+ 3 more about to 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harter updated (currently v2.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lines process for “involuntary resignation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embership states: active; inactive (automatic if don’t participate in TAGPMA activities for a year); and suspended (requires TAGPMA vot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oss of membership implies loss of accredi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90760"/>
            <a:ext cx="807552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s of the Cyprus EUGridPMA meeting (Jan 2009), accreditation transferred to TAG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has handed over/back management and operations of the Canadian Grid CA to Canadian National Research Council (NR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has substituted CANARIE as a TAGPMA member with Roger Impey is the new P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will audit existing system then upgrade entire infrastructure and update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NRC do not expect any interruption to the serv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usted Introducer (nominated by the Chai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Term of office ends in July 2009. Elections to be held between May and June. Existing officers will not be running again so expect new names for next me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at Pittsburgh Supercomputing Center, Pittsburgh, PA, 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, 2009, 9am – 6p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genda detail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7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Full minutes will be posted so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Highlights to follow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Just Prior to the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SC hosted a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derated Identity Workshop (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 open to the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bjective was to discuss the state of existing and upcoming Federation technologies; what is available and what is needed for interoperability between different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resentation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nCommon seemed keen to work IGTF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erizon Business (CyberTrust) showed willingness host IGTF CAs along the lines (I guess) of Quo Vad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With SafeNet/Aladdin merger less likely to have HSM-like tok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Charter Amend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TAGPMA voted to approve the EUGridPMA proposed amendment to Namespace Assignment Policy described in Section 3.1 of V1.1 of the IGTF Charter (25 June 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approved version of the SLCS Profile is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.1c, 03/02/2009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c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nly minor changes from 2.1b to 2.1c (correction to referenc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plete revision history on the wiki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bin/view/Main/SLCS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5-11T00:11:41Z</dcterms:modified>
  <cp:revision>103</cp:revision>
  <dc:subject>EUGridPMA Zurich May 2009</dc:subject>
  <dc:title>TAGPMA Updates</dc:title>
</cp:coreProperties>
</file>