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600D-27B5-4F7F-85A0-F4862FB7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381-B9D1-4FE8-9D43-A441578E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DCD-F789-414E-B42F-DD1A32F7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BC48-6492-4F61-8155-62297D75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1AAC-7C60-40E4-8001-8B600B83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A767-1FAF-48D8-B6F2-67CFA4FD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2D1-F658-4AC6-B948-3700AC6C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E232-F77E-4B6C-AA64-04812EBD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468-27E1-45DE-B6B0-F73C4188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9D5D-C874-4336-9C7F-230558A3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A015-C10C-419B-A165-56A81D97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8A0-9700-4776-8B2C-70F16DBC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351A3D-46DE-42F0-BDD7-066B6E070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isk Assessment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ttp://tagpma.es.net/wiki/bin/view/IGTF-R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gtf-rat@eugridpma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0E774-F908-49CF-9227-DCC6A2241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mbe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 membership is open to all IGT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ct igtf-rat@eugridpma.org to join and help with the risk assessment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AFF9B-0C8C-4D3E-840D-C99D71085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 Audit (2009-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tagpma.es.net/wiki/bin/view/IGTF-RAT/2009-0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imelin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 Jan: RAT begins drafting me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Feb: Request sent to CA ope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3 Feb: 57 of 80 CAs responded; reminder 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Mar: 75 of 80 CAs responded; reminder 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6 Mar: 77 of 80 CAs respo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7 Apr: 77 of 80 CAs responded; reminder 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 Apr: 78 of 80 CAs respo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May: 79 of 80 CAs respond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Aug: 80 of 80 CAs respo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FC5C7-BDED-4F42-A1F0-3F3137C39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 Audit (2009-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ult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CAs issued certificates containing (EC)DSA keys, which will all be expired by Aug 27 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CAs issued certificate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CAs were currently issuing certificate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 CAs issued CRL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 CAs were currently issuing CRL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CAs had implemented automated checks for RSA keys with weak expon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1 IGTF CAs had implemented automated checks for known weak Debian OpenSSL ke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8 IGTF CAs had implemented automated checks for issued certificate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C053B-EC4F-40D1-96F9-3B5A7C497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unications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tagpma.es.net/wiki/bin/view/IGTF-RAT/2009-0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imelin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5 Aug: Request sent to CA ope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6 Aug: 74 CAs responded within 24 hours; 20 CAs did not; follow-up request sent to non-responding 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7 Aug: 15 more CAs responded; results posted to igtf-general, after which 1 more CA respo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 Aug: MD-Grid CA respo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ill no response from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fee79b0 IUC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42edd45 CAL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a661490 PolishGr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FEEDA-53AA-467B-8949-761FE9EAC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L Issues In Augu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 that failed to update their CRLs prior to the Next Update dat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3f0f4285 ULAGrid-CA-200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42edd45 CAL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 that failed to update their CRLs at least 3 days prior to the NextUpdate dat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f0e8352 NorduGri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4c3ccde UNAMgrid-c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3f0f4285 ULAGrid-CA-200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6fee79b0 IUC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42edd45 CAL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d0d064a MARG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99f9f5a3 FNAL-SLC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7bcb7b2 UNLPGri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254cc30 CERN-Roo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Ls that could not be downloaded for over 24 hour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367b75c3 UKeScienceCA-200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3f0f4285 ULAGrid-CA-200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6e3b436b AustrianGri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b54708e MaGri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98ef0ee5 UKeScienceRoot-200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Ls with Last Update date in the futu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42edd45 CAL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86B7F-8AAB-41CE-AE74-0580B1F2D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D5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 issuing MD5 CR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e12d831 APAC (CA cert expires Jan 201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e43b9cc Grid-Ireland (CA cert expires Jul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67b75c3 UKeScienceCA-200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A cert expires Oct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e5501f3 RMKI (CA cert expires Oct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 certificates with MD5 signa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4a509c3 CNRS-Projets (expires Apr 20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f4ba8c8 CNRS (expires Apr 20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BA960-6502-4FF8-9EC4-7FE7A7124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-1 -&gt; SHA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ttps://twiki.grid.iu.edu/bin/view/Security/HashAlgorith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su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reTLS in Java CoG Kit (jglobus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ttp://bugzilla.globus.org/globus/show_bug.cgi?id=673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A-2 support in OpenSSL starting in RHEL5/SL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Lite 3.1 using RHEL4 through 201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Lite 3.2 using RHEL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clusion: Grid middleware not ready for SHA-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8940B-507C-437F-B8D1-15460D5DC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ll-Prefix Atta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ttp://www.thoughtcrime.org/software/sslsnif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ull character in subject of certificate requ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N=www.paypal.com\0.thoughtcrim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N=*\0.thoughtcrim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icks automated checks performed by 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icks TLS software hostname matching algorith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act on IGTF host certificate request verificat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: NCSA MICS does automated verification; existing sanity checks reject null-prefix reque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AA846-022A-4D07-8745-DD890C005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5:37:02Z</dcterms:created>
  <dc:creator>Jim Basney</dc:creator>
  <dc:description/>
  <dc:language>en-US</dc:language>
  <cp:lastModifiedBy>Jim Basney</cp:lastModifiedBy>
  <dcterms:modified xsi:type="dcterms:W3CDTF">2009-09-10T17:56:30Z</dcterms:modified>
  <cp:revision>2</cp:revision>
  <dc:subject/>
  <dc:title>IGTF Risk Assessment Team</dc:title>
</cp:coreProperties>
</file>