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F69C4-BAD4-403A-B249-C282EBBF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8BC8A-29D1-4A6F-9B19-A14A14E8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83CF9-FD56-4736-B122-50C4FC24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2BCAC-8BC1-499A-B4AE-C799874F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DB6C3-7BF5-4772-911C-802F7A58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E5C9A-954E-4652-AEFD-B7F6F793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4B8CF-C56C-4410-BDF1-5E2E9D3B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53368E-02A0-46D3-AE30-A3F42D27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CAF11-DC2D-4484-BCD1-5ABB65AA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E2D6D-88D7-4B6B-9743-C052FFB6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C25A4-F0BB-4D70-9F55-5DFD21EE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D5829-2245-431B-8CB3-B0A03D37E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84000" y="6237000"/>
            <a:ext cx="50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cott Rea – </a:t>
            </a:r>
            <a:r>
              <a:rPr b="1" lang="en-GB" sz="1400" spc="-1" strike="noStrike" u="sng">
                <a:solidFill>
                  <a:srgbClr val="0000ff"/>
                </a:solidFill>
                <a:uFillTx/>
                <a:latin typeface="Verdana"/>
                <a:ea typeface="ＭＳ Ｐゴシック"/>
              </a:rPr>
              <a:t>scott.rea@dartmouth.edu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187280" y="981000"/>
            <a:ext cx="669780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51672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E4AA-15E3-410E-AF67-4EFCEFBFD357}" type="slidenum"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441440" cy="132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24360" y="333000"/>
            <a:ext cx="45338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700E-2336-4C90-AFD4-26B960B68338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2095560" cy="1924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agpma.es.net/wiki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280" y="2924280"/>
            <a:ext cx="48229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An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Update from the TAGPMA</a:t>
            </a:r>
            <a:br>
              <a:rPr sz="3200"/>
            </a:br>
            <a:r>
              <a:rPr b="0" lang="en-GB" sz="2800" spc="-1" strike="noStrike">
                <a:solidFill>
                  <a:srgbClr val="0000ff"/>
                </a:solidFill>
                <a:latin typeface="Impact"/>
              </a:rPr>
              <a:t>Scott Rea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68360" y="4941720"/>
            <a:ext cx="7983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Impact"/>
              </a:rPr>
              <a:t>EuGridPMA Mtg, Berlin, DE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Impact"/>
              </a:rPr>
              <a:t>Sept 13, 2009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572000" y="765000"/>
            <a:ext cx="3527280" cy="1287000"/>
            <a:chOff x="4572000" y="765000"/>
            <a:chExt cx="3527280" cy="1287000"/>
          </a:xfrm>
        </p:grpSpPr>
        <p:sp>
          <p:nvSpPr>
            <p:cNvPr id="87" name=""/>
            <p:cNvSpPr txBox="1"/>
            <p:nvPr/>
          </p:nvSpPr>
          <p:spPr>
            <a:xfrm>
              <a:off x="4626000" y="765000"/>
              <a:ext cx="21812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1409400"/>
              <a:ext cx="35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Americas Gri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New Lead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New Officers elected in July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Chair: 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Scott Rea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 (Dartmout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Vice Chair: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Roger Impey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 (CANARI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ecretary: 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Doug Olson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 (OSG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Outgoing Offic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Much appreciation to our outgoing Offic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Vinod Rebello (Chai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Jim Marsteller (V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Marg Murray (Se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urrent TAGPMA Memb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763640" y="1125360"/>
          <a:ext cx="6842160" cy="5115240"/>
        </p:xfrm>
        <a:graphic>
          <a:graphicData uri="http://schemas.openxmlformats.org/drawingml/2006/table">
            <a:tbl>
              <a:tblPr/>
              <a:tblGrid>
                <a:gridCol w="1943280"/>
                <a:gridCol w="504720"/>
                <a:gridCol w="1785960"/>
                <a:gridCol w="2608200"/>
              </a:tblGrid>
              <a:tr h="2829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iz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resenta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y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uben Aqui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LAGr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e Stol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L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avier Dia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AR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ger Impe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U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ndra Jaq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78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NP-UF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nod Rebell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78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nod Rebell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78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C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g Murr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, M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75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EGrid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ke Hel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(EU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im Basne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 x 2, M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RS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reyas Chol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2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N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rwin Ga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S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ug Ols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raGr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im Marstell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C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ve Kelse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rtmouth/HEB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Re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Gr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an Si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---------------------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--------------------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----------------------------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AND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res Hogu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(in-proces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NAMH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chard Migu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(in-proces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S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rgio Liet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(propose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8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DS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Saka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CS (propose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0" y="260280"/>
            <a:ext cx="66358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urrent TAGPMA Memb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23 Members from North, Central and South Amer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Covering Canada, US, Mexico, Venezuela, Chile, Peru Argentina, Brazil, and Colombia. Two Catchall CAs cover the remaining countri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15 IGTF Accredited 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9 Classic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Verdana"/>
              </a:rPr>
              <a:t>TACC - US, UFF BrGrid &amp; UFF LACGrid - Brazil, UNLPGrid - Argentina, REUNA – Chile, ULAGrid – Venezuela, GridCanada, UNAM - Mexico.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Verdana"/>
              </a:rPr>
              <a:t>NOTE: DOE Grid accredited by EUGridPM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4 SLCS (NCSA x 2, FermiLabs, and NERSC - U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2 MICS (NCSA and TACC - U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2 CAs pending accreditation, 2 more proposed &amp; ac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2 Classic pending (SENAMHI – Peru, UNIANDES - Colombi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1 Classic proposed (ANSP – Br), 1 MICS proposed (SDSC – US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5 Relying Par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(OSG, TeraGrid, THEgrid, LCG, Dartmouth/HEBC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2 Members in suspended status due to inactiv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UVA (Jim Jokl), Purdue (Greg Barne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ommunication Infrastruc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IGTF Website http://www.igtf.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Website http://www.tagpma.or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Hosts static, public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Still undergoing upda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twiki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(s)://tagpma.es.net/wiki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hosts TAGPMA documents, tutorials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Mailing lis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gpma-general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and other IGTF aliases managed by ESne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Email any issues direct to the Chair (Scott.Rea@Dartmouth.EDU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ummary of New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9th TAGPMA F2F at PSC, Pittsburgh, 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April 30</a:t>
            </a:r>
            <a:r>
              <a:rPr b="0" lang="en-US" sz="20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– May 2</a:t>
            </a:r>
            <a:r>
              <a:rPr b="0" lang="en-US" sz="2000" spc="-1" strike="noStrike" baseline="30000">
                <a:solidFill>
                  <a:srgbClr val="333399"/>
                </a:solidFill>
                <a:latin typeface="Verdana"/>
              </a:rPr>
              <a:t>nd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,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Details can be found here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ttp://indico.rnp.br/conferenceDisplay.py?confId=47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Preceded by 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Federated Identity Day (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April 29</a:t>
            </a:r>
            <a:r>
              <a:rPr b="0" lang="en-US" sz="20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Details can be found her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http://indico.rnp.br/conferenceDisplay.py?confId=48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Recent Accredit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TACC (MIC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FNAL (SLC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NCSA (Federated SLC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Next TAGPMA F2F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10th TAGPMA F2F at Banff, 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eptember 15</a:t>
            </a:r>
            <a:r>
              <a:rPr b="0" lang="en-US" sz="24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– 17</a:t>
            </a:r>
            <a:r>
              <a:rPr b="0" lang="en-US" sz="24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,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ombined with IGFT All-Hands mee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rrangements can be found here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ttp://indico.rnp.br/conferenceDisplay.py?confId=66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Preceded by OGF #2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Including CAO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ee http://www.summit09.ca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Conference Cal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Fortnightly Video Conference Call are now on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Wednesdays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Next one is 23rd September, 11am CD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Video arrangements: Video ESNet 884483 or GDS 0011349884483 or phone 1-510-883-7860 884483#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The agenda is usually posted on tagpma-general the day before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Feel free to join to attend meeting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Verdana"/>
              </a:rPr>
              <a:t>Than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23:38:54Z</dcterms:created>
  <dc:creator>Scott Rea</dc:creator>
  <dc:description/>
  <dc:language>en-US</dc:language>
  <cp:lastModifiedBy>Scott</cp:lastModifiedBy>
  <dcterms:modified xsi:type="dcterms:W3CDTF">2009-09-14T11:05:04Z</dcterms:modified>
  <cp:revision>119</cp:revision>
  <dc:subject>EUGridPMA Berlin DE</dc:subject>
  <dc:title>TAGPMA Update</dc:title>
</cp:coreProperties>
</file>