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669-80DE-4FB8-86D8-3CF1F3D4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E1B-8FDF-4EAB-B745-DA02DB7F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DBD-0E55-42C8-B601-60A23AD1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B35-B305-4734-916E-E3DABDBF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272-08BE-4813-881E-6460118B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DA4-B7AA-4C5C-880D-78B1157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CA2-AA3B-4087-B64E-BF5180C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235-D417-430C-82E9-B2F3DCD6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406-1A7F-447B-9D34-4E6AC78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EB2-CA27-499F-8F84-C8C178C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BEC-8579-49E7-8D68-1AAD1DD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FF5-DB2F-446E-8B00-001F089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F563-2655-4AC9-9E37-7FD09D9259F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12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gridpp2_logo"/>
          <p:cNvPicPr/>
          <p:nvPr/>
        </p:nvPicPr>
        <p:blipFill>
          <a:blip r:embed="rId3"/>
          <a:stretch/>
        </p:blipFill>
        <p:spPr>
          <a:xfrm>
            <a:off x="5572080" y="361800"/>
            <a:ext cx="3183120" cy="892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ngs.jpg"/>
          <p:cNvPicPr/>
          <p:nvPr/>
        </p:nvPicPr>
        <p:blipFill>
          <a:blip r:embed="rId4"/>
          <a:stretch/>
        </p:blipFill>
        <p:spPr>
          <a:xfrm>
            <a:off x="5929200" y="5734080"/>
            <a:ext cx="28940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ivate Robot Key Nam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TFC Rutherford Appleton La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rlin, Sep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Membership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le enabl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uthoris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use of key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permitt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purposes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is not necessarily person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may be a prox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: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bot Certific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delegate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role-to-use RC to o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human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g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wner obtains commitment that certificate is used for permitted purpos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restricted by owner beyond restrictions by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wo Separate Cas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(see also Soapbox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huma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cting via someone else’s certific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something else’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automated (true robo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Dele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uz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 do some smtg on behalf of sbd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re more dynami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princip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access can be managed by someone else (delegation of delegation is deleg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Prox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ll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scape the evil controlling clutches of the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call previous discussion re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rid monitoring jobs, Grid jobs (eg portal), Mailing list management, 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stricting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restrict the access to authorised us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log who the user was, if applicable (W&amp;F discussion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ensure certificate is used for permitted purpo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is in system designer, admi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gging, requires individual Au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mitted purposes restricted by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strict further : by AuZ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ther a true cert or a proxy is irreleva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beit proxying takes key out of CA’s rem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ious comments on naming robots meaningful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 role then it should name a role (human backen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n automated agent then it should name what it *is* (not what it doe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ihon - Private Key Prot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nd robot 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me will reappear in 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W&amp;F: identif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Subscri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stinguish Subscriber and E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 is responsible for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E is named in the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: EE == 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588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DN reasonably identifying Subscriber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ll client cert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ed use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iz., by the role mem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sertions by the CA when po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means of AuC to cert could be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s of exdir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o State The Obviou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must of course conform to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in’l reqs, robot reqs (insofar as they exist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CP/CPS of the issuing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GTF policy (insofar as it exis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960" y="26427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 is OK to be conf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fusion arises through lack of 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ack of comprehension is norm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perience+cogitation-&gt;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rehension-&gt;IGT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gorithm, Siz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ifetime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ocation timeliness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tecting host, filesystem, key, HSM, SS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backups are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activated/deactiv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1424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login as root, login on ho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nowing a password/passphr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HSM in FIPS140-2 L3: smartca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based authorisation =&gt; Robo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rea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960" y="257184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nauthorised us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ft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notic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ticed, but key is still avail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ey is gon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rtial theft of key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truction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iti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960" y="285768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ccess control to (use of)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of key logged secure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ysical controls, provable contro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CKSS, ironical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ngs are sometimes not as secure as they se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Your Homework Assign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(&amp; Areas for Research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2960" y="278568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best practices (eg via CAOP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rove following are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ure logging use of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enting use other than authori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tter authorisation too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ole Based 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ther Type of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55:48Z</dcterms:created>
  <dc:creator>Jens Jensen</dc:creator>
  <dc:description/>
  <dc:language>en-US</dc:language>
  <cp:lastModifiedBy>jj47</cp:lastModifiedBy>
  <dcterms:modified xsi:type="dcterms:W3CDTF">2009-09-15T11:22:28Z</dcterms:modified>
  <cp:revision>84</cp:revision>
  <dc:subject/>
  <dc:title>PowerPoint Presentation</dc:title>
</cp:coreProperties>
</file>