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417C6-6602-495D-A057-A835E2C2B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84E45-FB71-4B87-9C64-AA29271A5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8CA457-5A43-4D3C-8F76-C0AACE47D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0582F-2625-44D0-B491-B2A8D46AF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10AD58-CDCF-446D-9186-6D552329D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B2568-45B5-43B0-BB15-B69728D26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AA0F3-57DE-499A-8DAA-8E2214127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 Termination: should define clearly in Charter how to terminate a CA if the operation project/institute ends before CA life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8A4821-A720-480C-934B-28D351C75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3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3.png"/><Relationship Id="rId24" Type="http://schemas.openxmlformats.org/officeDocument/2006/relationships/image" Target="../media/image4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3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0" y="1125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s of the APGrid P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611280" y="2786040"/>
            <a:ext cx="79214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UGridPMA F2F@Berl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ptember 14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16000" y="4135320"/>
            <a:ext cx="6985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shio Tan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6 + 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79280" y="714240"/>
            <a:ext cx="454500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4 Accredited 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PAC (A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SG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NIC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CA (I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HEP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ISTI (K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AREGI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CH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CTEC (TH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O/Netrust (S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AGMA-UCSD (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KU (H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648320" y="838080"/>
            <a:ext cx="434340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iGrid (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ongol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eral member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0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saka U. (J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1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. Hyderabad (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2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SM (M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3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verage by 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4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hilippine, Vietnam, Malaysia, Indonesia, New Zealand and Sri Lanka (so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108080" y="44280"/>
            <a:ext cx="80359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updates since Zurich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0" y="762120"/>
            <a:ext cx="914400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ID status in APGridP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7 Completed : HKU, IGCA, KISTI, APAC, ASGCCA, NECTEC GOC-CA and NCHC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7 In Progres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, KEK, NAREGI and PRAGMA-UCSD (wait for NAREGI new patc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NIC, IHEP and NGO/Netrust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GTF RAT communication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ey need to reply within one business d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ct time : Aug 25 – 2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sult: all APGridPMA members complete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4% responded within one da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46% responded after the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reques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PGridPMA Services migration to ASGC is under 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eb site, Nagios, Mirror of IGTF distrib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w member in Asia Pacif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1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ongolia (Mongolian University of Science and Technology ) is preparing CP/C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1619280" y="41400"/>
            <a:ext cx="7416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xt Ev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395280" y="907920"/>
            <a:ext cx="84978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nff, Canada, in conjunction with OGF27 and Grid200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pected particip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, APAC/ARCS, ASGC, NAREGI/N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(mayb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genda from APGridPMA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TF Policy implemened in APGridP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/Membership Termination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olls of APAC have been taken over by AR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RCS (AU) SL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y generation by a por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0:50:08Z</dcterms:created>
  <dc:creator>David Groep</dc:creator>
  <dc:description/>
  <dc:language>en-US</dc:language>
  <cp:lastModifiedBy>Yoshio Tanaka</cp:lastModifiedBy>
  <dcterms:modified xsi:type="dcterms:W3CDTF">2009-09-14T07:53:46Z</dcterms:modified>
  <cp:revision>131</cp:revision>
  <dc:subject/>
  <dc:title>International Grid Trust Federation Session  GGF 18 Washington, DC, USA</dc:title>
</cp:coreProperties>
</file>