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BAA9-E982-4C4A-9EEA-A21D17C1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criteria for exp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sampl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ighlight how we can compare auto-mappe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criteria for exp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sampl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ighlight how we can compare auto-mappe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rustworthiness of any PKI rests upon expectations for trust and the degree to which those expectations are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olicies document expectations for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e-Science, financial institutions, U.S. Feder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Demand consistent processes, efficient, transparent, reproduc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urrent CP operations are time consuming, lack end user transparency, difficult to re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formed trust decisions should be based on processes that consistently estimate actual organization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urrently-practiced, manual CP operations are costly, time-consuming, lack end-user transparency, and are difficult to reprodu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Blacklist or whitelist individual pro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allow, coarse policy 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Ps are reference works, encode their referenc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he mechanisms for policy retrieval are largely unrelated to the mechanisms for citing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he mechanisms for policy retrieval are largely unrelated to the mechanisms for citing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Klobucar stated need for policy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DFA-6D46-4F58-BCC6-F6EDFF70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A81-52C4-4F9A-B530-018960E0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6BA-4C9B-41F4-8117-7A5B4783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F85-C06B-4FE8-8B19-0794E052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8F7-A201-4B3F-9642-C4875FE8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AB0-1AE6-4DA6-977B-A01072C7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024-A9CD-4A52-A957-F1D1FDD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CCD-F57D-40E7-904A-4445C854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6BB-C677-4BCD-943F-ABF3EADA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1E9-C1B6-4AE9-8C49-DF42FC4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F4B-831B-4E1E-AA24-B02B1656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E9E-495E-41C8-8291-6556CCB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CBAA-4797-4B6F-A870-10A5C9BAF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ts3.sourceforge.net/" TargetMode="External"/><Relationship Id="rId2" Type="http://schemas.openxmlformats.org/officeDocument/2006/relationships/hyperlink" Target="http://pkipolicy.appspot.com/" TargetMode="External"/><Relationship Id="rId3" Type="http://schemas.openxmlformats.org/officeDocument/2006/relationships/hyperlink" Target="mailto:gweave01@cs.dartmouth.edu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kipolicy.appspot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Computational Framework for Certificate Policy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abriel A. Weaver, Scott Rea, Sean W. Smi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artmouth Colle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more, higher-quality information for comparing C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aring policy is a fundament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iven a set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riteri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enerate a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olicy provision, and a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ource Text:  Just grab the source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FC 2119:  Find discrepancies between significance of CP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1E8-5BBE-4352-8641-AD172CA3B4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rter -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P comparison is subjective, so we timed how long it takes to aggregate information needed to compare C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Hypothesis: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tomated processes take less time and provide better-quality information than non-automated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Setup: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Given CPs in PDF on disk or loca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me to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me to do RFC 2119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al benefit comes from value-added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BD4-F322-45CE-A8DB-ADAFA92975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534520" cy="2976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33148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Ma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form the content of a CP/CPS in 2527 format into 3647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ping a 2527 to 3647 requires 20% more effort than two 3647 CPs.  Avg. mapping takes 80-120 hours in a bridge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FC 3647 defines tables, takes many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r mapping transforms 2527 to 3647 in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an flexibly configure the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covered errors in the transformation table (2.1 -&gt; 2.6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714-A596-491D-8CDC-31B8B3F839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ture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xtra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rases, NLP for more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pic-driven extractions (eg. How does a policy handle Personnel?) (FPKIPA-CP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pand the PKI Policy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alyze the policies to extract common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roll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ord senses (e.g. ‘reasonable’ as in Dutch law versus Englis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mparison of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81C-620E-448F-A6BE-BA7B2E2565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ture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esigning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licy annotation (annotate phrases or word sen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tomatically extracting mapping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pporting GU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ligning policy enforcement mechanisms with policy via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se the automatic certificate validation from Dublin (Dav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ract inputs to the cert. validator directly from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PM-backed servi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97120" y="3657600"/>
            <a:ext cx="539460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6C1-1365-4C09-A589-21E78CD084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/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4640" y="4495680"/>
            <a:ext cx="5103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cts3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pkipolicy.appspo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act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gweave01@cs.dartmouth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TS workshop in Washington D.C. in 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icies document expectations for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mand for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consisten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rtificate policy (CP)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pro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d in PKI Compliance Audit, Policy Mapping for Bridging, Grid Accred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igned, built, &amp; evaluated a computational framework for CP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B67-E36C-4949-99DF-2709E59FB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formalization of PKI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utational Tools &amp;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ture Researc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716-696F-42C1-BAEF-9779D856ED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r Formalization of Certificat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Formalizing Certificate Poli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laim that computationally processing machine-actionable CPs would be mo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TS-U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I-XML encoding of reference structure (2527, 364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chine-actionable, but human readable (FPK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lgorithms are consistent, unambiguous, reproduc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670572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834-5678-4514-AE3F-8A28E3DE8F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si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KI audits, accreditation, and policy mapping depend upon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ference and retriev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C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vigate texts by logical reference (versus page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pository sets stage for processing CP cont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mi-automated process to extract and encode P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itial repository @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pkipolicy.appspo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83502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A8D-80A2-47AB-B741-290984B52D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Enco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iginally, encoding PDF as XML took 4-6 hours.  Now down to 15 minutes at m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DF -&gt; Text -&gt; XML -&gt;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tch missing/malformed pro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FB3-C903-4CB5-8A16-51A95BFAA1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utational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Tools:  PKI Policy Buil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hine-assisted policy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py and paste in the real world (IGT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t may not fully understand poli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r approach:  Pull polici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fill out 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clude references (CTS-URNs) to copied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e how many policy statements pulled from previously-approved C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346-0807-484D-81BF-BE95707A3F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4:25:17Z</dcterms:created>
  <dc:creator>Michael Weaver</dc:creator>
  <dc:description/>
  <dc:language>en-US</dc:language>
  <cp:lastModifiedBy>Michael Weaver</cp:lastModifiedBy>
  <dcterms:modified xsi:type="dcterms:W3CDTF">2009-09-16T06:45:42Z</dcterms:modified>
  <cp:revision>16</cp:revision>
  <dc:subject/>
  <dc:title>A Computational Framework for Certificate Policy Operations</dc:title>
</cp:coreProperties>
</file>