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12E-B148-409C-9109-B37CFF05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739-B1B1-4AD3-806B-7AAEE25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0A3-92C7-4F17-95EC-9FEDE077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C6F-44F4-4529-A931-784EAC35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019-0ACA-4B55-8C10-69D39261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F1B-E882-4CDC-AD01-7078145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5F-8E9C-4ECA-811A-9DE4BD3B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0AB-B6AC-461A-A61E-C618D56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70D-05F0-42B7-8ECE-CA50A02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B12-3443-46CB-B806-52E1E60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E8D-CA11-4499-AF11-A0E11B2A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7DB-F17A-4781-B3EC-299BC92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4BF4-19A3-46DF-989E-D10E5C3D06A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InterWiki" TargetMode="External"/><Relationship Id="rId2" Type="http://schemas.openxmlformats.org/officeDocument/2006/relationships/hyperlink" Target="https://grid.ie/eugridpma/wiki/InterWiki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AA_Profi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Dubl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19 Jan 2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efinition of “attribute”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is a string, a named property which may be associated with an entity... </a:t>
            </a: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expand this definition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assertion is a statement that a subject is a holder of a specific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 VOMS, an attribute is a group, role or generalised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6198-217B-462A-BC9B-67CE2700974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ttribut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xplai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Relying party requirements on lifetime of attributes, schema etc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attribute assertion must link the attribute to one and only one explicitly named entity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lifetime of the assertion should take into account the dynamic nature. Not more than 24 hours. (MS)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ynamic updating of the attribute schema by the VO is required ...</a:t>
            </a: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29A-A5C9-40A0-B694-CB54C7E0037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very AA must have an Attribute Practice Statement (APS Document) and assign it a globally unique object identifier (OID)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B21-DA9F-4682-BF26-8084642D939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should at least contai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CC2-DA6F-4C1F-A91E-72D32776592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APS should be public and made available, except for the operational environment which must be disclosed to the accrediting bod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PS document should be structured as defined in a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62B8-7BA0-4164-A2E0-663DD030E64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aming ... AA:&lt;reasonable representation of name of aasp &gt; - &lt;arbitrary non-null string identify the server or VO set by CA or requested by AASP&gt;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xamp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wlcg-vom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voms411.cern.ch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86A-FCF7-42C8-AF37-E912E73EE19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proces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be one AASP per organis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erson requesting should be appropriately authorised by the organisation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4B74-C1D8-45AE-B04A-AD0E047C04E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These guidelines are intended to facilitate accreditation of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s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rather than an individual Attribute Authority (a hardware/software installation) or Virtual Organization (a collaborative organisation). An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is an organization (or group within an organization) that runs Attribute Authority Services, including one or more Attribute Authorities, for one or more Virtual Organizations. To achieve sustainability, an AASP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operate AA services as a long-term commitmen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VO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have an AA operated by a single AASP. If the AA service is replicated for reasons of performance and/or fault tolerance then there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means of ensuring consistency. If a VO wishes to have a distributed AA operated by multiple AASPs then these AASPs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accredited individually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582-8A1D-414A-89B7-4C9DB511787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ervice should be operated in accordance with the requirements of the VO Membership Management Policy (ref) and this documen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ich body does the accreditation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caling problems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DB4-2840-4CA2-8A3D-4A0E0E8FC01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C94-05A2-43A7-B6E3-B63337E863F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gress since Jan 200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y littl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t, would now be useful to establish best practice as we move into the EGI era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o…To kick-start the ac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propose to go through some of th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e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s://grid.ie/eugridpma/wiki/AA_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884B-086E-4FDC-9544-7E1DA9CB3D6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igning key must have a minimum length of 2048 bits and should be dedicated to attribute signing functions and tied to the AAS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717-0D49-42EC-83B4-6BEBB00A3FD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oftware-based private keys of the AA must be suitably protected by the operating system and must only be accessible by the service, trained personnel with procedural control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16C-190D-44C0-9406-9939FCE292B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As are encouraged to consider using an HSM which must adopt a similar or better level of securit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pies of the private key must be encrypted or must only be available in clear-text in a system which is at least as well protected as the original system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B12-E330-40D9-B439-3317F90F5F6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Under “Site Security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CA profile said..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pass phrase of the encrypted private key must be kept also on an offline medium, separated from the encrypted keys and guarded in a safe place where only the authorized personnel of the Authority have access. Alternatively, another documented procedure that is equally secure may be used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7D1-E8C0-4B11-A06C-B57B18AD321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revo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revocation.... </a:t>
            </a: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But RFC3281 has provision for a CRL.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entire PKC certification path must be verified. Revocation of the AA certificate will kill all assertions signed by the AA. The AC is bound to a specific serial number of the end entity. Revocation of the end entity certificate must stop the issue of ACs. Also RP checks the validity of the identity certificat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king a specific AC makes no sense as there are many other issued ACs containing the same attribute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case for revoking AC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65F-2644-4DF3-A35A-AE34748900E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lifetim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aximum lifetime of the assertion should be 24 hours... </a:t>
            </a: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expand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cause there is no revocation mechanism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C6D2-91E0-42F8-AF71-820A237330E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10-01-18T17:35:02Z</dcterms:modified>
  <cp:revision>75</cp:revision>
  <dc:subject/>
  <dc:title>Grid Security</dc:title>
</cp:coreProperties>
</file>