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423-9286-4779-A8F1-FC8601844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3BA-6875-46DB-9C61-9822755D9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Jens’ Soapbo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U GridPMA meet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ublin, January 2010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based on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886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ledge pertaining to operation of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ing what to do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rm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ceptional cases (devious flow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en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rmal oper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ining for CA managers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vious flow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ocumentation – CAOP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overed by CA’s polic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apal infallibilit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haring between CA manag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ff the recor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en something goes wro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Gather unto the RAT for advi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ming the combined RAT has the skill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ymmetr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establish symmetric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PMA trustbuildi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re asymmetric establish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MA accredita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break symmetr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violating minreq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lice trusts Bob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ob trusts Charli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harlie trusts Donna (etc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f numbers model the Level of Trust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ny practical use of such model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(rhetorical question for now…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0304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421776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717880" y="4286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f course they don’t…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[0,1]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uzzy logic closer (not warm and fuzzy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scientific principle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ubjecti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motional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oapbox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ai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ti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ic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di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tul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or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Painting by 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42924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200016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143240" y="221472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4143240" y="40719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Arrow 13"/>
          <p:cNvSpPr/>
          <p:nvPr/>
        </p:nvSpPr>
        <p:spPr>
          <a:xfrm>
            <a:off x="2643120" y="3286080"/>
            <a:ext cx="35006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15"/>
          <p:cNvSpPr/>
          <p:nvPr/>
        </p:nvSpPr>
        <p:spPr>
          <a:xfrm rot="20287800">
            <a:off x="4863960" y="38718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16"/>
          <p:cNvSpPr/>
          <p:nvPr/>
        </p:nvSpPr>
        <p:spPr>
          <a:xfrm rot="1099200">
            <a:off x="4857480" y="26431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17"/>
          <p:cNvSpPr/>
          <p:nvPr/>
        </p:nvSpPr>
        <p:spPr>
          <a:xfrm rot="20287800">
            <a:off x="2577960" y="26575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 rot="1099200">
            <a:off x="2584080" y="390996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740160" y="485784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1(a,b,t):=S(T(a,b,t),P(T(a,c,t),T(c,b,t)),P(T(a,d,t),T(d,b,t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798960" y="2000160"/>
            <a:ext cx="23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d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igital vs mechanical vs procedur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revoking physical key in real worl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lectronic lock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KI implements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does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t implements a projec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2214720" y="5072040"/>
            <a:ext cx="4357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 flipV="1">
            <a:off x="2214720" y="1928520"/>
            <a:ext cx="2714400" cy="314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143680" y="314316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>
            <a:stCxn id="144" idx="4"/>
          </p:cNvCxnSpPr>
          <p:nvPr/>
        </p:nvCxnSpPr>
        <p:spPr>
          <a:xfrm flipH="1">
            <a:off x="5214600" y="3285720"/>
            <a:ext cx="2160" cy="17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6" name="Straight Arrow Connector 12"/>
          <p:cNvCxnSpPr/>
          <p:nvPr/>
        </p:nvCxnSpPr>
        <p:spPr>
          <a:xfrm flipH="1" flipV="1">
            <a:off x="4428360" y="2571840"/>
            <a:ext cx="7866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talin: “Trust is good, control is better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: “Just because you can’t – or don’t – enforce it doesn’t mean you shouldn’t require it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– Exampl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. TERENA discuss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nstitution promises to be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REN checks if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 user passphrase length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 of robot certs (if applicable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ments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ollow up if something goes wro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Check and validate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Less W&amp;F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Impose higher sanctions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disclaims responsibility?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Warmer and fuzzier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ewer sanctions for misus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has part of responsibility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taff change – handover proces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isaster recover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preci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-establish trus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Warm and Fuzzy Feel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y D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Via CA (usually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aming the subjec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Fuzzy matching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Uniqueness of nam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 Deo Rex, A Rege Le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420840" y="1974960"/>
            <a:ext cx="8289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is soapbox is about…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aning Trustworthiness (more or les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it is,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uilding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&amp;F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289720" cy="1176480"/>
          </a:xfrm>
          <a:prstGeom prst="rect">
            <a:avLst/>
          </a:prstGeom>
          <a:ln w="0">
            <a:noFill/>
          </a:ln>
        </p:spPr>
      </p:pic>
      <p:pic>
        <p:nvPicPr>
          <p:cNvPr id="165" name="Content Placeholder 3" descr=""/>
          <p:cNvPicPr/>
          <p:nvPr/>
        </p:nvPicPr>
        <p:blipFill>
          <a:blip r:embed="rId2"/>
          <a:stretch/>
        </p:blipFill>
        <p:spPr>
          <a:xfrm>
            <a:off x="628560" y="3925800"/>
            <a:ext cx="780264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Down Arrow 5"/>
          <p:cNvSpPr/>
          <p:nvPr/>
        </p:nvSpPr>
        <p:spPr>
          <a:xfrm>
            <a:off x="1071720" y="3071880"/>
            <a:ext cx="571320" cy="7142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6"/>
          <p:cNvSpPr/>
          <p:nvPr/>
        </p:nvSpPr>
        <p:spPr>
          <a:xfrm>
            <a:off x="316692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7"/>
          <p:cNvSpPr/>
          <p:nvPr/>
        </p:nvSpPr>
        <p:spPr>
          <a:xfrm>
            <a:off x="526248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8"/>
          <p:cNvSpPr/>
          <p:nvPr/>
        </p:nvSpPr>
        <p:spPr>
          <a:xfrm>
            <a:off x="735804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9"/>
          <p:cNvSpPr/>
          <p:nvPr/>
        </p:nvSpPr>
        <p:spPr>
          <a:xfrm>
            <a:off x="200016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0"/>
          <p:cNvSpPr/>
          <p:nvPr/>
        </p:nvSpPr>
        <p:spPr>
          <a:xfrm>
            <a:off x="4214880" y="321480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1"/>
          <p:cNvSpPr/>
          <p:nvPr/>
        </p:nvSpPr>
        <p:spPr>
          <a:xfrm>
            <a:off x="642924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mpare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e are more structured and hierarchic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Like CAs, re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an we learn from WoT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1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2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How many reviewers does it take to review a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ir experie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rocess developed as we go al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my digital identity more if I had two, from different RAs (CA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it more if verified by more than one RA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 experience/training of the RA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More Useful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are the goals we aim to achiev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some previous soapboxe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ra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riting up into the document currently known as “essentials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dvanced Case Studies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need to revet (re-vet) identi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ich time problem does it deal with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it deal with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re we solving a problem we don’t 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an be solved in a better wa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t enough things on top of other thing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ut too many carts before horse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ust models operate with incomplete inform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mplementations are (crude) approxim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cademic models of some u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s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otential benefits from more complex trust model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nstead of solving the problem, identify the problem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n (and only then) solve i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– WN defini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ertainty based on past experience,” relianc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trait of believing in the honesty and reliability of others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mplete confidence in a person or plan, etc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sider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5" name="Oval 3"/>
          <p:cNvSpPr/>
          <p:nvPr/>
        </p:nvSpPr>
        <p:spPr>
          <a:xfrm>
            <a:off x="5500800" y="4071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286680" y="214308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786720" y="492912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000920" y="32860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7000920" y="18572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6000840" y="4357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572080" y="5214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857760" y="38577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857840" y="285768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3500280" y="2071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4"/>
          <p:cNvCxnSpPr>
            <a:stCxn id="64" idx="6"/>
            <a:endCxn id="56" idx="2"/>
          </p:cNvCxnSpPr>
          <p:nvPr/>
        </p:nvCxnSpPr>
        <p:spPr>
          <a:xfrm>
            <a:off x="3642840" y="2142720"/>
            <a:ext cx="2644200" cy="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>
            <a:stCxn id="64" idx="6"/>
            <a:endCxn id="59" idx="2"/>
          </p:cNvCxnSpPr>
          <p:nvPr/>
        </p:nvCxnSpPr>
        <p:spPr>
          <a:xfrm flipV="1">
            <a:off x="3642840" y="1928160"/>
            <a:ext cx="335844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>
            <a:stCxn id="59" idx="4"/>
            <a:endCxn id="58" idx="0"/>
          </p:cNvCxnSpPr>
          <p:nvPr/>
        </p:nvCxnSpPr>
        <p:spPr>
          <a:xfrm flipH="1">
            <a:off x="7071480" y="2000160"/>
            <a:ext cx="2520" cy="1286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>
            <a:stCxn id="63" idx="6"/>
            <a:endCxn id="58" idx="1"/>
          </p:cNvCxnSpPr>
          <p:nvPr/>
        </p:nvCxnSpPr>
        <p:spPr>
          <a:xfrm>
            <a:off x="5000400" y="2928600"/>
            <a:ext cx="2021400" cy="37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Straight Arrow Connector 27"/>
          <p:cNvCxnSpPr>
            <a:stCxn id="62" idx="7"/>
            <a:endCxn id="63" idx="3"/>
          </p:cNvCxnSpPr>
          <p:nvPr/>
        </p:nvCxnSpPr>
        <p:spPr>
          <a:xfrm flipV="1">
            <a:off x="3979800" y="2979360"/>
            <a:ext cx="899280" cy="899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0" name="Straight Arrow Connector 29"/>
          <p:cNvCxnSpPr>
            <a:stCxn id="62" idx="6"/>
            <a:endCxn id="55" idx="1"/>
          </p:cNvCxnSpPr>
          <p:nvPr/>
        </p:nvCxnSpPr>
        <p:spPr>
          <a:xfrm>
            <a:off x="4000680" y="3929040"/>
            <a:ext cx="1521360" cy="164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1" name="Straight Arrow Connector 31"/>
          <p:cNvCxnSpPr>
            <a:stCxn id="61" idx="0"/>
            <a:endCxn id="55" idx="4"/>
          </p:cNvCxnSpPr>
          <p:nvPr/>
        </p:nvCxnSpPr>
        <p:spPr>
          <a:xfrm flipH="1" flipV="1">
            <a:off x="5571360" y="4214520"/>
            <a:ext cx="72360" cy="100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2" name="Straight Arrow Connector 33"/>
          <p:cNvCxnSpPr>
            <a:stCxn id="55" idx="6"/>
            <a:endCxn id="58" idx="3"/>
          </p:cNvCxnSpPr>
          <p:nvPr/>
        </p:nvCxnSpPr>
        <p:spPr>
          <a:xfrm flipV="1">
            <a:off x="5643360" y="3408120"/>
            <a:ext cx="1378440" cy="73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5"/>
          <p:cNvCxnSpPr>
            <a:stCxn id="55" idx="5"/>
            <a:endCxn id="60" idx="1"/>
          </p:cNvCxnSpPr>
          <p:nvPr/>
        </p:nvCxnSpPr>
        <p:spPr>
          <a:xfrm>
            <a:off x="5621760" y="4194000"/>
            <a:ext cx="399240" cy="185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Straight Arrow Connector 37"/>
          <p:cNvCxnSpPr>
            <a:stCxn id="60" idx="6"/>
            <a:endCxn id="57" idx="2"/>
          </p:cNvCxnSpPr>
          <p:nvPr/>
        </p:nvCxnSpPr>
        <p:spPr>
          <a:xfrm>
            <a:off x="6143760" y="4429080"/>
            <a:ext cx="643320" cy="572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Straight Arrow Connector 39"/>
          <p:cNvCxnSpPr>
            <a:stCxn id="63" idx="2"/>
            <a:endCxn id="64" idx="5"/>
          </p:cNvCxnSpPr>
          <p:nvPr/>
        </p:nvCxnSpPr>
        <p:spPr>
          <a:xfrm flipH="1" flipV="1">
            <a:off x="3621960" y="2193480"/>
            <a:ext cx="1235880" cy="73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TextBox 41"/>
          <p:cNvSpPr/>
          <p:nvPr/>
        </p:nvSpPr>
        <p:spPr>
          <a:xfrm>
            <a:off x="645120" y="278604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Thawte’s 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GP Tru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43"/>
          <p:cNvCxnSpPr>
            <a:stCxn id="62" idx="1"/>
            <a:endCxn id="64" idx="4"/>
          </p:cNvCxnSpPr>
          <p:nvPr/>
        </p:nvCxnSpPr>
        <p:spPr>
          <a:xfrm flipH="1" flipV="1">
            <a:off x="3571560" y="2214000"/>
            <a:ext cx="306720" cy="166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la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Relations properties from math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flexive: a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ymmetric: a~b =&gt; b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nsitive: a~b &amp; b~c =&gt; a~c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 relations may have any or all of these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ercise: prove or disprove S&amp;T=&gt;R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flex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 trust myself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r do I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best practic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unknow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 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nd the un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2960" y="1856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imeo Hominem Unius Libri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ed on reput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dea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Knowledge/skill (evidence of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nesty/integrity (perceived, assumed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ontributio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hand information (or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etc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F2F meeting – TrustBuild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oing what is expecte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t necessarily what we expect…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e may expect people to not do what is expecte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13:33Z</dcterms:created>
  <dc:creator>Lynn</dc:creator>
  <dc:description/>
  <dc:language>en-US</dc:language>
  <cp:lastModifiedBy>jj47</cp:lastModifiedBy>
  <dcterms:modified xsi:type="dcterms:W3CDTF">2010-01-20T13:51:10Z</dcterms:modified>
  <cp:revision>104</cp:revision>
  <dc:subject/>
  <dc:title>PowerPoint Presentation</dc:title>
</cp:coreProperties>
</file>