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5218B38-4C3A-407A-BF15-E2EFE64A724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C6EB703-A2A0-4FB8-BD41-485F689388B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C18215CF-E636-42C2-84B7-18C3323D745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07D3ADD2-79A6-4536-A46B-72724D41304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81F87666-6508-4E79-B6F6-B506B26304B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0BAF0169-8F59-4527-9CDC-E4DBA16F189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7B842807-192A-4C64-9EFC-A7F8BE124EE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299DEEB5-483A-4C2F-9F1B-747BD35D091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B57BFCEE-1A2C-4CA4-8CA0-A77E28D3853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1CF60A79-6A8E-4F9D-A602-E77107951E6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2AE10320-B74C-4C78-A26C-D83EFA5CC90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ED65E851-11B8-40E7-8540-CA8E5AA1B48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95EAF69A-1EC3-4246-BA42-859521C55A1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Lucida Sans"/>
              </a:rPr>
              <a:t>IGTF Trust Anchor Distribution </a:t>
            </a:r>
            <a:br>
              <a:rPr sz="3600"/>
            </a:br>
            <a:r>
              <a:rPr b="1" i="1" lang="en-US" sz="2800" spc="-1" strike="noStrike">
                <a:solidFill>
                  <a:srgbClr val="990000"/>
                </a:solidFill>
                <a:latin typeface="Lucida Sans"/>
              </a:rPr>
              <a:t>in the wake of OpenSSL1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January 19, 2010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18</a:t>
            </a:r>
            <a:r>
              <a:rPr b="1" lang="en-US" sz="2000" spc="-1" strike="noStrike" baseline="30000">
                <a:solidFill>
                  <a:srgbClr val="000066"/>
                </a:solidFill>
                <a:latin typeface="Lucida Sans"/>
              </a:rPr>
              <a:t>th</a:t>
            </a: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 EUGridPMA Dublin meeting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Fetch-crl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locationFiles=`${ls} \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 </a:t>
            </a:r>
            <a:r>
              <a:rPr b="0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"${locationDirectory}"/*.${crlLocationFileSuffix} \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 </a:t>
            </a:r>
            <a:r>
              <a:rPr b="0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2&gt;/dev/null`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Will find all files with a “.crl_url” suffix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Use the OpenSSL in the path (since v2.7) to compute the hash locall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Cavea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he .r0 files will be hashed according to openssl version used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by fetch-crl</a:t>
            </a: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, not target softwar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make symlinks locally to get a dual-use CRL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hould we provide a script, or an update to fetch-crl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lternativ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Use c_rehash (or other OS specific tools) locall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Use hard copies instead of symlink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Either as copies of PEM files, or only two copies of sam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Make the links on the target system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Using ln –s from the make fi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Using a %post script in the RPM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eeds to be matched with a %preun which could fai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resulting links are not ‘owned’ by an RPM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Collateral chang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Update RPM format to v4.4 seri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Update Java keytool to Java6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ow supports CA keys with keysize &gt; 2048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Keys will not work with old (pre-Java5) tools with Sun JC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uto-generated sequence numbers support multiple CAs with the same subject name but different alias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lias MUST be unique for each trust anchor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till not supported in fetch-crl, though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nd it’s dangerous anyway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(see issues related to the two UTNUserFirst-Hardware CA certs, one self-signed and one by Comodo AAA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Implementation plan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Lucida Sans"/>
              </a:rPr>
              <a:t>Options for discussion: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For 1.33 release still have only the old version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since “OpenSSL1 is still in beta only”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For 1.33 and 1.34 releases, have both versions available with the old style as the advertised one for 1.33, and changing to the new one for 1.34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For 1.33 release, have both versions available with the </a:t>
            </a:r>
            <a:r>
              <a:rPr b="1" lang="en-GB" sz="2400" spc="-1" strike="noStrike">
                <a:solidFill>
                  <a:srgbClr val="000066"/>
                </a:solidFill>
                <a:latin typeface="Lucida Sans"/>
              </a:rPr>
              <a:t>new</a:t>
            </a: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 style as the advertised on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For 1.33 release, just have the new one, since it’s fully backward-compatible anywa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Or something else ...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OPENSSL1</a:t>
            </a:r>
            <a:br>
              <a:rPr sz="4000"/>
            </a:b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tructure of the trust anchor director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ash functions and cod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Structure of the trust anchor stor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411120" y="936720"/>
            <a:ext cx="87328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sui:certificates:1008$ cd /etc/grid-security/certificates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sui:certificates:1008$ ls -l|grep 16d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rw-r--r-- 1 root root   5341 Oct 26 21:02 16da7552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rw-r--r-- 1 root root     40 Oct 26 21:02 16da7552.crl_ur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rw-r--r-- 1 root root    442 Oct 26 21:02 16da7552.inf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rw-r--r-- 1 root root    630 Oct 26 21:02 16da7552.namespa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rw-r--r-- 1 root root   4842 Jan 13 08:17 16da7552.r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rw-r--r-- 1 root root    342 Oct 26 21:02 16da7552.signing_polic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sui:certificates:1009$ ls -l policy-*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rw-r--r-- 1 root root 2633 Oct 26 21:03 policy-igtf-classic.inf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rw-r--r-- 1 root root  152 Oct 26 21:03 policy-igtf-mics.inf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rw-r--r-- 1 root root  256 Oct 26 21:03 policy-igtf-slcs.inf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sui:certificates:1010$ cat policy-igtf-mics.inf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@(#)policy-igtf-mics.info - IGTF mics authorit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Generated Monday, 26 Oct, 200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ersion = 1.3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s = TACC-MICS = 1.32, \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CSA-mics = 1.3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Hash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38080" y="1295280"/>
            <a:ext cx="830592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Hashes used for lookup of the issuing CA for a given certificat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Independent from the ‘fingerprint’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$ openssl x509 -noout -subject -issuer \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    </a:t>
            </a:r>
            <a:r>
              <a:rPr b="0" lang="en-GB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-fingerprint -sha1 -hash \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    </a:t>
            </a:r>
            <a:r>
              <a:rPr b="0" lang="en-GB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-in 16da7552.0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subject= /C=NL/O=NIKHEF/CN=NIKHEF medium-security certification auth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issuer= /C=NL/O=NIKHEF/CN=NIKHEF medium-security certification auth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SHA1 Fingerprint=E5:FA:C3:3B:44:8F:26:1B:3D:D1:DE:BA:5F:EC:ED:35:A9:3F:23:21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16da7552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Code changed in OpenSSL 1 beta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Rectangle 5"/>
          <p:cNvSpPr/>
          <p:nvPr/>
        </p:nvSpPr>
        <p:spPr>
          <a:xfrm>
            <a:off x="411120" y="936720"/>
            <a:ext cx="873288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nsigned long X509_NAME_hash(X509_NAME *x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nsigned long ret=0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nsigned char md[SHA_DIGEST_LENGTH]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* Make sure X509_NAME structure contains valid cached encoding *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2d_X509_NAME(x,NULL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VP_Digest(x-&gt;canon_enc, x-&gt;canon_enclen, md, NULL, </a:t>
            </a:r>
            <a:r>
              <a:rPr b="1" lang="en-GB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EVP_sha1()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NULL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t=(   ((unsigned long)md[0]     )|((unsigned long)md[1]&lt;&lt;8L)|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(unsigned long)md[2]&lt;&lt;16L)|((unsigned long)md[3]&lt;&lt;24L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&amp;0xffffffffL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ret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nsigned long X509_NAME_hash_old(X509_NAME *x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nsigned long ret=0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nsigned char md[16]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* Make sure X509_NAME structure contains valid cached encoding *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2d_X509_NAME(x,NULL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VP_Digest(x-&gt;bytes-&gt;data, x-&gt;bytes-&gt;length, md, NULL, </a:t>
            </a:r>
            <a:r>
              <a:rPr b="1" lang="en-GB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EVP_md5()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NULL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t=(   ((unsigned long)md[0]     )|((unsigned long)md[1]&lt;&lt;8L)|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(unsigned long)md[2]&lt;&lt;16L)|((unsigned long)md[3]&lt;&lt;24L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&amp;0xffffffffL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ret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Impact of chang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838080" y="1295280"/>
            <a:ext cx="830592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oday: lookup will fail if a new OpenSSL is used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Lookups happen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via the system OpenSSL, dynamically linked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Via application-specific OpenSSL version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Via statically linked openssl librari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Via other implementations of the hash algorithm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e.g. in the TrustManager Java implementation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or in Apache, or ..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Both implementations will co-exist on single system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Will thus require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eparate trust stor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 single trust store that supports both algorithm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Proposal for the IGTF distribution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r installation bundles, tar-balls and RPMs: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all CAs and files are named after their alias from the info fil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ymlinks are used to generate the structure for both versions of OpenSS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nstallation bundle (the "./configure &amp;&amp; make &amp;&amp; make install" tarball) will create both symlink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pre-installed bundles have both hashes, also using symlink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Lucida Sans"/>
              </a:rPr>
              <a:t>What gets into /etc/grid-security/certificates?</a:t>
            </a:r>
            <a:endParaRPr b="1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838080" y="1295280"/>
            <a:ext cx="80409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393f7863.0 -&gt; AEGIS.pem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393f7863.info -&gt; AEGIS.info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393f7863.namespaces -&gt; AEGIS.namespaces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393f7863.signing_policy -&gt; AEGIS.signing_policy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AEGIS.crl_url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AEGIS.info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AEGIS.namespaces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AEGIS.pem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AEGIS.signing_policy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cc5645bd.0 -&gt; AEGIS.pem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cc5645bd.info -&gt; AEGIS.info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cc5645bd.namespaces -&gt; AEGIS.namespaces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cc5645bd.signing_policy -&gt; AEGIS.signing_policy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Dual packaging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Pro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arget system does not need to run c_rehash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Works for hybrid deployments,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with some software linked to 0.x, others to 1.0, and others have built-in hashing cod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Con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ymlinks may upset (or be messed up by) locally running c_rehash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Unclear which one is used - when the links are severed different programs will react differentl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esn’t work on filesystems that do not support symlink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0-01-13T15:05:18Z</dcterms:modified>
  <cp:revision>491</cp:revision>
  <dc:subject/>
  <dc:title>European Grid Policy Management Authority</dc:title>
</cp:coreProperties>
</file>