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F7E-2B9A-490F-9768-25F5A40B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665-0ADB-44BB-9851-C96CEA9D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4D6-D4F9-4D61-AF67-8A14D0D5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366-7BEB-4A21-A74B-5C7FB5FD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7A34-B352-4555-8E3A-D1D7063E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60F1-FB06-4A17-9656-7AA8E706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419-7CB1-430D-864D-612568C4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7EA5-0165-4071-A001-8C083B6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0567-5680-4F5D-9C67-15F50547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1E52-8677-49BD-BF0F-3F70DD3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5CFB-7FAE-4E20-A735-412E5278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E5D-90BF-48D1-A5D8-DB9A08D1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5B97-38B6-49A8-85B1-61271B9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CB5-C85E-4AF4-8330-268AD6DF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EFF2-3F1F-465E-9672-971F52DB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3DA2-58A5-41C2-96D2-D403257E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58B9-75ED-4C8D-9E53-518D2E90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717-853E-42A2-ACB6-946C3306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7B8-0D48-4EB6-9309-DF204A1F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0FA-C83E-49D5-9AB5-0A08EBB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144-471F-46A1-9730-BFA3338C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50C-04EC-4E0C-900A-56B8D34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7F3-74AB-4245-8CC1-64A9414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C1E-209E-4391-A125-D5617AB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00000" y="623736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92000" y="6237360"/>
            <a:ext cx="53406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FB83-4F6A-4B19-8674-850D4A152E2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4096-627A-438A-B94C-7803B370790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ience.am/ca/policy" TargetMode="External"/><Relationship Id="rId2" Type="http://schemas.openxmlformats.org/officeDocument/2006/relationships/hyperlink" Target="http://www.escience.am/ca/policy" TargetMode="External"/><Relationship Id="rId3" Type="http://schemas.openxmlformats.org/officeDocument/2006/relationships/hyperlink" Target="http://www.escience.am/ca/policy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rmeSFo CA updat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including self-audit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5080" y="4149360"/>
            <a:ext cx="395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menian e-Science Foundatio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sen Hayrapetyan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93080" y="504720"/>
            <a:ext cx="13906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RAs to the list of entities who can request revoc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ing CA encrypted private key from the pass phras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s were issued in v1 format. V2 format was recommended by Audito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ing the role of RA in proper section of the CP/CP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lDistributionPoints extension points to PEM-formatted certifica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92E-54E2-4FF1-BF4E-E09F4EE105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42472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ving the safe with CA machine to the room where the physical access is restricted to CA personnel solely (access to the safe itsel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restricted to CA personnel solel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tructuring CP/CPS according to RFC 364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P/CPS does not include the CA obligation to maintain the archive of records collected by RA, but it is included in ArmeSFo CA agreement with its R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F8D-BAED-4400-983A-9661D938AD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2362320"/>
            <a:ext cx="769284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s related to physical securit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CA machine safe to more protected area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 (we will probably move it in sp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ng encrypted key from its password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, will be fixed together with previous iss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/CPS-related issues –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t fixed yet (planned for March-Apri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 policy approval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s are not specified as entities who can request rev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 or 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 operation is nor described in sufficient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B3D-8762-4CCE-9147-C85272AC84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omise and disaster recover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document detailing the procedure for CA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forma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lDistributionPoints extension in EE certificates points to PEM-formatted CRL. Should be DER-forma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version (D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we issue v2 CRL 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ation of SHA1 and MD5 sums of CA root certificate in the CA repository along with instructions how to verify them (C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the info is published in CA reposi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AAC-615B-4620-9FA7-FF7C4E263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us since January 2008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presented at 1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UGridPMA meeting, January 2008, Amsterdam, Netherlan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n…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new versions of CP/CPS issu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profile harmonised with Grid Certificate Profile v0.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 of issued EE certificates discontinued: LDAP repository is no longer maintain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to CRL v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ed by external auditor - Jens Jensen, UK e-Science 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128-9210-49DA-A9EB-B81786BF32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/CPS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ly certificate profile changes - GCP v0.25 is implemented for EE certificat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 root certificate had been accorded with GCP v0.25 prior to January 2008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643-E309-4519-89BE-477B5569D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rtificate profile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34440" y="2361960"/>
            <a:ext cx="834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removed from EE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ertType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Base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aCaPolicy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omment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aRevocation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subject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issuerAl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, server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un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U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/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nonRepudiation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keyAgre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endedKeyUs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emailProt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can be traced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ion Hi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P/CPSes (vv 0.5, 0.6, 0.7)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science.am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ca/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B2C-9726-4583-9C3E-93D4A1871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L 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792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CRL v2 is recommended b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IETF PKI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F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28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to CRL v2 was rated as high-priority issue by the Auditor (mark D) during external aud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starting with CP/CPS v0.7 (came into effect on 12 June 2009), we are issuing CRL v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CRL extensions are set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cRLNumber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9D4-D9A7-46E8-9F7C-C4FCBBA834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f and external aud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audit performed in December 200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sent to EUGridP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or appointed by PMA: David O’Callagha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ed by Jens Jensen during his visit to Armenia (to work on NATO Collaborative Linkage Grant “Improved Cybersecurity for NATO Partner Countries”), 04-07 June 2009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audit issues fix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B39-12FD-4244-BDE5-EC8DF5D350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self-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s were rated on the sc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it is OK”),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inor recommendation”, would be nice to change)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ajor recommendation”, this really ought to be changed)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Advice”, MUST be actually changed), X (“not applicable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 issues of type 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10 issues of type 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5 issues of type 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C3A-C597-46D4-9458-D32E748E6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external 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dentified by external Auditor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 issues of type 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 issues of type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 issues of type 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C53-B0C1-413E-929F-AA78E3DAC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ison of the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2424240"/>
          <a:ext cx="6397560" cy="3697200"/>
        </p:xfrm>
        <a:graphic>
          <a:graphicData uri="http://schemas.openxmlformats.org/drawingml/2006/table">
            <a:tbl>
              <a:tblPr/>
              <a:tblGrid>
                <a:gridCol w="4094280"/>
                <a:gridCol w="2303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em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40A-7BAC-464C-BEEB-DDE8E8421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5:26:32Z</dcterms:created>
  <dc:creator>User</dc:creator>
  <dc:description/>
  <dc:language>en-US</dc:language>
  <cp:lastModifiedBy>User</cp:lastModifiedBy>
  <dcterms:modified xsi:type="dcterms:W3CDTF">2010-01-16T19:22:09Z</dcterms:modified>
  <cp:revision>11</cp:revision>
  <dc:subject/>
  <dc:title>ArmeSFo CA update (including self-audit)</dc:title>
</cp:coreProperties>
</file>