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862-3E83-4129-B182-B6A5A6BC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249-8606-403D-A3E6-39CFAD1A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B25-8D71-49BB-913B-ACC9C503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565-6C1B-4F04-8B70-6B35BAA8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E4B-8C6B-42AF-972D-2A4885BD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DB2-40B2-41C5-99B5-EDE0B814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09D-30C4-4CF4-B8FD-C1723733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6DD-8A09-4ADE-BF0C-6075CDEF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15A-92A6-4D23-87D3-E26798B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C06-F565-4695-A22D-07DC3D86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4FB-0954-47AA-A0C5-F5DC066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391-4B79-478F-A6C0-8135FB7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9E169-F5B0-45D0-9C6F-380A578DE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7042C-6B3E-4881-BA24-DF70CB345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oxtyhouse.ie/" TargetMode="External"/><Relationship Id="rId2" Type="http://schemas.openxmlformats.org/officeDocument/2006/relationships/hyperlink" Target="http://www.odessa.i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to Dubl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ID not broadcast: Cs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name and password on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 to web and you will be prompted fo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pop-up window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-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 name: EU Grid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upload slides to the agend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lagher’s Boxty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xtyhouse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Irish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odessa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confirm numbers for today at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s / L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oyer outsid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p to Book of Kel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Science Gallery café has good coff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shop under the st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07:20Z</dcterms:created>
  <dc:creator>David O'Callaghan</dc:creator>
  <dc:description/>
  <dc:language>en-US</dc:language>
  <cp:lastModifiedBy>David O'Callaghan</cp:lastModifiedBy>
  <dcterms:modified xsi:type="dcterms:W3CDTF">2010-01-18T09:18:37Z</dcterms:modified>
  <cp:revision>1</cp:revision>
  <dc:subject/>
  <dc:title>Welcome to Dublin!</dc:title>
</cp:coreProperties>
</file>