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9579D-EB73-4137-BA1E-EA034A74D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CA20A-667E-47D8-9260-571C061D3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91CC5-9ADE-4B67-A196-A0966BBF9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DF632-1B70-4D9D-833E-6A377ADB9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FCEDD-D3CA-4154-BA12-3F918E6C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HEP and PRAGMA data in statistics of Oct.’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BF635-BEC5-4FA6-A207-911C1519D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58271-7AB3-4398-8B71-5FA73C0E7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9AE9A-631E-4D56-9C5F-878FDA232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F1CF0C-A878-4885-BEFF-CCB6EE337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D8D2D-586A-4A85-91B5-AB474B6E4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92A385-313B-4C14-9E5E-8BE0A8FF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125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APGrid 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3192480"/>
            <a:ext cx="7921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UGridPMA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 January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16000" y="4572000"/>
            <a:ext cx="6985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GCCA Tai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4 +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9280" y="714240"/>
            <a:ext cx="45450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8320" y="838080"/>
            <a:ext cx="4495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golia (under accredi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and Pakistan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814280" y="5048280"/>
            <a:ext cx="25948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9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7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w: +1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85840" y="928800"/>
          <a:ext cx="8286840" cy="5257800"/>
        </p:xfrm>
        <a:graphic>
          <a:graphicData uri="http://schemas.openxmlformats.org/drawingml/2006/table">
            <a:tbl>
              <a:tblPr/>
              <a:tblGrid>
                <a:gridCol w="2071440"/>
                <a:gridCol w="2071800"/>
                <a:gridCol w="2071800"/>
                <a:gridCol w="20718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O-Netrust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矩形 4"/>
          <p:cNvSpPr/>
          <p:nvPr/>
        </p:nvSpPr>
        <p:spPr>
          <a:xfrm>
            <a:off x="285840" y="639612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14, January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TextBox 4" descr=""/>
          <p:cNvPicPr/>
          <p:nvPr/>
        </p:nvPicPr>
        <p:blipFill>
          <a:blip r:embed="rId1"/>
          <a:stretch/>
        </p:blipFill>
        <p:spPr>
          <a:xfrm>
            <a:off x="4322880" y="3608280"/>
            <a:ext cx="45720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57120" y="1143000"/>
          <a:ext cx="8358120" cy="520056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O-Netrust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文字方塊 5"/>
          <p:cNvSpPr/>
          <p:nvPr/>
        </p:nvSpPr>
        <p:spPr>
          <a:xfrm>
            <a:off x="357120" y="63961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: October 15, 200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TextBox 4" descr=""/>
          <p:cNvPicPr/>
          <p:nvPr/>
        </p:nvPicPr>
        <p:blipFill>
          <a:blip r:embed="rId1"/>
          <a:stretch/>
        </p:blipFill>
        <p:spPr>
          <a:xfrm>
            <a:off x="5522760" y="4595760"/>
            <a:ext cx="24688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VTC meeting on 16 Dec.’0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3 participants and 2 abs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ID status in AP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3 Completed : HKU, IGCA, KISTI, APAC, ASGCCA, NECTEC GOC-CA, NCHC, AIST, KEK, NAREGI, PRAGMA-UCSD, CNIC, IHEP, NGO/Netru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utine Self-audit report from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-4 CAs at every F2F meeting based on latest Audit Guideline do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rrection of .info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heck all CAs information at APGridPMA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te for next F2F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rch 8 , Taipei Taiwan, collocation with ISGC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1619280" y="41400"/>
            <a:ext cx="741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95280" y="838080"/>
            <a:ext cx="8497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ipei, Taiwan, is co-located with ISGC 2010 ev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ime: Mar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n-line Registration http://event.twgrid.org/isgc2010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raft agenda from APGridPMA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 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pdates from EUGridPMA and TAGP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 status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w CA Presentation: Mongo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-audit rep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and the other th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iew Mongolia SSSCA CP/C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ivate key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T and cyber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619280" y="41400"/>
            <a:ext cx="741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GC Piggyback Ev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95280" y="838080"/>
            <a:ext cx="8497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ite Training for Trainers (5-7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imulation Tutorial (7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RODS Workshop (8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GC Symposium (9-12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Workshop (7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ity policies, David Kelsey, 3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security and handle security incident, Mingchao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you were hacked and what you should do, Romain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dleware Security, David Groep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ity Service Challenge and Security Monitoring, Jinny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1:20:39Z</dcterms:created>
  <dc:creator>David Groep</dc:creator>
  <dc:description/>
  <dc:language>en-US</dc:language>
  <cp:lastModifiedBy>mac</cp:lastModifiedBy>
  <dcterms:modified xsi:type="dcterms:W3CDTF">2010-01-18T09:52:20Z</dcterms:modified>
  <cp:revision>173</cp:revision>
  <dc:subject/>
  <dc:title>International Grid Trust Federation Session  GGF 18 Washington, DC, USA</dc:title>
</cp:coreProperties>
</file>