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BC8-628E-48E5-A863-95082A7F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CD2-1CE2-42C9-B7FC-97C0796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94A-028F-4AD5-A798-89D2A69A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70A-1436-41F6-B576-F1B088FD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63F-0659-4E3E-8E50-D15C2E6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FEC-ADDB-4AF3-BDB3-89561FE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C04-451A-4C28-8568-708D8B9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FF5-DBC6-4E03-B710-B77CD644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33C-A09A-4D8C-AA72-B015513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9EC-2F37-43AB-8641-5ED4AFC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A2E-090B-4ECB-9BA5-7825482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33E-D5C5-4474-8741-13D77C3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68AF-7F07-43F4-A8C5-545E73B3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U GridPMA Dub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– TLS rene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nnouncements from 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necessarily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specifically a Globu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bounce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member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CAs definitely heard o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all P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n theory, round the clock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CA stuff, not othe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affecting P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on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report at PMA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action – testing C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vious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09: Apache mod_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TMCP: Yet Another “Too Many CAs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o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GTF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issuing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fin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(DSA) and MD5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s test to igtf-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NUL 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eck for embedded NUL ch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Another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 CAs responded within 24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20 that didn't, six responded after a quick p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relinquished role a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s took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not taken a step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 A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-ish – RAT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cure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two members respond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