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77BC027-5A8E-46D3-BB03-8C1885D3E1C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6522888E-5EE2-4892-9027-945A5F2EF2C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BD872C5D-DCDE-4D18-BD18-BE63B5538F1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DADC0FC1-E5B1-44B9-99EF-3BAE8352133E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F5519985-95DD-40A7-918A-8B786A1E9A29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ABA8684F-3533-4248-9CA9-AEF064B12365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6C7DF7FE-7331-493F-BDF8-C7D37A89CBE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85CEF438-1A0E-49A8-A5C4-AE7B6D10E71F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DFE6E704-50B9-4267-9668-D9308A9983B5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EF79E83C-60E6-47FD-AB30-376D6A7ABEAE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559AA3A2-7240-43F4-999E-EA8944EF132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78D36540-586D-4D75-A402-140FC8B03A7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4086D3F6-F61E-4374-8936-B1E596E999A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19</a:t>
            </a:r>
            <a:r>
              <a:rPr b="1" lang="en-US" sz="4000" spc="-1" strike="noStrike" baseline="30000">
                <a:solidFill>
                  <a:srgbClr val="990000"/>
                </a:solidFill>
                <a:latin typeface="Lucida Sans"/>
              </a:rPr>
              <a:t>th</a:t>
            </a: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 EUGridPMA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April 19-21, 2010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Riga, Latvia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Lucida Sans"/>
              </a:rPr>
              <a:t>SIGMANET</a:t>
            </a:r>
            <a:br>
              <a:rPr sz="4000"/>
            </a:br>
            <a:r>
              <a:rPr b="1" i="1" lang="en-GB" sz="2000" spc="-1" strike="noStrike">
                <a:solidFill>
                  <a:srgbClr val="000066"/>
                </a:solidFill>
                <a:latin typeface="Lucida Sans"/>
              </a:rPr>
              <a:t>AND EDGARS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 Big Thank you for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onnecting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o connect via telephone: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dial +31 20 716 5293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hoose menu option "3“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hoose the conference number 98002 and confirm by "#"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via H323 and the Global Dialling system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dial 0031800198002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via H323 over IP directl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dial hdmcu1.surfnet.nl (192.87.102.230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enter the conference number: 98002 and confirm by "#“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ollaboration environment: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http://webconf.vc.dfn.de/r88168684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10-04-19T06:26:57Z</dcterms:modified>
  <cp:revision>484</cp:revision>
  <dc:subject/>
  <dc:title>European Grid Policy Management Authority</dc:title>
</cp:coreProperties>
</file>