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1695-2E13-40C0-AF33-81AB7797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CA5B9-ADE1-4CD8-849F-E0DB1B82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67770-5219-4005-B324-3B967664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C0A29-A65D-4D26-AF2A-B859FEA6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801DD-562D-4B29-9105-479D2430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250BA-2533-402B-B3A4-FE3A1AC22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26930-52AD-4DCF-AF38-982DC394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5DAA-346B-46E7-B945-EF72EE0F4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073DA-DF32-4871-BC8F-A531F385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 April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6, April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5522760" y="3602160"/>
            <a:ext cx="2664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ertStatistics-201004.tiff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/Host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2F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 was held in Taipei in conjunction with ISGC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ate 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enue: Academia Sinica, Ta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ipation of member 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1 CA presented in person, 2 representatives joined remotely,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378612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CA Accreditation: Mongolia – new phase CP/CPS review is still undergo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me Routine Self-Audi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CA should present self-auditing report once every two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, NECTEC, and CNIC, SDG reported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rrent audit template should be followed but the procedure has to be clearly defined before next F2F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IGCA, ASGCCA, NCHC will report in next mee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9144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(I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6320" y="679320"/>
            <a:ext cx="914400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GTF Policy Document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 Policy and Robot Certificate  are endor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of CA Contact (d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 matrix of Accreditation and Operation Status will be drafted by Eric for comment. (will be finished by end Ap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GridPMA spring F2F meeting will be joint with ISG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All Hands Meeting is also welcomed to be held at ISGC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and ARCS are two candidates for the F2F meeting i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alf of 2010 and 2011. They will explore possible dates later. Eric is looking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andidate in South East Asi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ree proposals should be available for vote in early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18:38Z</dcterms:created>
  <dc:creator>David Groep</dc:creator>
  <dc:description/>
  <dc:language>en-US</dc:language>
  <cp:lastModifiedBy>bluesea520</cp:lastModifiedBy>
  <dcterms:modified xsi:type="dcterms:W3CDTF">2010-04-19T06:59:25Z</dcterms:modified>
  <cp:revision>216</cp:revision>
  <dc:subject/>
  <dc:title>International Grid Trust Federation Session  GGF 18 Washington, DC, USA</dc:title>
</cp:coreProperties>
</file>