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342BCED-4129-47E9-89B9-77FA9FD51B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257C46F-6685-4D11-9DD6-D8BC3F3101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3B6DDF1D-93F3-45FF-91B5-235DAFEA42D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80F6F5C1-750D-4698-86F3-D6F74E8FC08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8F95FFD2-1494-4203-AD49-C0729117E2E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B4E2ED04-B95C-4DE0-A92B-9FB3D525CCE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BEBD4892-C802-4A3E-B7A3-3B760B9A1C9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EBD758BA-A969-4BE5-B45F-1385F1CA484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C4F0BED0-5C74-4ECB-83C8-F943E908CE7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7D7B94C6-5294-4A50-B6CE-8839F9A2460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D9A0BAE4-AE57-4B0E-8A7A-906DF0742C6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E67E08FF-044D-491E-9203-9FB2911DD27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1D42203B-B099-420B-9C80-287E5BD047B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0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ember 20-22, 2010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Zagreb, Croat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SRCE</a:t>
            </a:r>
            <a:br>
              <a:rPr sz="4000"/>
            </a:br>
            <a:r>
              <a:rPr b="1" i="1" lang="en-GB" sz="2000" spc="-1" strike="noStrike">
                <a:solidFill>
                  <a:srgbClr val="000066"/>
                </a:solidFill>
                <a:latin typeface="Lucida Sans"/>
              </a:rPr>
              <a:t>AND DOBRISA DOBRENIC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onnecting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o connect via telephone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+31 20 716 5293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ose menu option "3“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ose the conference number 98003 and confirm by "#"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a H323 and the Global Dialling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0031800198003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a H323 over IP direct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hdmcu1.surfnet.nl (192.87.102.230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nter the conference number: 98003 and confirm by "#“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ollaboration environment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s://connect.srce.hr/eugrid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onday, Sep 20 meeting in front of Srce at 20.00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lace: Pri zvoncu, XII Vrbik 1 (http://www.prizvoncu.com/)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is is domestic restaurant next to the Srce and quite near The Movie Hotel as well as International Hotel (1 km)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uesday, Sep 21 meeting in front of Movie Hotel (http://www.themoviehotel.com/) at 19.00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nner place: Konoba Didov san - Gornji grad, Mletacka 11 (http://www.konoba-didovsan.com/)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mall domestic restaurant (just 25 places for us) with a hint of Adriatic coast (!) in downtown Zagreb. We are going there with tramway and will take a stroll through the heart of the c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0-09-20T07:30:10Z</dcterms:modified>
  <cp:revision>488</cp:revision>
  <dc:subject/>
  <dc:title>European Grid Policy Management Authority</dc:title>
</cp:coreProperties>
</file>