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DD19088-A13C-4CFB-8D2D-80582D27368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08C249B-8474-456E-995B-6D23240B0C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BD15E9D0-06E3-4327-8A7A-B07A4E1C8B3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5DA728C4-7694-465F-B1A3-1789F3AC9D1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795525F7-5A5C-4017-858B-D9ECF275444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D0FD0CDC-B072-41AB-9F17-C1FBFFB2E6F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33F2BDA4-4D22-414F-9429-64FEBBB6B14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B5E117FB-CE8A-466C-B7D2-5D6985FA99E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27229726-3703-4796-A54A-D657D7348A4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D2A8C933-8135-4D6C-8175-192FFE9B205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E83DBEC8-5592-4B76-BC21-C833B604739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B5BD082A-9A5E-412C-8DEC-A1D26FC8BD6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8A714653-D773-4E9A-A41E-2C10D132513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Security Token Services </a:t>
            </a:r>
            <a:br>
              <a:rPr sz="4000"/>
            </a:b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for e-Infrastructures?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24-26, 2011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Utrecht, the Netherlands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Security Mechanisms: new directio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GI Infrastructure supported by a series of EU projects on software developmen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MI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G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tratusLab, VENUS-C, EDGI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GI + M/W project develop middleware roadma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n EMI roadmap is a study on ‘native integration’ of multiple security mechanisms, based around the Security Token Service (STS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EMI STS Roadma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urity Token Service (STS) development dependent on DCI user need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work owner in EMI is SWITCH (CH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ototype after the first year of the EMI projec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itial prototype dependent on Shibboleth IdP v3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 collaboration with the WS-Trust interop grou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9" name="TextBox 3"/>
          <p:cNvSpPr/>
          <p:nvPr/>
        </p:nvSpPr>
        <p:spPr>
          <a:xfrm>
            <a:off x="206280" y="6002280"/>
            <a:ext cx="893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MI DJRA1.3.1, 17 Dec 20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ttps://twiki.cern.ch/twiki/bin/view/EMI/DeliverableDJRA13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STS role in the infrastructur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se as a trusted source of security token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derived from yet other tokens (translator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s foreseen in EMI, ties in with online CAs and attribute authorities (like VOMS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looks a bit like a generalised SLC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2" name="Picture 3" descr="C:\Users\davidg\Desktop\Trans\STS-IdP_integration.png"/>
          <p:cNvPicPr/>
          <p:nvPr/>
        </p:nvPicPr>
        <p:blipFill>
          <a:blip r:embed="rId1"/>
          <a:stretch/>
        </p:blipFill>
        <p:spPr>
          <a:xfrm>
            <a:off x="1814400" y="3244680"/>
            <a:ext cx="5176800" cy="32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Other STS characteristic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3059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STS translates anything to anyth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n general it is WS-* like security (WS-Trus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eds a trusted source of SAML meta-dat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linking it to an on-line CA is just an edge case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STS does trust establishmen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o there is a need for relying parties to ‘trust’ the tokens coming out of i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es not easily fit any of the current IGTF AP mode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echnology is different, but in EGI-EMI scenarios the logical role may be equivalent or complementar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Consideration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w can we help facilitate trust building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like we do today for PKIX-based trust models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hould we facilitate trust establishment via SAML-metadata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Discussion proposa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oda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ntroduction to STS concepts and practical experience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(thanks to Remco and SURFne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iscussion on our role and feasibilit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f we decide to continue on this track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Prague meet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MI plans for STS and EMI roadma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cope of the new work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Ljubljana meet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nitial concepts around a Profile and trust guidelin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Beginning 2012: recommendations/guidelines/A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BUT NOW ...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1-01-21T13:21:30Z</dcterms:modified>
  <cp:revision>496</cp:revision>
  <dc:subject/>
  <dc:title>European Grid Policy Management Authority</dc:title>
</cp:coreProperties>
</file>