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663-A2EB-4DD1-A846-E2632E8A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316-66CB-4274-A8D8-DBF4A50F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0A9-F855-4360-8A2F-7506102C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635-0FC5-422B-B857-B9A63823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120-3DED-4F12-95FF-E1D3CF1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D6C7-61A0-446C-A680-40E5578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48B1-4906-4B32-9273-A63867AA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8B4-53DC-48D6-A87A-1A43992F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6A85-EAE2-4319-8F46-F874ACC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CFD-21DB-4145-AEDE-BDFC60CE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B1B1-117B-4AE1-B0C0-ECE27AE9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9E1-7D0D-4A2A-B833-120B28C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7F76-9B6B-4A45-A82C-E0012F1C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603E-60C4-4D05-BF4C-8570848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3F4C-8A8C-423D-83CB-AE5389BF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7924-61DD-4798-A1A6-4AC5DD4B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C514-8528-44C8-8F49-7BED1126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96A-B200-490A-943B-149E2237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A6C-D502-4EE8-B48F-38DC336E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345-9B88-47F7-8B57-CA111799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8E9-C1C7-4B2C-BFF5-CC768413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F65-4E31-46AB-803D-DBF24099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2BB-642D-4642-AAA5-773D9A7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EE2-060D-42B0-99B8-2329CA44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E77B0E-DD8D-4C56-917B-5F09BF4BE94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B69236-429E-4BF4-9E4E-23CE84ADFF5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76764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e-Infrastructure</a:t>
            </a:r>
            <a:br>
              <a:rPr sz="6000"/>
            </a:b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 in Algeri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3789000"/>
            <a:ext cx="6400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uaouche El-Maouh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maouhab@wissal.d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1584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754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EUMEDGrid-support &amp; EPIK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619272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e-Infrastructure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26560" y="285228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erian Research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 e-Science Gri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Initiative G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619272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ARN Infrastructure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Technological infrastructure f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-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692000" cy="12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754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RN - Connectiv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3104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ational backbone based on 4 PoPs actually and 10 PoPs which are under de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ternational Connectivity through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ANT (European Research Network) with </a:t>
            </a:r>
            <a:r>
              <a:rPr b="0" lang="fr-FR" sz="2200" spc="-1" strike="noStrike">
                <a:solidFill>
                  <a:srgbClr val="ff3300"/>
                </a:solidFill>
                <a:latin typeface="Arial"/>
              </a:rPr>
              <a:t>155 Mbp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rough EC EUMEDCONNECT2 project (May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ternet commodity with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622 Mbp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through commercial Provider (May 2010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75452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330066"/>
                </a:solidFill>
                <a:latin typeface="Arial"/>
              </a:rPr>
              <a:t>ARN</a:t>
            </a:r>
            <a:br>
              <a:rPr sz="3500"/>
            </a:br>
            <a:r>
              <a:rPr b="1" lang="fr-CA" sz="3500" spc="-1" strike="noStrike">
                <a:solidFill>
                  <a:srgbClr val="330066"/>
                </a:solidFill>
                <a:latin typeface="Arial"/>
              </a:rPr>
              <a:t>Action plan (201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ARN Backbone with GE 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international connectivity to GE l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30 Universities to FE (100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all others (50) universities centers, research centers and high schools to FE (10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073240" y="2498760"/>
            <a:ext cx="2305080" cy="7207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8320" y="2421000"/>
            <a:ext cx="2122560" cy="2937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04120" y="2395440"/>
            <a:ext cx="695160" cy="3096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142360" y="299808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571120" y="321408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284000" y="24282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85360" y="27853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214160" y="2498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500080" y="23551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280" y="2714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427080" y="26424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643720" y="5071320"/>
            <a:ext cx="14256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070040" y="23551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34136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Calibri"/>
              </a:rPr>
              <a:t>GEANT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6200" y="26028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11970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600" spc="-1" strike="noStrike">
                <a:solidFill>
                  <a:srgbClr val="ff0000"/>
                </a:solidFill>
                <a:latin typeface="Calibri"/>
              </a:rPr>
              <a:t>STM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3440" y="18446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Calibri"/>
              </a:rPr>
              <a:t>ST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8320" y="2536920"/>
            <a:ext cx="1327320" cy="256356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5320" y="2523960"/>
            <a:ext cx="2073240" cy="3034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78280" y="4791240"/>
            <a:ext cx="849240" cy="3348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4095720"/>
            <a:ext cx="1484280" cy="11192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 rot="10800000">
            <a:off x="4145760" y="5144760"/>
            <a:ext cx="1500840" cy="72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86" name=""/>
          <p:cNvSpPr/>
          <p:nvPr/>
        </p:nvSpPr>
        <p:spPr>
          <a:xfrm>
            <a:off x="5705640" y="4327560"/>
            <a:ext cx="952200" cy="83664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3400" y="2781360"/>
            <a:ext cx="476280" cy="37476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08600" y="2793960"/>
            <a:ext cx="179280" cy="7225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0120" y="2808360"/>
            <a:ext cx="528480" cy="2570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0600" y="376200"/>
            <a:ext cx="3925800" cy="2057400"/>
          </a:xfrm>
          <a:prstGeom prst="pie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>
            <a:off x="1926720" y="720"/>
            <a:ext cx="2429640" cy="430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92" name=""/>
          <p:cNvSpPr/>
          <p:nvPr/>
        </p:nvSpPr>
        <p:spPr>
          <a:xfrm>
            <a:off x="1263600" y="3308400"/>
            <a:ext cx="1305000" cy="193680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35200" y="3348000"/>
            <a:ext cx="41400" cy="18900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7800" y="2878200"/>
            <a:ext cx="390600" cy="1476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53200" y="2475000"/>
            <a:ext cx="243000" cy="7524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9280" y="2629080"/>
            <a:ext cx="88560" cy="1267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5040" y="2505240"/>
            <a:ext cx="1657440" cy="7585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24320" y="2619360"/>
            <a:ext cx="190440" cy="100008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43720" y="2752560"/>
            <a:ext cx="276120" cy="4669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14640" y="2629080"/>
            <a:ext cx="419400" cy="12348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2760" y="2514600"/>
            <a:ext cx="514440" cy="17136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24640" y="2419200"/>
            <a:ext cx="133200" cy="2383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53200" y="2476440"/>
            <a:ext cx="152640" cy="22860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8400" y="2390760"/>
            <a:ext cx="361800" cy="284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10120" y="2400480"/>
            <a:ext cx="514440" cy="950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2400" y="214308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Beja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214160" y="2498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714280" y="2714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24120" y="3238560"/>
            <a:ext cx="628560" cy="572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9720" y="3124080"/>
            <a:ext cx="362160" cy="3715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"/>
          <p:cNvCxnSpPr/>
          <p:nvPr/>
        </p:nvCxnSpPr>
        <p:spPr>
          <a:xfrm flipV="1" rot="10800000">
            <a:off x="-2265480" y="3358800"/>
            <a:ext cx="3093120" cy="180720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12" name=""/>
          <p:cNvSpPr/>
          <p:nvPr/>
        </p:nvSpPr>
        <p:spPr>
          <a:xfrm>
            <a:off x="574560" y="5857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Ad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4040" y="59292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3b76"/>
                </a:solidFill>
                <a:latin typeface="Calibri"/>
              </a:rPr>
              <a:t>Tamanras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08560" y="1284120"/>
            <a:ext cx="806400" cy="1167120"/>
          </a:xfrm>
          <a:prstGeom prst="line">
            <a:avLst/>
          </a:prstGeom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907920"/>
            <a:ext cx="4029120" cy="73296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MESR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GRSD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MBB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UNIV. ALGER (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-Aknoun1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-Aknoun2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ouzareah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i-Messou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ely-Brahim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Maherz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Kharrouba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ergana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), ENTP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STHB, ENP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ES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000" spc="-1" strike="noStrike">
                <a:solidFill>
                  <a:srgbClr val="f13415"/>
                </a:solidFill>
                <a:latin typeface="Calibri"/>
              </a:rPr>
              <a:t>ENV,ENTP,ENSH,INA,EPAU,ISMAL,INPS,INC,ESC,ENS(KOUBA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)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ENS(BOUZAREAH)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ERIST,CDTA,CDER,CSC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RSTDLA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READ,CRAPC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UDTS,UD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ANDRU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ANVREDE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F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26680" y="2286000"/>
            <a:ext cx="1515600" cy="33732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U. ES-SENIA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USTO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ENSET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CRAS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ANDRS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IGM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629080"/>
            <a:ext cx="123840" cy="371160"/>
          </a:xfrm>
          <a:prstGeom prst="pie">
            <a:avLst/>
          </a:prstGeom>
          <a:noFill/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5800" y="1785960"/>
            <a:ext cx="2132640" cy="21564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.  Constantine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. Emir AEK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EN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CRBiotech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.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86480" y="1990800"/>
            <a:ext cx="171360" cy="647640"/>
          </a:xfrm>
          <a:prstGeom prst="pie">
            <a:avLst/>
          </a:prstGeom>
          <a:noFill/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427080" y="26424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643720" y="5071320"/>
            <a:ext cx="14256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040" y="5950080"/>
            <a:ext cx="95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003b76"/>
                </a:solidFill>
                <a:latin typeface="Calibri"/>
              </a:rPr>
              <a:t>(U. Adrar, UE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9440" y="3500280"/>
            <a:ext cx="106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(U. Biskra,CRSTR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75920" y="485784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(U. Ghardaia, URAER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57880" y="2857680"/>
            <a:ext cx="46080" cy="457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86680" y="264312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71920" y="307188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6720" y="292896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14720" y="328608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57240" y="335772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Sidi Bel Abb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129120"/>
            <a:ext cx="38160" cy="180720"/>
          </a:xfrm>
          <a:prstGeom prst="pie">
            <a:avLst/>
          </a:prstGeom>
          <a:solidFill>
            <a:srgbClr val="f13415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19160" y="3103560"/>
            <a:ext cx="219240" cy="1681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8920" y="2714760"/>
            <a:ext cx="95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Bordj Bou Arreridj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00720" y="2809800"/>
            <a:ext cx="323640" cy="763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33160" y="2571840"/>
            <a:ext cx="39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Mi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15120" y="2685960"/>
            <a:ext cx="123840" cy="97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0480" y="292896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Oum-El-Bouagh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2762280"/>
            <a:ext cx="247680" cy="17136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92640" y="2868480"/>
            <a:ext cx="179280" cy="18900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30718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Tissemsil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29760" y="0"/>
            <a:ext cx="714240" cy="50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035760" y="291960"/>
            <a:ext cx="1265040" cy="505080"/>
            <a:chOff x="6035760" y="291960"/>
            <a:chExt cx="1265040" cy="505080"/>
          </a:xfrm>
        </p:grpSpPr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035760" y="291960"/>
              <a:ext cx="12650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145200" y="35676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ARN M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862680" y="2571840"/>
            <a:ext cx="54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Guelm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58040" y="250020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271476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570720" y="2712600"/>
            <a:ext cx="295200" cy="9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192440" y="2477880"/>
            <a:ext cx="173160" cy="29880"/>
          </a:xfrm>
          <a:prstGeom prst="line">
            <a:avLst/>
          </a:prstGeom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18720" y="2500200"/>
            <a:ext cx="48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El-Tar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20480" y="2643120"/>
            <a:ext cx="80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Mostagane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1840" y="2857680"/>
            <a:ext cx="46080" cy="457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212560" y="2863800"/>
            <a:ext cx="366840" cy="13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00280" y="6215040"/>
            <a:ext cx="285840" cy="1440"/>
          </a:xfrm>
          <a:prstGeom prst="line">
            <a:avLst/>
          </a:prstGeom>
          <a:ln w="381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00280" y="6357960"/>
            <a:ext cx="285840" cy="144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00280" y="6500880"/>
            <a:ext cx="285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0280" y="6643800"/>
            <a:ext cx="285840" cy="1440"/>
          </a:xfrm>
          <a:prstGeom prst="line">
            <a:avLst/>
          </a:prstGeom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0280" y="6072120"/>
            <a:ext cx="285840" cy="1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5929200"/>
            <a:ext cx="49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Lien 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30080" y="607212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STM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080" y="621504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STM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9360" y="63579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FE 100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360" y="6500880"/>
            <a:ext cx="49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FE 10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596360" y="5735520"/>
            <a:ext cx="1547640" cy="11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0066"/>
                </a:solidFill>
                <a:latin typeface="Arial"/>
              </a:rPr>
              <a:t>Dz e-Science Grid</a:t>
            </a:r>
            <a:br>
              <a:rPr sz="5400"/>
            </a:br>
            <a:r>
              <a:rPr b="1" lang="fr-FR" sz="5400" spc="-1" strike="noStrike">
                <a:solidFill>
                  <a:srgbClr val="330066"/>
                </a:solidFill>
                <a:latin typeface="Arial"/>
              </a:rPr>
              <a:t> infrastructure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5280" y="3049200"/>
            <a:ext cx="6702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o e-Science communities a plate-form for developing activities which need resources for calculate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un set of Grid resources “clusters” on ARN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rvice to users for porting, deploying and submitting thei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Participation to</a:t>
            </a:r>
            <a:br>
              <a:rPr sz="4800"/>
            </a:b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EC Projects (FP7)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95280" y="3049200"/>
            <a:ext cx="6702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UMEDCONNEC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UMEDGrid-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PI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1584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26920" y="0"/>
            <a:ext cx="74026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UMEDCONNECT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1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21:09:25Z</dcterms:created>
  <dc:creator>Boomscud</dc:creator>
  <dc:description/>
  <dc:language>en-US</dc:language>
  <cp:lastModifiedBy>houbla</cp:lastModifiedBy>
  <dcterms:modified xsi:type="dcterms:W3CDTF">2011-01-25T00:48:38Z</dcterms:modified>
  <cp:revision>33</cp:revision>
  <dc:subject/>
  <dc:title>dzGrid Initiative GRID nationale</dc:title>
</cp:coreProperties>
</file>