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A7E30-871D-441B-94B2-6EB8549C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500F5-8180-4C39-9ED7-290FB07C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C0CC9-A0FD-46EC-9175-04E8B27A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D7DD2-0E21-4126-85EE-8125EE84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7F261-CB32-436C-89DD-B109D8FC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BB0E8-082D-499C-860C-2F1DE8E4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A7FFE-C934-4925-A0B5-2633C1D5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FC3E3-681E-41ED-B77E-0DFB75FB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8A4A8-FB39-4A86-8107-38A377A3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3F00B-5565-41E0-A813-8EF8A7DD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19C61-FD0A-4621-8669-D24B718E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7292E-209F-4097-991C-A1513995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84000" y="6237000"/>
            <a:ext cx="50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cott Rea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  <a:ea typeface="ＭＳ Ｐゴシック"/>
              </a:rPr>
              <a:t>scott.rea@HEBCA.org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187280" y="98100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0A28-7C8B-45E5-98BE-B262412F8838}" type="slidenum"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24360" y="333000"/>
            <a:ext cx="45338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16F7-95D5-44D3-9444-7F42798884D2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011320" cy="1371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cott.Rea@HEBCA.org" TargetMode="External"/><Relationship Id="rId2" Type="http://schemas.openxmlformats.org/officeDocument/2006/relationships/hyperlink" Target="mailto:Roger.Impey@nrc-cnrc.gc.ca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gtf.net/" TargetMode="External"/><Relationship Id="rId2" Type="http://schemas.openxmlformats.org/officeDocument/2006/relationships/hyperlink" Target="http://www.tagpma.org/" TargetMode="External"/><Relationship Id="rId3" Type="http://schemas.openxmlformats.org/officeDocument/2006/relationships/hyperlink" Target="http://tagpma.es.net/wiki" TargetMode="External"/><Relationship Id="rId4" Type="http://schemas.openxmlformats.org/officeDocument/2006/relationships/hyperlink" Target="mailto:Scott.Rea@HEBCA.org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280" y="2924280"/>
            <a:ext cx="48229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n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Update from the TAGPMA</a:t>
            </a:r>
            <a:br>
              <a:rPr sz="3200"/>
            </a:br>
            <a:r>
              <a:rPr b="0" lang="en-GB" sz="2800" spc="-1" strike="noStrike">
                <a:solidFill>
                  <a:srgbClr val="0000ff"/>
                </a:solidFill>
                <a:latin typeface="Impact"/>
              </a:rPr>
              <a:t>Scott Rea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68360" y="4941720"/>
            <a:ext cx="7983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21</a:t>
            </a:r>
            <a:r>
              <a:rPr b="0" lang="en-GB" sz="2800" spc="-1" strike="noStrike" baseline="30000">
                <a:solidFill>
                  <a:srgbClr val="008000"/>
                </a:solidFill>
                <a:latin typeface="Impact"/>
              </a:rPr>
              <a:t>st</a:t>
            </a: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 EUGridPMA, Utrecht, N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Jan 25, 2011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72000" y="765000"/>
            <a:ext cx="3527280" cy="1287000"/>
            <a:chOff x="4572000" y="765000"/>
            <a:chExt cx="3527280" cy="1287000"/>
          </a:xfrm>
        </p:grpSpPr>
        <p:sp>
          <p:nvSpPr>
            <p:cNvPr id="87" name=""/>
            <p:cNvSpPr txBox="1"/>
            <p:nvPr/>
          </p:nvSpPr>
          <p:spPr>
            <a:xfrm>
              <a:off x="4626000" y="7650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14094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urrent Offi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hair: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Scott Rea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HEB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Scott.Rea@HEBCA.or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Vice Chair: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Roger Impey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CANARI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Roger.Impey@nrc-cnrc.gc.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(since July 2009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ecretary: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Alan Sill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THEGrid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an.sill@ttu.edu 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Jim Marsteller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(TeraGrid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m@psc.ed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Alan handles logistics &amp; scribe, Jim handles membership &amp; accreditation track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(since Nov 201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Doug Olson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 (OSG)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lolson@lbl.gov resigned in Nov 2010 due to changing role at OS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63640" y="1125360"/>
          <a:ext cx="6842160" cy="5102280"/>
        </p:xfrm>
        <a:graphic>
          <a:graphicData uri="http://schemas.openxmlformats.org/drawingml/2006/table">
            <a:tbl>
              <a:tblPr/>
              <a:tblGrid>
                <a:gridCol w="1943280"/>
                <a:gridCol w="504720"/>
                <a:gridCol w="1785960"/>
                <a:gridCol w="2608200"/>
              </a:tblGrid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z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resenta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uben Aqui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A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e Stol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ula Veno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A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ger Imp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ndra Ja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NP-U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764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TBA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, M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EGri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ke He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EU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Basn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 x 2, MICS x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R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reyas Cho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N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win Gai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rek Simm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ug Ol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ra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Marstell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C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ve Kels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B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RA 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rry Pere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bie Bucc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an Si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CS UT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haniel Mendoz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 (in-process: Op Revie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AND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res Hog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: Op Revie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AMH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chard Migu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gio Liet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D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Sak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S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0" y="260280"/>
            <a:ext cx="66358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25 Members from North, Central and South Ameri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Covering Canada, US, Mexico, Venezuela, Chile, Peru Argentina, Brazil, and Colombia. Two Catchall CAs cover the remaining countr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17 IGTF Accredited 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9 Classic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TACC - US, UFF BrGrid &amp; UFF LACGrid - Brazil, UNLPGrid - Argentina, REUNA – Chile, ULAGrid – Venezuela, GridCanada, UNAM - Mexico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NOTE: DOE Grid accredited by EUGridP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5 SLCS (NCSA x 2, FermiLabs, NERSC, and PSC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3 MICS (NCSA - US, CILogin - US and TACC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6 CAs in-process, pending accredi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3 Classic pending (SENAMHI – Peru, UNIANDES – Colombia, ANSP – B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1 MICS pending (SDSC – US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1 SLCS pending (NICS UTK –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7 Relying Par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(OSG, TeraGrid, THEgrid, LCG, HEBCA, NIH, SURA Gri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2 relying parties added at last F2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1 Member in suspended status due to inactiv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UVA (Jim Jokl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1 Member representative un-specified due to change in personn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mmunication Infrastru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GTF Websit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igtf.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Websit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tagpma.org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static, public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Still undergoing upd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twiki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(s)://tagpma.es.net/wik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TAGPMA documents, tutorial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Contains agenda and minutes from bi-weekly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I.e. more active (in-process) type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ailing li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gpma-general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ailing lists have been moved over to Google Apps for Education, also enabling Calendar, Docs &amp; Si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Email any issues direct to the Chair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Scott.Rea@HEBCA.org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Symposium on Authentication Technologies; Roundtable on Cloud and Grid Security Standards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October 4</a:t>
            </a:r>
            <a:r>
              <a:rPr b="1" lang="en-US" sz="1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, 201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Verdana"/>
              </a:rPr>
              <a:t>Details can be found her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300" spc="-1" strike="noStrike">
                <a:solidFill>
                  <a:srgbClr val="333399"/>
                </a:solidFill>
                <a:latin typeface="Verdana"/>
              </a:rPr>
              <a:t>http://indico.rnp.br/conferenceDisplay.py?confId=85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12</a:t>
            </a:r>
            <a:r>
              <a:rPr b="1" lang="en-US" sz="1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 TAGPMA F2F &amp; IGTF 5</a:t>
            </a:r>
            <a:r>
              <a:rPr b="1" lang="en-US" sz="1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 Anniversary at Texas Tech Uni, Lubbock, T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Verdana"/>
              </a:rPr>
              <a:t>October 5 – 7, 201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Verdana"/>
              </a:rPr>
              <a:t>Details can be found her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300" spc="-1" strike="noStrike">
                <a:solidFill>
                  <a:srgbClr val="333399"/>
                </a:solidFill>
                <a:latin typeface="Verdana"/>
              </a:rPr>
              <a:t>http://indico.rnp.br/conferenceDisplay.py?confId=85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Verdana"/>
              </a:rPr>
              <a:t>Most Recent Accredit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Verdana"/>
              </a:rPr>
              <a:t>NCSA CILogin (MICS) – Oct 7, 201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Verdana"/>
              </a:rPr>
              <a:t>NICS &amp; UNIANDES just awaiting Operational Review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Membershi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3 CAs (2xClassic, 1xMICS) in process for accredit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2 Relying Parties (SURA, NIH) added – Oct 7, 201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Authentication Profi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MICS 1.2 approved by TAGPMA (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ttp://tagpma.es.net/wiki/bin/view/Main/TagMICS)</a:t>
            </a: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ext TAGPMA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13th TAGPMA F2F planned for Bogota, Columb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1-3 June, 20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Details to follow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onference C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ortnightly Video Conference Call are now on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Wednesdays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26th January, 11am C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Video ESNet 884483 or GDS 0011349884483 or phone 1-510-883-7860 884483#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The agenda is usually posted on tagpma-general the day befor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Feel free to join to attend meeting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Verdana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Scott Rea</dc:creator>
  <dc:description/>
  <dc:language>en-US</dc:language>
  <cp:lastModifiedBy>Scott</cp:lastModifiedBy>
  <dcterms:modified xsi:type="dcterms:W3CDTF">2011-01-25T13:10:31Z</dcterms:modified>
  <cp:revision>129</cp:revision>
  <dc:subject>21st EUGridPMA</dc:subject>
  <dc:title>TAGPMA Update</dc:title>
</cp:coreProperties>
</file>