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63D6-BE2B-46A2-91F6-16BDD600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4DCA-2418-4C84-BC55-5D6C6E5F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9C48-F20E-4621-B214-3735DE7E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16521-C8AE-4263-B282-2E34C273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BC60-7CD9-4BFF-BA02-EBBCE8E2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AAA50-C023-47AC-B1F9-CCA06F44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0B70-CBEE-448F-8B2A-D11FE1C4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FD6C-BF8A-4146-BCE1-8B20FCEE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3189-DC3E-46A1-8C67-08B82308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DD4F-0BAE-4F4D-8BD8-F5F153F8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A2905-99FF-4328-BF3E-82E34B1A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DFE2-6306-478E-9434-90EB2667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2360" t="6749" r="2352" b="2178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267760" y="6124680"/>
            <a:ext cx="517320" cy="376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723960" y="5262480"/>
            <a:ext cx="1800000" cy="8762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2222640" y="1770120"/>
            <a:ext cx="6921360" cy="50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4880" y="293760"/>
            <a:ext cx="76946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04880" y="1668600"/>
            <a:ext cx="7694640" cy="38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2360" t="2364" r="2828" b="23437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694640" y="6286680"/>
            <a:ext cx="1079640" cy="393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80880" y="6534000"/>
            <a:ext cx="5761080" cy="32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rcRect l="0" t="-35346" r="-25969" b="0"/>
          <a:stretch/>
        </p:blipFill>
        <p:spPr>
          <a:xfrm>
            <a:off x="4356000" y="0"/>
            <a:ext cx="4788000" cy="2954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1"/>
          </p:nvPr>
        </p:nvSpPr>
        <p:spPr>
          <a:xfrm>
            <a:off x="5333760" y="6530760"/>
            <a:ext cx="4014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BE" sz="900" spc="-1" strike="noStrike">
                <a:solidFill>
                  <a:srgbClr val="8b8e8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207406-6741-486A-9313-27903833E940}" type="slidenum">
              <a:rPr b="0" lang="nl-BE" sz="900" spc="-1" strike="noStrike">
                <a:solidFill>
                  <a:srgbClr val="8b8e8d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1432080" y="6530760"/>
            <a:ext cx="38988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8b8e8d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  <a:ea typeface="Lucida Sans Unicode"/>
              </a:rPr>
              <a:t>BEgrid CA update</a:t>
            </a:r>
            <a:endParaRPr b="0" lang="en-US" sz="9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3"/>
          </p:nvPr>
        </p:nvSpPr>
        <p:spPr>
          <a:xfrm>
            <a:off x="720360" y="6530760"/>
            <a:ext cx="82548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900" spc="-1" strike="noStrike">
                <a:solidFill>
                  <a:srgbClr val="96979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  <a:ea typeface="Lucida Sans Unicode"/>
              </a:rPr>
              <a:t>25 january 2011</a:t>
            </a:r>
            <a:endParaRPr b="0" lang="en-US" sz="9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rcRect l="2360" t="2364" r="2828" b="23437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694640" y="6286680"/>
            <a:ext cx="1079640" cy="393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95280" y="6534000"/>
            <a:ext cx="5761080" cy="324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rcRect l="0" t="-35346" r="-25969" b="0"/>
          <a:stretch/>
        </p:blipFill>
        <p:spPr>
          <a:xfrm>
            <a:off x="4356000" y="0"/>
            <a:ext cx="4788000" cy="29541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4"/>
          </p:nvPr>
        </p:nvSpPr>
        <p:spPr>
          <a:xfrm>
            <a:off x="1432080" y="6530760"/>
            <a:ext cx="38988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8b8e8d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  <a:ea typeface="Lucida Sans Unicode"/>
              </a:rPr>
              <a:t>BEgrid CA update</a:t>
            </a:r>
            <a:endParaRPr b="0" lang="en-US" sz="9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dt" idx="5"/>
          </p:nvPr>
        </p:nvSpPr>
        <p:spPr>
          <a:xfrm>
            <a:off x="720360" y="6530760"/>
            <a:ext cx="82548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900" spc="-1" strike="noStrike">
                <a:solidFill>
                  <a:srgbClr val="96979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  <a:ea typeface="Lucida Sans Unicode"/>
              </a:rPr>
              <a:t>25 january 2011</a:t>
            </a:r>
            <a:endParaRPr b="0" lang="en-US" sz="9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6554880"/>
            <a:ext cx="403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6C8CB-0CEF-4793-B507-6DE6A379C934}" type="slidenum">
              <a:rPr b="0" lang="nl-BE" sz="900" spc="-1" strike="noStrike">
                <a:solidFill>
                  <a:srgbClr val="8b8e8d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4e504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pentrust.com/" TargetMode="External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04520" y="293400"/>
            <a:ext cx="769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EUGridPMA – BEgrid CA updat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04520" y="1668600"/>
            <a:ext cx="769788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net – Jean-Christophe 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trecht – 25 January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Certificate request (local RA)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The user make the request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The corresponding RA contact him: 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Personnal identification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heck email addres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heck if the user is entitled to use the Grid (collect needed documents)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The RA validates the reques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The CA signs the certificate (automatic)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8920" y="358560"/>
            <a:ext cx="75308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Certificate request (no local RA)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The user make the request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BEgrid PKI staff contact him: 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Personnal identification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heck email addres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heck if the user is entitled to use the Grid (collect needed documents, contact the institution)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BEgrid PKI staff validates the reques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The CA signs the certificate (automatic)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 Rounded MT Bold"/>
              </a:rPr>
              <a:t>Some statistic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4360" y="1628640"/>
          <a:ext cx="7530840" cy="4111560"/>
        </p:xfrm>
        <a:graphic>
          <a:graphicData uri="http://schemas.openxmlformats.org/drawingml/2006/table">
            <a:tbl>
              <a:tblPr/>
              <a:tblGrid>
                <a:gridCol w="1139760"/>
                <a:gridCol w="1914480"/>
                <a:gridCol w="2332080"/>
                <a:gridCol w="2144520"/>
              </a:tblGrid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Date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Issuance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Revocation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Expiration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05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148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06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77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07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84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61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08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349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135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355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10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313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11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 Rounded MT Bold"/>
              </a:rPr>
              <a:t>Futur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Still use our own (Opentrust) CA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We are happy with it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Need to renew the licence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Switch to TERENA’s Personnal Certificate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Will be investigated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What will happen for the local RA’s ?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9280" y="358920"/>
            <a:ext cx="75326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Begrid CA syste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9280" y="1982520"/>
            <a:ext cx="753264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92d2"/>
              </a:buClr>
              <a:buSzPct val="70000"/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OLD system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644400" indent="-271440">
              <a:spcBef>
                <a:spcPts val="451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OpenCA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644400" indent="-271440">
              <a:spcBef>
                <a:spcPts val="451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Was working but...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1147680" indent="-228600">
              <a:spcBef>
                <a:spcPts val="400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600" spc="-1" strike="noStrike">
                <a:solidFill>
                  <a:srgbClr val="4e504f"/>
                </a:solidFill>
                <a:latin typeface="Arial"/>
              </a:rPr>
              <a:t>Lot of work on BELNET part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2" marL="1147680" indent="-228600">
              <a:spcBef>
                <a:spcPts val="400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600" spc="-1" strike="noStrike">
                <a:solidFill>
                  <a:srgbClr val="4e504f"/>
                </a:solidFill>
                <a:latin typeface="Arial"/>
              </a:rPr>
              <a:t>No local RA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92d2"/>
              </a:buClr>
              <a:buSzPct val="70000"/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Call of tender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644400" indent="-271440">
              <a:spcBef>
                <a:spcPts val="451"/>
              </a:spcBef>
              <a:buClr>
                <a:srgbClr val="0092d2"/>
              </a:buClr>
              <a:buSzPct val="70000"/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PKI system (not only) for the BEgrid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644400" indent="-271440">
              <a:spcBef>
                <a:spcPts val="451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Product / Full Service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644400" indent="-271440">
              <a:spcBef>
                <a:spcPts val="451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6 answer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1147680" indent="-228600">
              <a:spcBef>
                <a:spcPts val="400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600" spc="-1" strike="noStrike">
                <a:solidFill>
                  <a:srgbClr val="4e504f"/>
                </a:solidFill>
                <a:latin typeface="Arial"/>
              </a:rPr>
              <a:t>4 Full Service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2" marL="1147680" indent="-228600">
              <a:spcBef>
                <a:spcPts val="400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600" spc="-1" strike="noStrike">
                <a:solidFill>
                  <a:srgbClr val="4e504f"/>
                </a:solidFill>
                <a:latin typeface="Arial"/>
              </a:rPr>
              <a:t>2 Software products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tl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6DD62-587C-44DC-89D8-6D66329D2F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0092d2"/>
              </a:buClr>
              <a:buSzPct val="7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Current Syste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OpenTrust PKI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opentrust.com/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We may operate as much CA and Root CA as we wan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We may deliver as much certificates as we wan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Live since the 28</a:t>
            </a:r>
            <a:r>
              <a:rPr b="1" lang="nl-BE" sz="2400" spc="-1" strike="noStrike" baseline="33000">
                <a:solidFill>
                  <a:srgbClr val="0092d2"/>
                </a:solidFill>
                <a:latin typeface="Arial"/>
              </a:rPr>
              <a:t>th</a:t>
            </a: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 october 2008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4e504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BEgrid CA syste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Module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A, RA, EE, Log, Management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May be splitted on different server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Internal certificates for module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Access rights per module / certificate profile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Certificates: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 </a:t>
            </a: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profile per institution (associated RA)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 Rounded MT Bold"/>
              </a:rPr>
              <a:t>BEgrid CA certificate profil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337080" cy="46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 Rounded MT Bold"/>
              </a:rPr>
              <a:t>BEgrid CA certificate profil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696000" cy="49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BEgrid CA current syste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411280" y="1413000"/>
          <a:ext cx="434340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413000"/>
                    <a:ext cx="43434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9280" y="358920"/>
            <a:ext cx="75326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BEgrid CA current syste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BELNET / BEgrid staff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Authority for the system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entral RA / backup RA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Monitoring of the system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Supervision of the local RA’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Local RA’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urrently: 12 people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Staff of the various institution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Trained by BEgrid staff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itl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Begrid CA local RA’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Managed by a 2 year convention between the RA, its institution and BELNET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Followed a training by BELNET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Should know their users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Should have a backup person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Validates the certificate / revocation request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0:23:45Z</dcterms:created>
  <dc:creator>Elke</dc:creator>
  <dc:description/>
  <dc:language>en-US</dc:language>
  <cp:lastModifiedBy>Jean-Christophe Real</cp:lastModifiedBy>
  <dcterms:modified xsi:type="dcterms:W3CDTF">2011-01-24T14:23:13Z</dcterms:modified>
  <cp:revision>11</cp:revision>
  <dc:subject/>
  <dc:title>Title presentation</dc:title>
</cp:coreProperties>
</file>