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B1423-3F42-42B1-9B26-274DD785D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DF4CC-7D18-4D92-9A64-E4D14DBA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7A016-4354-4980-9F28-ACCBCB03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1CAAA-2558-46B5-A8DA-A8DAC5151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7D84AD-D742-4F52-A15D-39D9FA10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8AA11-D052-4A82-AFA0-40ADEA8C7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F0D03-BC7D-4543-B117-C9599A9E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 24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19048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914400"/>
          <a:ext cx="7486920" cy="492912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5120"/>
                <a:gridCol w="1905120"/>
              </a:tblGrid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1, Dec.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TextBox 4" descr=""/>
          <p:cNvPicPr/>
          <p:nvPr/>
        </p:nvPicPr>
        <p:blipFill>
          <a:blip r:embed="rId1"/>
          <a:stretch/>
        </p:blipFill>
        <p:spPr>
          <a:xfrm>
            <a:off x="5645160" y="39132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hart 2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vious APGridPMA meeting was held on Oct. 12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Operation Policy and Practice Update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T, IGCA, KEK, NCHC, and ASG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ly self audit report mechanism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APGridPMA F2F Meeting will be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delayed from last mee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DS Workshop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: Natural Disaster Mitigation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I: Life Science (20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a@home Hackfest (20-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GF Tutorial (DEGISCO) (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TF All-Hands Meeting (21 - 22 March) +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GC 2010 Symposium(22 - 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31 (21-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: Comments are welco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mac</cp:lastModifiedBy>
  <dcterms:modified xsi:type="dcterms:W3CDTF">2011-01-24T08:42:23Z</dcterms:modified>
  <cp:revision>229</cp:revision>
  <dc:subject/>
  <dc:title>International Grid Trust Federation Session  GGF 18 Washington, DC, USA</dc:title>
</cp:coreProperties>
</file>