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DBB3378-3AAF-431E-888B-F29FDF9456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239EA93-11F6-4E71-84FE-2017F07487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9A71BE7-7CB7-46BC-92BA-378E83333C7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F643A85-3CCB-4F45-B86B-1C9BCF76B80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7075E53-210D-4D1F-AF8C-5B73700FACE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28790CD-B85E-4892-B6CC-AA00C4D751F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0952025-291F-4753-AE32-8DD3F00D5E3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5FF972E-5231-4136-80B5-779BA4FF8E2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FEB63D7-2B79-4B2E-BB67-BA31E8D2244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EE6C14B8-3109-4F82-A69C-0AF5CF6828E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9A08E26-2137-40E7-BE40-547AC26DEEB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E3A941D-81FF-47D3-AB8C-0D54452F106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110E76C-A583-4C09-B54B-B65D68A683C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2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nd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May 11-13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Prague, Czech Republic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CESNET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ilan Sova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7" name="Picture 7" descr="H:\Home\davidg\Template\Logos\cesnet-logo.gif"/>
          <p:cNvPicPr/>
          <p:nvPr/>
        </p:nvPicPr>
        <p:blipFill>
          <a:blip r:embed="rId1"/>
          <a:stretch/>
        </p:blipFill>
        <p:spPr>
          <a:xfrm>
            <a:off x="636480" y="1517760"/>
            <a:ext cx="521820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Nuno Dias &amp; Jules Wolfrat for the January no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1-05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and highligh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353880" y="1170000"/>
            <a:ext cx="855360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814320" y="1324080"/>
            <a:ext cx="751536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812880" y="1230480"/>
            <a:ext cx="616248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811080" y="1996920"/>
            <a:ext cx="772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be Connect document sharing will be used to collaborate on documents - especially during editing sessions and the AuthZ W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https://webconf.vc.dfn.de/r1715982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vide your n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obe Connect is provided by the DFN Vere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NC2011</a:t>
            </a:r>
            <a:br>
              <a:rPr sz="2400"/>
            </a:br>
            <a:r>
              <a:rPr b="0" i="1" lang="en-GB" sz="2400" spc="-1" strike="noStrike">
                <a:solidFill>
                  <a:srgbClr val="990000"/>
                </a:solidFill>
                <a:latin typeface="Lucida Sans"/>
              </a:rPr>
              <a:t>here</a:t>
            </a: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, 16-19 May 2011 (REFEDs on Sunda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AGPMA meeting &amp; OGF32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alt Lake City, UT, USA, ~ 14-19 Ju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3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Marrakech, MA, 12-14 September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 33 and EGI-TF11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yon, FR, 19-23 September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4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jubljana, January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5-09T20:05:00Z</dcterms:modified>
  <cp:revision>587</cp:revision>
  <dc:subject/>
  <dc:title>European Grid Policy Management Authority</dc:title>
</cp:coreProperties>
</file>