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0CF2A-BC94-4315-9FA8-3AF34E167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10F37-6A0B-4564-B7F4-B763786E7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3EDF7-D718-4E22-8C38-EF2C02CB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3A36B-59D5-466F-B85B-CC4CE524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27CA3-9A30-46E4-84E3-9BCC1841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84817-6975-43D0-ABFF-CB1817E7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94D4F-4BAB-45B3-98D4-0E8178AC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M CA is serving as part of NGI-M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2ABF2-4291-40C7-9D93-63FBC5A3D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 NGO-Netrust  data in statistics of Mar.’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88457-6B07-490A-892F-5934406E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788B9-B4E3-49BC-8317-D535861C2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5E0AE-119D-4253-8BD2-41C541A24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82FAC-F0ED-43F7-8C56-E6ACDCD1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80A31-FC72-42BD-8B4F-58363FA2B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 of APGrid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inny Ch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GridP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11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7 -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0" y="714240"/>
            <a:ext cx="53341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 </a:t>
            </a:r>
            <a:r>
              <a:rPr b="0" i="1" lang="en-US" sz="2200" spc="-1" strike="noStrike" u="sng">
                <a:solidFill>
                  <a:srgbClr val="800000"/>
                </a:solidFill>
                <a:uFillTx/>
                <a:latin typeface="Comic Sans MS"/>
                <a:ea typeface="ＭＳ Ｐゴシック"/>
              </a:rPr>
              <a:t>Withdrew 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114800" y="304920"/>
            <a:ext cx="48769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M (MY) was approved as a new member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-Netrust (SG) withdraw was approved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2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Zealand WLCG site is in production, with CA support from AR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190840" y="5581800"/>
            <a:ext cx="37011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11 Countries/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71560" y="692280"/>
          <a:ext cx="7488360" cy="5806800"/>
        </p:xfrm>
        <a:graphic>
          <a:graphicData uri="http://schemas.openxmlformats.org/drawingml/2006/table">
            <a:tbl>
              <a:tblPr/>
              <a:tblGrid>
                <a:gridCol w="2071800"/>
                <a:gridCol w="1604880"/>
                <a:gridCol w="1906560"/>
                <a:gridCol w="1905120"/>
              </a:tblGrid>
              <a:tr h="540000"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63"/>
          <p:cNvSpPr/>
          <p:nvPr/>
        </p:nvSpPr>
        <p:spPr>
          <a:xfrm>
            <a:off x="285840" y="655956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05, May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文字方塊 65"/>
          <p:cNvGrpSpPr/>
          <p:nvPr/>
        </p:nvGrpSpPr>
        <p:grpSpPr>
          <a:xfrm>
            <a:off x="6345360" y="4541760"/>
            <a:ext cx="2590560" cy="1725840"/>
            <a:chOff x="6345360" y="4541760"/>
            <a:chExt cx="2590560" cy="1725840"/>
          </a:xfrm>
        </p:grpSpPr>
        <p:pic>
          <p:nvPicPr>
            <p:cNvPr id="189" name="文字方塊 65" descr=""/>
            <p:cNvPicPr/>
            <p:nvPr/>
          </p:nvPicPr>
          <p:blipFill>
            <a:blip r:embed="rId1"/>
            <a:stretch/>
          </p:blipFill>
          <p:spPr>
            <a:xfrm>
              <a:off x="6345360" y="4541760"/>
              <a:ext cx="259056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rot="20640000">
              <a:off x="6473880" y="4869000"/>
              <a:ext cx="234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User 178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Host 261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-12600" y="762120"/>
            <a:ext cx="9212040" cy="56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523880" y="44280"/>
            <a:ext cx="7391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GTF All Hands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 &amp; Time: March 21-22,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: Academia Sinica, Taipei, Tai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ocated Events: OGF31, ISGC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pic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come and 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 from TAGPMA, EUGridPMA and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irty Service Token by EUGridPMA and Grid User Pop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raft profile for Attribute Authority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use of SHA-2 for Grid Certificates by TAG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vate Key Protection by EU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CAOPS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id User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1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nda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indico.twgrid.org/conferenceDisplay.py?confId=9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en-US" sz="2400" spc="-1" strike="noStrike" baseline="33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PGridPMA F2F Meeting was held on Mar.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 AIST, NAREGI-CA (due to the earthqu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HKU, IHEP, PRA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member report: UPM (Yoshio and Jinny review the revised CPC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F2F meeting: Sapporo Japan, Oct 17, 2011, by A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llocated with PRAGMA 21 (Oct. 18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deo Conference : under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23:10Z</dcterms:created>
  <dc:creator>David Groep</dc:creator>
  <dc:description/>
  <dc:language>en-US</dc:language>
  <cp:lastModifiedBy>bluesea520</cp:lastModifiedBy>
  <dcterms:modified xsi:type="dcterms:W3CDTF">2011-05-11T11:50:22Z</dcterms:modified>
  <cp:revision>236</cp:revision>
  <dc:subject/>
  <dc:title>International Grid Trust Federation Session  GGF 18 Washington, DC, USA</dc:title>
</cp:coreProperties>
</file>