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gif" ContentType="image/gif"/>
  <Override PartName="/ppt/media/image31.jpeg" ContentType="image/jpeg"/>
  <Override PartName="/ppt/media/image47.wmf" ContentType="image/x-wmf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png" ContentType="image/png"/>
  <Override PartName="/ppt/media/image46.wmf" ContentType="image/x-wmf"/>
  <Override PartName="/ppt/media/image48.jpeg" ContentType="image/jpeg"/>
  <Override PartName="/ppt/media/image53.png" ContentType="image/png"/>
  <Override PartName="/ppt/media/image56.jpeg" ContentType="image/jpeg"/>
  <Override PartName="/ppt/media/image32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2.jpeg" ContentType="image/jpe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E3823B-AB24-4162-A815-92AE0B50EBC9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D3C581-90BE-408C-844B-D3EBCC9CE94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5 Watt /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5822B3-4DF0-41DA-A7DB-616F57616C88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F296AF-DD67-4161-B234-027690F6C32F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6DD7EA-8BBB-4C9B-8CB1-9574E8050AD9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FF25BD-ED34-456D-9963-D526567CB4D4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0376E7-B778-40F3-B19C-52D14BB78D50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71D7AC-E6CE-4E34-854A-F928489C51B7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8120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1A92-2E0B-49CB-B128-6127C44F1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156C-1BB2-4D17-A188-C1B7D4518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3DE8-F8E8-477A-99A2-10C1459B9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DFD-7D6D-4534-AFF1-6F6764D4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ED1D-3D25-4AF4-8DD2-D388FDF62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BF15-247A-4687-A3AF-47055DD5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C2B1-511C-43FA-98D4-EB10B55C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C329-C049-4062-9D82-034E4782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629F-3B36-4DCC-BB66-E623092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D6B0-09F3-475A-9F43-AEB80308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14E3-6DE7-4140-813C-E1BB02B837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8832-A5C1-4E7E-8CF3-893A1BA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979F-BE15-4579-A85E-22AC483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1932-D166-4C65-B09D-9A7DE2E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F938-22DE-4D1D-9E72-D169DA9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8EC0-4193-416E-82EF-6FB9101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E74D-C176-4DB5-B9A3-7041D36A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DBA8-9A3C-454C-8910-73CFD0A1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46CF-2640-485E-BA35-12604BB46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33B4-6EAF-420D-9361-85E31B553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9ADA-0852-4263-B2DF-C7E5EFC7D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1565-B7DE-4A83-9F74-A3FAD10C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9C9E-41D5-4414-9C08-F8BCC6DF4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297D-8E3A-4D5C-A97A-59016FA94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E5F7-535A-43AC-8560-549C201D22D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4" descr="Prace_ppt_etusivu_korjattu"/>
          <p:cNvPicPr/>
          <p:nvPr/>
        </p:nvPicPr>
        <p:blipFill>
          <a:blip r:embed="rId2"/>
          <a:stretch/>
        </p:blipFill>
        <p:spPr>
          <a:xfrm>
            <a:off x="0" y="-9360"/>
            <a:ext cx="9906120" cy="6876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2" descr="Prace_ppt_alapalkki_logot"/>
          <p:cNvPicPr/>
          <p:nvPr/>
        </p:nvPicPr>
        <p:blipFill>
          <a:blip r:embed="rId3"/>
          <a:stretch/>
        </p:blipFill>
        <p:spPr>
          <a:xfrm>
            <a:off x="0" y="6039000"/>
            <a:ext cx="9906120" cy="89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FB8-E918-44DA-A687-A9CC6B07EFB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3"/>
          </p:nvPr>
        </p:nvSpPr>
        <p:spPr>
          <a:xfrm>
            <a:off x="200160" y="6524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3384360" y="6524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image" Target="../media/image48.jpe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jpe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47.wmf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flaggezeigen.de/catalog/product_info.php?products_id=848&amp;osCsid=419ba85839d98946a8c35337d98692f3" TargetMode="External"/><Relationship Id="rId4" Type="http://schemas.openxmlformats.org/officeDocument/2006/relationships/image" Target="../media/image24.png"/><Relationship Id="rId5" Type="http://schemas.openxmlformats.org/officeDocument/2006/relationships/hyperlink" Target="http://www.flaggezeigen.de/catalog/product_info.php?products_id=469&amp;osCsid=419ba85839d98946a8c35337d98692f3" TargetMode="External"/><Relationship Id="rId6" Type="http://schemas.openxmlformats.org/officeDocument/2006/relationships/image" Target="../media/image25.png"/><Relationship Id="rId7" Type="http://schemas.openxmlformats.org/officeDocument/2006/relationships/hyperlink" Target="http://www.flaggezeigen.de/catalog/product_info.php?products_id=474&amp;osCsid=419ba85839d98946a8c35337d98692f3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www.flaggezeigen.de/catalog/product_info.php?products_id=476&amp;osCsid=419ba85839d98946a8c35337d98692f3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http://www.flaggezeigen.de/catalog/product_info.php?products_id=443&amp;osCsid=419ba85839d98946a8c35337d98692f3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www.flaggezeigen.de/catalog/product_info.php?products_id=527&amp;osCsid=419ba85839d98946a8c35337d98692f3" TargetMode="External"/><Relationship Id="rId14" Type="http://schemas.openxmlformats.org/officeDocument/2006/relationships/image" Target="../media/image29.jpeg"/><Relationship Id="rId15" Type="http://schemas.openxmlformats.org/officeDocument/2006/relationships/hyperlink" Target="http://www.flaggezeigen.de/catalog/product_info.php?products_id=529&amp;osCsid=419ba85839d98946a8c35337d98692f3" TargetMode="External"/><Relationship Id="rId16" Type="http://schemas.openxmlformats.org/officeDocument/2006/relationships/image" Target="../media/image30.jpeg"/><Relationship Id="rId17" Type="http://schemas.openxmlformats.org/officeDocument/2006/relationships/hyperlink" Target="http://www.flaggezeigen.de/catalog/product_info.php?products_id=531&amp;osCsid=419ba85839d98946a8c35337d98692f3" TargetMode="External"/><Relationship Id="rId18" Type="http://schemas.openxmlformats.org/officeDocument/2006/relationships/image" Target="../media/image31.jpeg"/><Relationship Id="rId19" Type="http://schemas.openxmlformats.org/officeDocument/2006/relationships/hyperlink" Target="http://www.flaggezeigen.de/catalog/product_info.php?products_id=550&amp;osCsid=419ba85839d98946a8c35337d98692f3" TargetMode="External"/><Relationship Id="rId20" Type="http://schemas.openxmlformats.org/officeDocument/2006/relationships/image" Target="../media/image32.jpeg"/><Relationship Id="rId21" Type="http://schemas.openxmlformats.org/officeDocument/2006/relationships/hyperlink" Target="http://www.flaggezeigen.de/catalog/product_info.php?products_id=553&amp;osCsid=419ba85839d98946a8c35337d98692f3" TargetMode="External"/><Relationship Id="rId22" Type="http://schemas.openxmlformats.org/officeDocument/2006/relationships/image" Target="../media/image33.jpeg"/><Relationship Id="rId23" Type="http://schemas.openxmlformats.org/officeDocument/2006/relationships/hyperlink" Target="http://www.flaggezeigen.de/catalog/product_info.php?products_id=533&amp;osCsid=419ba85839d98946a8c35337d98692f3" TargetMode="External"/><Relationship Id="rId24" Type="http://schemas.openxmlformats.org/officeDocument/2006/relationships/image" Target="../media/image34.jpeg"/><Relationship Id="rId25" Type="http://schemas.openxmlformats.org/officeDocument/2006/relationships/hyperlink" Target="http://www.flaggezeigen.de/catalog/product_info.php?products_id=565&amp;osCsid=419ba85839d98946a8c35337d98692f3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flaggezeigen.de/catalog/product_info.php?products_id=921&amp;osCsid=419ba85839d98946a8c35337d98692f3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www.flaggezeigen.de/catalog/product_info.php?products_id=544&amp;osCsid=419ba85839d98946a8c35337d98692f3" TargetMode="External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25.png"/><Relationship Id="rId34" Type="http://schemas.openxmlformats.org/officeDocument/2006/relationships/image" Target="../media/image40.png"/><Relationship Id="rId35" Type="http://schemas.openxmlformats.org/officeDocument/2006/relationships/image" Target="../media/image41.jpeg"/><Relationship Id="rId36" Type="http://schemas.openxmlformats.org/officeDocument/2006/relationships/image" Target="../media/image42.jpeg"/><Relationship Id="rId3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9906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urope’s Supercomputing Research Infrastructure</a:t>
            </a:r>
            <a:endParaRPr b="0" lang="en-US" sz="3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55897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les Wolfrat– 2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UGridPMA meeting,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9AC4-A7C1-40F6-8BAD-B007C88A1DD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Tier-0 System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9800" y="2133360"/>
            <a:ext cx="86994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s cycles since Aug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ugene: BlueGene/P in GCS@Juel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2 Racks, 1 PFlop/s P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5%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d by GENCI since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urie: Bull Cluster with Intel CPUs operated by C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.6 PFlop/s peak in Oct.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argest fraction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system at HLRS annou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16680" indent="-2844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 CRAY XE6 system (one Petaflop/s end of 201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Procurements (in alphabetical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SC, CINECA, GCS@LR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curement plan  based on analysis of user requirements and mark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Curie"/>
          <p:cNvPicPr/>
          <p:nvPr/>
        </p:nvPicPr>
        <p:blipFill>
          <a:blip r:embed="rId1"/>
          <a:srcRect l="1388" t="7058" r="1823" b="12086"/>
          <a:stretch/>
        </p:blipFill>
        <p:spPr>
          <a:xfrm>
            <a:off x="7400880" y="4021200"/>
            <a:ext cx="2233800" cy="185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JUGENE_46"/>
          <p:cNvPicPr/>
          <p:nvPr/>
        </p:nvPicPr>
        <p:blipFill>
          <a:blip r:embed="rId2"/>
          <a:srcRect l="0" t="24421" r="0" b="0"/>
          <a:stretch/>
        </p:blipFill>
        <p:spPr>
          <a:xfrm>
            <a:off x="7257960" y="2349360"/>
            <a:ext cx="25192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CALLS FOR PROPOSAL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7B9-C3CD-48A6-9AE2-0DCA03D223EA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D867-C56F-44AC-BB5B-5DDF90CF6CEE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Accessing the PRACE R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eer-review: “the best systems for the best sci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types of resource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-of-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national funding through partn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odel has to respect national interests (R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95360" y="1534680"/>
            <a:ext cx="6834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PRINCIPLES of Peer 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5000" y="2357280"/>
            <a:ext cx="4376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t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to r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32440" y="235728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aralle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e fairness to the scienc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1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CEC5-EA9C-45BA-B114-9117DC78882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Types of Acces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480" y="2133360"/>
            <a:ext cx="8972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ator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ly technical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812F-A842-45D9-8C04-80F6DB5AB829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5400" y="1213920"/>
            <a:ext cx="935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JUGENE@Jülich: #5 worldwide, #1 in Europ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284" name="Picture 5" descr="E:\current.jpg"/>
          <p:cNvPicPr/>
          <p:nvPr/>
        </p:nvPicPr>
        <p:blipFill>
          <a:blip r:embed="rId1"/>
          <a:stretch/>
        </p:blipFill>
        <p:spPr>
          <a:xfrm>
            <a:off x="0" y="2209680"/>
            <a:ext cx="6715080" cy="4648320"/>
          </a:xfrm>
          <a:prstGeom prst="rect">
            <a:avLst/>
          </a:prstGeom>
          <a:ln w="0">
            <a:noFill/>
          </a:ln>
        </p:spPr>
      </p:pic>
      <p:sp>
        <p:nvSpPr>
          <p:cNvPr id="285" name="Inhaltsplatzhalter 5"/>
          <p:cNvSpPr/>
          <p:nvPr/>
        </p:nvSpPr>
        <p:spPr>
          <a:xfrm>
            <a:off x="5810400" y="3500280"/>
            <a:ext cx="36446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Blue 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el 1"/>
          <p:cNvSpPr/>
          <p:nvPr/>
        </p:nvSpPr>
        <p:spPr>
          <a:xfrm>
            <a:off x="6943680" y="4599000"/>
            <a:ext cx="24382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1</a:t>
            </a:r>
            <a:r>
              <a:rPr b="1" lang="de-DE" sz="4800" spc="-1" strike="noStrike" baseline="30000">
                <a:solidFill>
                  <a:srgbClr val="e67e04"/>
                </a:solidFill>
                <a:latin typeface="Arial"/>
              </a:rPr>
              <a:t>st </a:t>
            </a: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PR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syste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8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5E9B-775B-46FB-9E6C-A30B016765F2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7920" y="1071360"/>
            <a:ext cx="89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67cbb"/>
                </a:solidFill>
                <a:latin typeface="Arial"/>
              </a:rPr>
              <a:t>Jülich Blue Gene/P Configuration</a:t>
            </a:r>
            <a:endParaRPr b="0" lang="en-US" sz="36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0520" y="2036880"/>
            <a:ext cx="9209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2 Racks Blue Gene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3728 Compute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4 processor cores, 2 GB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294912 CPU c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144 TB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PFlop/s pea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25.5 TFlop/s Lin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00 I/O nodes (10GigE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&gt;60 GB/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2 MW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2C1D-A692-40C9-878B-2BD800E4586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177840" y="2349360"/>
            <a:ext cx="9726480" cy="3103560"/>
            <a:chOff x="177840" y="2349360"/>
            <a:chExt cx="9726480" cy="3103560"/>
          </a:xfrm>
        </p:grpSpPr>
        <p:sp>
          <p:nvSpPr>
            <p:cNvPr id="292" name="Rectangle 3"/>
            <p:cNvSpPr/>
            <p:nvPr/>
          </p:nvSpPr>
          <p:spPr>
            <a:xfrm>
              <a:off x="2524320" y="2503440"/>
              <a:ext cx="1263600" cy="121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855720" y="2503440"/>
              <a:ext cx="1668600" cy="1836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>
              <a:off x="855720" y="4952880"/>
              <a:ext cx="887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V="1">
              <a:off x="855720" y="2349360"/>
              <a:ext cx="0" cy="26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 rot="16200000">
              <a:off x="-45000" y="349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9216000" y="50846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 rot="20521800">
              <a:off x="3668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 rot="20521800">
              <a:off x="9450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 rot="20521800">
              <a:off x="1553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 rot="20521800">
              <a:off x="22705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3"/>
            <p:cNvSpPr/>
            <p:nvPr/>
          </p:nvSpPr>
          <p:spPr>
            <a:xfrm rot="20521800">
              <a:off x="292932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 rot="20521800">
              <a:off x="35305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 rot="20521800">
              <a:off x="41925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 rot="20521800">
              <a:off x="49104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 rot="20521800">
              <a:off x="54896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 rot="20521800">
              <a:off x="6179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 rot="20521800">
              <a:off x="68947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0"/>
            <p:cNvSpPr/>
            <p:nvPr/>
          </p:nvSpPr>
          <p:spPr>
            <a:xfrm rot="20521800">
              <a:off x="749664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 rot="20521800">
              <a:off x="81601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1517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21798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2838600" y="4876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3500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>
              <a:off x="4160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48214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54835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6143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68043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74646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8126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8786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855720" y="3727440"/>
              <a:ext cx="662040" cy="12254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1517760" y="4340160"/>
              <a:ext cx="3965760" cy="612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2524320" y="3727440"/>
              <a:ext cx="97632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3500640" y="3727440"/>
              <a:ext cx="396396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8"/>
            <p:cNvSpPr/>
            <p:nvPr/>
          </p:nvSpPr>
          <p:spPr>
            <a:xfrm>
              <a:off x="3500640" y="3116160"/>
              <a:ext cx="3963960" cy="611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84960" y="2503440"/>
              <a:ext cx="3965760" cy="61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2505240" y="3725640"/>
              <a:ext cx="82440" cy="612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1"/>
            <p:cNvSpPr/>
            <p:nvPr/>
          </p:nvSpPr>
          <p:spPr>
            <a:xfrm>
              <a:off x="93697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2"/>
            <p:cNvSpPr/>
            <p:nvPr/>
          </p:nvSpPr>
          <p:spPr>
            <a:xfrm rot="20521800">
              <a:off x="87393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3"/>
            <p:cNvSpPr/>
            <p:nvPr/>
          </p:nvSpPr>
          <p:spPr>
            <a:xfrm>
              <a:off x="773280" y="43401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773280" y="3727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>
              <a:off x="773280" y="31143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6"/>
            <p:cNvSpPr/>
            <p:nvPr/>
          </p:nvSpPr>
          <p:spPr>
            <a:xfrm>
              <a:off x="773280" y="2503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7"/>
            <p:cNvSpPr/>
            <p:nvPr/>
          </p:nvSpPr>
          <p:spPr>
            <a:xfrm>
              <a:off x="442800" y="4187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8"/>
            <p:cNvSpPr/>
            <p:nvPr/>
          </p:nvSpPr>
          <p:spPr>
            <a:xfrm>
              <a:off x="444600" y="3573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9"/>
            <p:cNvSpPr/>
            <p:nvPr/>
          </p:nvSpPr>
          <p:spPr>
            <a:xfrm>
              <a:off x="444600" y="2982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50"/>
            <p:cNvSpPr/>
            <p:nvPr/>
          </p:nvSpPr>
          <p:spPr>
            <a:xfrm>
              <a:off x="444600" y="2349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1"/>
            <p:cNvSpPr/>
            <p:nvPr/>
          </p:nvSpPr>
          <p:spPr>
            <a:xfrm>
              <a:off x="5650200" y="4416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2"/>
            <p:cNvSpPr/>
            <p:nvPr/>
          </p:nvSpPr>
          <p:spPr>
            <a:xfrm>
              <a:off x="7548840" y="3803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3"/>
            <p:cNvSpPr/>
            <p:nvPr/>
          </p:nvSpPr>
          <p:spPr>
            <a:xfrm>
              <a:off x="7548840" y="3192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54"/>
            <p:cNvSpPr/>
            <p:nvPr/>
          </p:nvSpPr>
          <p:spPr>
            <a:xfrm>
              <a:off x="6075000" y="2655720"/>
              <a:ext cx="262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55"/>
            <p:cNvSpPr/>
            <p:nvPr/>
          </p:nvSpPr>
          <p:spPr>
            <a:xfrm>
              <a:off x="4255560" y="326232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6"/>
            <p:cNvSpPr/>
            <p:nvPr/>
          </p:nvSpPr>
          <p:spPr>
            <a:xfrm>
              <a:off x="4328280" y="388116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57"/>
            <p:cNvSpPr/>
            <p:nvPr/>
          </p:nvSpPr>
          <p:spPr>
            <a:xfrm>
              <a:off x="2264400" y="4492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8"/>
            <p:cNvSpPr/>
            <p:nvPr/>
          </p:nvSpPr>
          <p:spPr>
            <a:xfrm>
              <a:off x="3792600" y="2504880"/>
              <a:ext cx="1684440" cy="61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59"/>
            <p:cNvSpPr/>
            <p:nvPr/>
          </p:nvSpPr>
          <p:spPr>
            <a:xfrm>
              <a:off x="2617920" y="25588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ACE Early Acces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0"/>
            <p:cNvSpPr/>
            <p:nvPr/>
          </p:nvSpPr>
          <p:spPr>
            <a:xfrm>
              <a:off x="2508840" y="2836800"/>
              <a:ext cx="122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st all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61"/>
            <p:cNvSpPr/>
            <p:nvPr/>
          </p:nvSpPr>
          <p:spPr>
            <a:xfrm>
              <a:off x="3712320" y="2832120"/>
              <a:ext cx="18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nd allocation 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2"/>
          <p:cNvSpPr/>
          <p:nvPr/>
        </p:nvSpPr>
        <p:spPr>
          <a:xfrm>
            <a:off x="560520" y="1295280"/>
            <a:ext cx="7924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Scheme of Calls for JU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3"/>
          <p:cNvSpPr/>
          <p:nvPr/>
        </p:nvSpPr>
        <p:spPr>
          <a:xfrm>
            <a:off x="538920" y="5694480"/>
            <a:ext cx="89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% of Capacity provided by PRACE corresponding to 40 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 assisted by the SSC Establish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6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E341-3FA0-4DE0-9B12-36D4836B598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7 for project ac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6 for the 1st of Aug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1 for the 1st of Dece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8 for combined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ject leaders from 1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lgium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lgaria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nmark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ance – 5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rmany - 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ece – 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re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aly – 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herlands –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and – 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rtugal –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pain – 1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eden –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itzerland – 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UK - 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15E-7182-4A1E-9D58-66FB74FEA09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 I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471,509,270 cor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ption: facto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trophysic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mistry and Materials -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Sciences and Environment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gineering and Energy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damental Physics -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hematics and Computing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 and Life Science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2F2-C9F2-412D-BCA3-4B9313D21199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and 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the PRACE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Implement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as Relying Pa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13D-6546-4F83-ABBF-11A85C2FF1A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DEVELOPMENT PROJECT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E8E7-AE5D-4E4E-994A-6ECAA9F1F387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D94-D330-46AE-B635-E3A7E1C985E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The 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8412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Implementation Phase Projec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dget: 28.5 Mio €  (20 Mio € EC fund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uration: July 2010 – June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rtium: all 20 Partners of the AIS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ore Implementation Phase Projects envis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0 Mi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€ EC funding ea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jor Challenges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-1, Industry involvement, Application scaling with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EC funding for 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p to 70 Mio € in FP7 for preparation and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5 Mio € in open calls for Exascal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-funding of the Infrastructure in FP8 would further strengthen the Europea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EA4-CEC8-4841-8343-9F74A498CE3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43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33480" y="2133720"/>
            <a:ext cx="8267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&amp; Community support through application ena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gt; 40% of the total workforce in the project is her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 can be requested along with proposals for Preparatory Access to the Tier-0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loyment and operation of the Technical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aboration with Communities and other Research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model for cross-national Tier-1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s activity will be extended in the future implementation phas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vendors for future HP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~20% of the total workforce + 5 Million € for prototypes (50% EC-fun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evelopment of the legal, organisational and financi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ation and further extension of the very successful training programme started in the Preparatory Phas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liennummernplatzhalter 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C6B-98E4-4C47-B027-634B90FD7B2B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Implementation Phase Work Package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33480" y="2133360"/>
            <a:ext cx="8701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1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2 Evolution of the Research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3 Dissemin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4 HPC Ecosystem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5 Industrial Us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6 Technical Operation and Evolution of the Distribute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7 Enabling Petascale  Applications: Efficient Use of Tier-0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8 Support for the procurement and commissioning of HP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P9 Futur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5A96-8897-4AD8-AA8B-A0268D60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BFE-CE89-45B5-AE83-04D3C3A1445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Second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: mid 2011 – mid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seen budget: 38 Million € / 20 Millio € EC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tegration of Tier-1 services (DEISA-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nter close collaborations with scientific and industrial communities to scale important codes for Tier-0 and Tier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tinue and extend the started programmes f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chnology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curement guid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PRACE RI is a Relying Party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anks for the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y services rely on the I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UNICORE for remote job submission and workflow schedu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Globus services: GridFTP, GSISSH, 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Accounting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Trouble ticke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ernal services (BSCW, wiki, SV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C67-06C6-4403-ABF4-0DB46266599A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But ….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s can be troublesome f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A not available, e.g. institution does not want to col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n take a long time to get one. TCS of course is very welcom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wever, some services seem to have problems with some clients and TCS issue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B34-2AEE-48F6-8380-679AAFD79FD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Clients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fferent behaviour of web clients, difficult to provide clear user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version of certificates can have unexpected results, difficult to support (e.g. keystores and Java dependen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SISSH is great, but native support by ssh would b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2A8-C768-4CC5-B93B-8C7852D79F1C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Federation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have user communities using other infrastructures too, also exchanging data among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at can STS do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foreseen in EMI, ties in with online CAs and attribute authorities (like VO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LDAP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LDAP repositories for AuthZ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formation is copied to local LDAP repositories, XUUDB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 among AuthZ providers important for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9B20-34A7-4780-A310-A0F7AB60505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73"/>
          <p:cNvSpPr/>
          <p:nvPr/>
        </p:nvSpPr>
        <p:spPr>
          <a:xfrm>
            <a:off x="2362320" y="4005360"/>
            <a:ext cx="792000" cy="223920"/>
          </a:xfrm>
          <a:prstGeom prst="rightArrow">
            <a:avLst>
              <a:gd name="adj1" fmla="val 50000"/>
              <a:gd name="adj2" fmla="val 5593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4"/>
          <p:cNvSpPr/>
          <p:nvPr/>
        </p:nvSpPr>
        <p:spPr>
          <a:xfrm>
            <a:off x="5168880" y="4005360"/>
            <a:ext cx="1008000" cy="215640"/>
          </a:xfrm>
          <a:prstGeom prst="rightArrow">
            <a:avLst>
              <a:gd name="adj1" fmla="val 50000"/>
              <a:gd name="adj2" fmla="val 5899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2"/>
          <p:cNvSpPr/>
          <p:nvPr/>
        </p:nvSpPr>
        <p:spPr>
          <a:xfrm>
            <a:off x="3081240" y="5854680"/>
            <a:ext cx="28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b) Federated User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2"/>
          <p:cNvSpPr/>
          <p:nvPr/>
        </p:nvSpPr>
        <p:spPr>
          <a:xfrm>
            <a:off x="6278400" y="5854680"/>
            <a:ext cx="3589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) Authorized Access to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9"/>
          <p:cNvSpPr/>
          <p:nvPr/>
        </p:nvSpPr>
        <p:spPr>
          <a:xfrm>
            <a:off x="117360" y="5854680"/>
            <a:ext cx="280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) PRACE Project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616120" y="2425680"/>
            <a:ext cx="1079640" cy="9288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537080" y="2371680"/>
            <a:ext cx="1117440" cy="9684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3514680" y="4581360"/>
            <a:ext cx="1028880" cy="100188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5011560" y="3200400"/>
            <a:ext cx="519120" cy="3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970440" y="5477040"/>
            <a:ext cx="515880" cy="22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6" descr="j0195384"/>
          <p:cNvPicPr/>
          <p:nvPr/>
        </p:nvPicPr>
        <p:blipFill>
          <a:blip r:embed="rId1"/>
          <a:stretch/>
        </p:blipFill>
        <p:spPr>
          <a:xfrm flipH="1">
            <a:off x="2649240" y="2060640"/>
            <a:ext cx="452520" cy="558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195384"/>
          <p:cNvPicPr/>
          <p:nvPr/>
        </p:nvPicPr>
        <p:blipFill>
          <a:blip r:embed="rId2"/>
          <a:stretch/>
        </p:blipFill>
        <p:spPr>
          <a:xfrm flipH="1">
            <a:off x="3255840" y="518328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8" descr="j0195384"/>
          <p:cNvPicPr/>
          <p:nvPr/>
        </p:nvPicPr>
        <p:blipFill>
          <a:blip r:embed="rId3"/>
          <a:stretch/>
        </p:blipFill>
        <p:spPr>
          <a:xfrm>
            <a:off x="5226120" y="1989000"/>
            <a:ext cx="395280" cy="4892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3"/>
          <p:cNvSpPr/>
          <p:nvPr/>
        </p:nvSpPr>
        <p:spPr>
          <a:xfrm>
            <a:off x="2651040" y="3240000"/>
            <a:ext cx="435240" cy="2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9"/>
          <p:cNvGrpSpPr/>
          <p:nvPr/>
        </p:nvGrpSpPr>
        <p:grpSpPr>
          <a:xfrm>
            <a:off x="3728880" y="3645000"/>
            <a:ext cx="793440" cy="718560"/>
            <a:chOff x="3728880" y="3645000"/>
            <a:chExt cx="793440" cy="718560"/>
          </a:xfrm>
        </p:grpSpPr>
        <p:sp>
          <p:nvSpPr>
            <p:cNvPr id="403" name="AutoShape 110"/>
            <p:cNvSpPr/>
            <p:nvPr/>
          </p:nvSpPr>
          <p:spPr>
            <a:xfrm>
              <a:off x="3728880" y="3645000"/>
              <a:ext cx="792000" cy="7185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c845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1"/>
            <p:cNvSpPr/>
            <p:nvPr/>
          </p:nvSpPr>
          <p:spPr>
            <a:xfrm>
              <a:off x="3800880" y="3715560"/>
              <a:ext cx="72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D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20"/>
          <p:cNvGrpSpPr/>
          <p:nvPr/>
        </p:nvGrpSpPr>
        <p:grpSpPr>
          <a:xfrm>
            <a:off x="2720880" y="2619360"/>
            <a:ext cx="513000" cy="376200"/>
            <a:chOff x="2720880" y="2619360"/>
            <a:chExt cx="513000" cy="376200"/>
          </a:xfrm>
        </p:grpSpPr>
        <p:graphicFrame>
          <p:nvGraphicFramePr>
            <p:cNvPr id="406" name="Object 17"/>
            <p:cNvGraphicFramePr/>
            <p:nvPr/>
          </p:nvGraphicFramePr>
          <p:xfrm>
            <a:off x="2720880" y="2619360"/>
            <a:ext cx="513000" cy="376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7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20880" y="2619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 Box 18"/>
            <p:cNvSpPr/>
            <p:nvPr/>
          </p:nvSpPr>
          <p:spPr>
            <a:xfrm>
              <a:off x="2720880" y="2637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AutoShape 144"/>
          <p:cNvSpPr/>
          <p:nvPr/>
        </p:nvSpPr>
        <p:spPr>
          <a:xfrm rot="13395600">
            <a:off x="3322800" y="325728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0" descr="logo_juelich_412"/>
          <p:cNvPicPr/>
          <p:nvPr/>
        </p:nvPicPr>
        <p:blipFill>
          <a:blip r:embed="rId6"/>
          <a:stretch/>
        </p:blipFill>
        <p:spPr>
          <a:xfrm>
            <a:off x="6681960" y="2060640"/>
            <a:ext cx="782640" cy="347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4" descr="cineca"/>
          <p:cNvPicPr/>
          <p:nvPr/>
        </p:nvPicPr>
        <p:blipFill>
          <a:blip r:embed="rId7"/>
          <a:stretch/>
        </p:blipFill>
        <p:spPr>
          <a:xfrm>
            <a:off x="6059520" y="4595760"/>
            <a:ext cx="579240" cy="30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0" descr="hlrs_big"/>
          <p:cNvPicPr/>
          <p:nvPr/>
        </p:nvPicPr>
        <p:blipFill>
          <a:blip r:embed="rId8"/>
          <a:stretch/>
        </p:blipFill>
        <p:spPr>
          <a:xfrm>
            <a:off x="8447040" y="2289240"/>
            <a:ext cx="498600" cy="26676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pic>
        <p:nvPicPr>
          <p:cNvPr id="413" name="Picture 63" descr="logo_bsc_short"/>
          <p:cNvPicPr/>
          <p:nvPr/>
        </p:nvPicPr>
        <p:blipFill>
          <a:blip r:embed="rId9"/>
          <a:stretch/>
        </p:blipFill>
        <p:spPr>
          <a:xfrm>
            <a:off x="7329600" y="4941720"/>
            <a:ext cx="325440" cy="3970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414" name="Picture 64" descr="jugene_72rack_0805"/>
          <p:cNvPicPr/>
          <p:nvPr/>
        </p:nvPicPr>
        <p:blipFill>
          <a:blip r:embed="rId10"/>
          <a:srcRect l="0" t="16516" r="0" b="0"/>
          <a:stretch/>
        </p:blipFill>
        <p:spPr>
          <a:xfrm>
            <a:off x="6681960" y="2421000"/>
            <a:ext cx="8269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1" descr="logo-lrz-kl"/>
          <p:cNvPicPr/>
          <p:nvPr/>
        </p:nvPicPr>
        <p:blipFill>
          <a:blip r:embed="rId11"/>
          <a:stretch/>
        </p:blipFill>
        <p:spPr>
          <a:xfrm>
            <a:off x="9416880" y="3716280"/>
            <a:ext cx="325440" cy="46512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416" name="Line 78"/>
          <p:cNvSpPr/>
          <p:nvPr/>
        </p:nvSpPr>
        <p:spPr>
          <a:xfrm flipH="1" flipV="1">
            <a:off x="7040520" y="285228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9"/>
          <p:cNvSpPr/>
          <p:nvPr/>
        </p:nvSpPr>
        <p:spPr>
          <a:xfrm flipH="1" flipV="1">
            <a:off x="6608880" y="3357720"/>
            <a:ext cx="1077840" cy="537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1"/>
          <p:cNvSpPr/>
          <p:nvPr/>
        </p:nvSpPr>
        <p:spPr>
          <a:xfrm flipH="1">
            <a:off x="6934320" y="3828960"/>
            <a:ext cx="752400" cy="58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2"/>
          <p:cNvSpPr/>
          <p:nvPr/>
        </p:nvSpPr>
        <p:spPr>
          <a:xfrm flipH="1">
            <a:off x="7467120" y="3828960"/>
            <a:ext cx="266760" cy="908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6"/>
          <p:cNvSpPr/>
          <p:nvPr/>
        </p:nvSpPr>
        <p:spPr>
          <a:xfrm>
            <a:off x="7821720" y="3828960"/>
            <a:ext cx="1111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9"/>
          <p:cNvSpPr/>
          <p:nvPr/>
        </p:nvSpPr>
        <p:spPr>
          <a:xfrm flipV="1">
            <a:off x="7910640" y="2924280"/>
            <a:ext cx="622080" cy="8380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2"/>
          <p:cNvSpPr/>
          <p:nvPr/>
        </p:nvSpPr>
        <p:spPr>
          <a:xfrm rot="2572200">
            <a:off x="7037280" y="3215160"/>
            <a:ext cx="405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llow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76"/>
          <p:cNvGrpSpPr/>
          <p:nvPr/>
        </p:nvGrpSpPr>
        <p:grpSpPr>
          <a:xfrm>
            <a:off x="7473960" y="3306600"/>
            <a:ext cx="664920" cy="860040"/>
            <a:chOff x="7473960" y="3306600"/>
            <a:chExt cx="664920" cy="860040"/>
          </a:xfrm>
        </p:grpSpPr>
        <p:pic>
          <p:nvPicPr>
            <p:cNvPr id="424" name="Picture 90" descr="notebook2"/>
            <p:cNvPicPr/>
            <p:nvPr/>
          </p:nvPicPr>
          <p:blipFill>
            <a:blip r:embed="rId12"/>
            <a:stretch/>
          </p:blipFill>
          <p:spPr>
            <a:xfrm>
              <a:off x="7473960" y="3357360"/>
              <a:ext cx="66492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91"/>
            <p:cNvSpPr/>
            <p:nvPr/>
          </p:nvSpPr>
          <p:spPr>
            <a:xfrm>
              <a:off x="7510680" y="3306600"/>
              <a:ext cx="3798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190"/>
          <p:cNvSpPr/>
          <p:nvPr/>
        </p:nvSpPr>
        <p:spPr>
          <a:xfrm>
            <a:off x="5097600" y="3716280"/>
            <a:ext cx="69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44"/>
          <p:cNvSpPr/>
          <p:nvPr/>
        </p:nvSpPr>
        <p:spPr>
          <a:xfrm rot="18600000">
            <a:off x="4307040" y="325260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119"/>
          <p:cNvGrpSpPr/>
          <p:nvPr/>
        </p:nvGrpSpPr>
        <p:grpSpPr>
          <a:xfrm>
            <a:off x="345960" y="2539440"/>
            <a:ext cx="1656000" cy="2149920"/>
            <a:chOff x="345960" y="2539440"/>
            <a:chExt cx="1656000" cy="2149920"/>
          </a:xfrm>
        </p:grpSpPr>
        <p:pic>
          <p:nvPicPr>
            <p:cNvPr id="429" name="Picture 4" descr="j0195384"/>
            <p:cNvPicPr/>
            <p:nvPr/>
          </p:nvPicPr>
          <p:blipFill>
            <a:blip r:embed="rId13"/>
            <a:stretch/>
          </p:blipFill>
          <p:spPr>
            <a:xfrm flipH="1">
              <a:off x="345960" y="3699720"/>
              <a:ext cx="801360" cy="9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AutoShape 3"/>
            <p:cNvSpPr/>
            <p:nvPr/>
          </p:nvSpPr>
          <p:spPr>
            <a:xfrm>
              <a:off x="1222920" y="3743640"/>
              <a:ext cx="779040" cy="7524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view 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49"/>
            <p:cNvSpPr/>
            <p:nvPr/>
          </p:nvSpPr>
          <p:spPr>
            <a:xfrm rot="3576600">
              <a:off x="403920" y="3050280"/>
              <a:ext cx="12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ject  attribu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24"/>
          <p:cNvGrpSpPr/>
          <p:nvPr/>
        </p:nvGrpSpPr>
        <p:grpSpPr>
          <a:xfrm>
            <a:off x="3728880" y="5013360"/>
            <a:ext cx="513000" cy="376200"/>
            <a:chOff x="3728880" y="5013360"/>
            <a:chExt cx="513000" cy="376200"/>
          </a:xfrm>
        </p:grpSpPr>
        <p:graphicFrame>
          <p:nvGraphicFramePr>
            <p:cNvPr id="433" name="Object 17"/>
            <p:cNvGraphicFramePr/>
            <p:nvPr/>
          </p:nvGraphicFramePr>
          <p:xfrm>
            <a:off x="3728880" y="5013360"/>
            <a:ext cx="513000" cy="376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34" name="Object 17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28880" y="5013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Text Box 18"/>
            <p:cNvSpPr/>
            <p:nvPr/>
          </p:nvSpPr>
          <p:spPr>
            <a:xfrm>
              <a:off x="3728880" y="5031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0"/>
          <p:cNvGrpSpPr/>
          <p:nvPr/>
        </p:nvGrpSpPr>
        <p:grpSpPr>
          <a:xfrm>
            <a:off x="5024520" y="2565360"/>
            <a:ext cx="512640" cy="376200"/>
            <a:chOff x="5024520" y="2565360"/>
            <a:chExt cx="512640" cy="376200"/>
          </a:xfrm>
        </p:grpSpPr>
        <p:graphicFrame>
          <p:nvGraphicFramePr>
            <p:cNvPr id="437" name="Object 17"/>
            <p:cNvGraphicFramePr/>
            <p:nvPr/>
          </p:nvGraphicFramePr>
          <p:xfrm>
            <a:off x="5024520" y="2565360"/>
            <a:ext cx="512640" cy="376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38" name="Object 1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024520" y="2565360"/>
                      <a:ext cx="5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Text Box 18"/>
            <p:cNvSpPr/>
            <p:nvPr/>
          </p:nvSpPr>
          <p:spPr>
            <a:xfrm>
              <a:off x="5024520" y="2583000"/>
              <a:ext cx="4834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AutoShape 144"/>
          <p:cNvSpPr/>
          <p:nvPr/>
        </p:nvSpPr>
        <p:spPr>
          <a:xfrm rot="6000000">
            <a:off x="3718440" y="4518720"/>
            <a:ext cx="739440" cy="160200"/>
          </a:xfrm>
          <a:custGeom>
            <a:avLst/>
            <a:gdLst>
              <a:gd name="textAreaLeft" fmla="*/ 114120 w 739440"/>
              <a:gd name="textAreaRight" fmla="*/ 646560 w 739440"/>
              <a:gd name="textAreaTop" fmla="*/ 40320 h 160200"/>
              <a:gd name="textAreaBottom" fmla="*/ 119880 h 160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135"/>
          <p:cNvCxnSpPr/>
          <p:nvPr/>
        </p:nvCxnSpPr>
        <p:spPr>
          <a:xfrm>
            <a:off x="3154320" y="3141720"/>
            <a:ext cx="575280" cy="57528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2" name="Straight Arrow Connector 136"/>
          <p:cNvCxnSpPr/>
          <p:nvPr/>
        </p:nvCxnSpPr>
        <p:spPr>
          <a:xfrm flipV="1">
            <a:off x="4232880" y="4291920"/>
            <a:ext cx="144720" cy="64980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3" name="Straight Arrow Connector 139"/>
          <p:cNvCxnSpPr/>
          <p:nvPr/>
        </p:nvCxnSpPr>
        <p:spPr>
          <a:xfrm flipH="1">
            <a:off x="4233960" y="2781000"/>
            <a:ext cx="576360" cy="71964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sp>
        <p:nvSpPr>
          <p:cNvPr id="444" name="Slide Number Placeholder 142"/>
          <p:cNvSpPr/>
          <p:nvPr/>
        </p:nvSpPr>
        <p:spPr>
          <a:xfrm>
            <a:off x="7464600" y="6524640"/>
            <a:ext cx="23065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AB3-A789-455D-BFBF-A857C6B9DC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4" descr="logo-tgcc.gif"/>
          <p:cNvPicPr/>
          <p:nvPr/>
        </p:nvPicPr>
        <p:blipFill>
          <a:blip r:embed="rId18"/>
          <a:stretch/>
        </p:blipFill>
        <p:spPr>
          <a:xfrm>
            <a:off x="5889600" y="2852640"/>
            <a:ext cx="86364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5" descr="CurieFat-small.jpg"/>
          <p:cNvPicPr/>
          <p:nvPr/>
        </p:nvPicPr>
        <p:blipFill>
          <a:blip r:embed="rId19"/>
          <a:stretch/>
        </p:blipFill>
        <p:spPr>
          <a:xfrm>
            <a:off x="5961240" y="3213000"/>
            <a:ext cx="7794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2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E29-BBA4-4DAF-97BE-2448B5FE831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quantumdots"/>
          <p:cNvPicPr/>
          <p:nvPr/>
        </p:nvPicPr>
        <p:blipFill>
          <a:blip r:embed="rId1"/>
          <a:stretch/>
        </p:blipFill>
        <p:spPr>
          <a:xfrm>
            <a:off x="5519880" y="200988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Strommast"/>
          <p:cNvPicPr/>
          <p:nvPr/>
        </p:nvPicPr>
        <p:blipFill>
          <a:blip r:embed="rId2"/>
          <a:stretch/>
        </p:blipFill>
        <p:spPr>
          <a:xfrm>
            <a:off x="7626240" y="2009880"/>
            <a:ext cx="2027520" cy="149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protein"/>
          <p:cNvPicPr/>
          <p:nvPr/>
        </p:nvPicPr>
        <p:blipFill>
          <a:blip r:embed="rId3"/>
          <a:stretch/>
        </p:blipFill>
        <p:spPr>
          <a:xfrm>
            <a:off x="2712960" y="4164120"/>
            <a:ext cx="2583000" cy="1589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240" y="980640"/>
            <a:ext cx="984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Supercomputing Drives Science through Simulation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139" name="Picture 6" descr="Vitruvian"/>
          <p:cNvPicPr/>
          <p:nvPr/>
        </p:nvPicPr>
        <p:blipFill>
          <a:blip r:embed="rId4"/>
          <a:stretch/>
        </p:blipFill>
        <p:spPr>
          <a:xfrm>
            <a:off x="3102120" y="2009880"/>
            <a:ext cx="210492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lassify1"/>
          <p:cNvPicPr/>
          <p:nvPr/>
        </p:nvPicPr>
        <p:blipFill>
          <a:blip r:embed="rId5"/>
          <a:stretch/>
        </p:blipFill>
        <p:spPr>
          <a:xfrm>
            <a:off x="2946240" y="2801880"/>
            <a:ext cx="213552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imation_t106"/>
          <p:cNvPicPr/>
          <p:nvPr/>
        </p:nvPicPr>
        <p:blipFill>
          <a:blip r:embed="rId6"/>
          <a:stretch/>
        </p:blipFill>
        <p:spPr>
          <a:xfrm>
            <a:off x="449280" y="4313160"/>
            <a:ext cx="2341440" cy="1519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03760" y="575316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/ Clima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ion / Ozon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179160" y="57531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ing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textor"/>
          <p:cNvPicPr/>
          <p:nvPr/>
        </p:nvPicPr>
        <p:blipFill>
          <a:blip r:embed="rId7"/>
          <a:stretch/>
        </p:blipFill>
        <p:spPr>
          <a:xfrm>
            <a:off x="7705800" y="3294000"/>
            <a:ext cx="1798560" cy="123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7754400" y="575316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355720" y="5753160"/>
            <a:ext cx="22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/ Inf. 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-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spinspiral"/>
          <p:cNvPicPr/>
          <p:nvPr/>
        </p:nvPicPr>
        <p:blipFill>
          <a:blip r:embed="rId8"/>
          <a:stretch/>
        </p:blipFill>
        <p:spPr>
          <a:xfrm>
            <a:off x="5521320" y="3376440"/>
            <a:ext cx="1793880" cy="133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peapodmov"/>
          <p:cNvPicPr/>
          <p:nvPr/>
        </p:nvPicPr>
        <p:blipFill>
          <a:blip r:embed="rId9"/>
          <a:stretch/>
        </p:blipFill>
        <p:spPr>
          <a:xfrm>
            <a:off x="5442120" y="4565520"/>
            <a:ext cx="1950840" cy="12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stack54b"/>
          <p:cNvPicPr/>
          <p:nvPr/>
        </p:nvPicPr>
        <p:blipFill>
          <a:blip r:embed="rId10"/>
          <a:stretch/>
        </p:blipFill>
        <p:spPr>
          <a:xfrm>
            <a:off x="7967520" y="4097160"/>
            <a:ext cx="13748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katrina-satellite-t"/>
          <p:cNvPicPr/>
          <p:nvPr/>
        </p:nvPicPr>
        <p:blipFill>
          <a:blip r:embed="rId11"/>
          <a:stretch/>
        </p:blipFill>
        <p:spPr>
          <a:xfrm>
            <a:off x="528480" y="3270240"/>
            <a:ext cx="2027520" cy="14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Erde"/>
          <p:cNvPicPr/>
          <p:nvPr/>
        </p:nvPicPr>
        <p:blipFill>
          <a:blip r:embed="rId12"/>
          <a:stretch/>
        </p:blipFill>
        <p:spPr>
          <a:xfrm>
            <a:off x="527040" y="1959120"/>
            <a:ext cx="20289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LDAP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s done with GridShib CA, but were not convi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re-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ny DEISA/PRACE specific 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mespaces for accounts and application pro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r information tied to accounts, so user information must be replicated for each account for the same u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 more common schemas, e.g. SCHA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CA65-5D0E-4F2D-9E24-10EC67C0476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33120" y="2133360"/>
            <a:ext cx="8699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must maintain its high standards in computational science and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has to guarantee independent access to HPC-systems of the highest performance class for all computational scientists in its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ientific Excellence requires peer review on European scale to foster best idea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requirements as to variety of architectures requires coordinated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and national governments have to establish robust and persistent fund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EC15-642B-438B-8E7A-277B6979586E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6920" y="2060280"/>
            <a:ext cx="8502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HPC-facilities at the to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HPC provisioning 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3-6 European Centres for Pet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? European Centres for Ex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1: National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2: Regional/University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a European H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tific and industrial user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PC service providers on al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uropean HPC hard- and softwar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2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2B44-D2DA-4BEA-B905-5DE7ED697C23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1267920"/>
            <a:ext cx="9417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The ESFRI Vision for a European HPC servic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240160" y="2400120"/>
            <a:ext cx="1581480" cy="19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 flipV="1">
            <a:off x="6821640" y="2400480"/>
            <a:ext cx="1890720" cy="19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188040" y="31924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5667480" y="3803400"/>
            <a:ext cx="25066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508800" y="276084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508800" y="3408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508800" y="3984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5249880" y="4360680"/>
            <a:ext cx="34527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7543800" y="2511360"/>
            <a:ext cx="977760" cy="486000"/>
          </a:xfrm>
          <a:prstGeom prst="leftArrow">
            <a:avLst>
              <a:gd name="adj1" fmla="val 50000"/>
              <a:gd name="adj2" fmla="val 50296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7902720" y="3213000"/>
            <a:ext cx="1407960" cy="505080"/>
          </a:xfrm>
          <a:prstGeom prst="leftArrow">
            <a:avLst>
              <a:gd name="adj1" fmla="val 50000"/>
              <a:gd name="adj2" fmla="val 69690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ISA/P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9487080" y="242064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6967080" y="4581360"/>
            <a:ext cx="25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 rot="16200000">
            <a:off x="9099720" y="3237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545240" y="4575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4160" y="1197000"/>
            <a:ext cx="3887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Timelin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11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9909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243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86742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71136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55548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0"/>
          <p:cNvSpPr/>
          <p:nvPr/>
        </p:nvSpPr>
        <p:spPr>
          <a:xfrm>
            <a:off x="39924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9"/>
          <p:cNvSpPr/>
          <p:nvPr/>
        </p:nvSpPr>
        <p:spPr>
          <a:xfrm flipH="1">
            <a:off x="2432160" y="458136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5024520" y="2276640"/>
            <a:ext cx="0" cy="28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7113600" y="242100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4"/>
          <p:cNvSpPr/>
          <p:nvPr/>
        </p:nvSpPr>
        <p:spPr>
          <a:xfrm rot="16200000">
            <a:off x="9059760" y="3930120"/>
            <a:ext cx="289080" cy="581040"/>
          </a:xfrm>
          <a:custGeom>
            <a:avLst/>
            <a:gdLst>
              <a:gd name="textAreaLeft" fmla="*/ 0 w 289080"/>
              <a:gd name="textAreaRight" fmla="*/ 289080 w 2890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 rot="16200000">
            <a:off x="8465400" y="2045160"/>
            <a:ext cx="576360" cy="1616040"/>
          </a:xfrm>
          <a:custGeom>
            <a:avLst/>
            <a:gdLst>
              <a:gd name="textAreaLeft" fmla="*/ 0 w 576360"/>
              <a:gd name="textAreaRight" fmla="*/ 576720 w 576360"/>
              <a:gd name="textAreaTop" fmla="*/ 209520 h 1616040"/>
              <a:gd name="textAreaBottom" fmla="*/ 1406520 h 1616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8304120" y="256536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8304120" y="314172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339920" y="2565360"/>
            <a:ext cx="343224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772160" y="2565360"/>
            <a:ext cx="780840" cy="576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560520" y="328608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8715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55530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86724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3219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8540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4128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59734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75337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3224160" y="4076640"/>
            <a:ext cx="5897520" cy="28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8035920" y="407664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8035920" y="436572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3224160" y="4365720"/>
            <a:ext cx="6050160" cy="28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 Implementation Phase (1IP, 2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7"/>
          <p:cNvSpPr/>
          <p:nvPr/>
        </p:nvSpPr>
        <p:spPr>
          <a:xfrm>
            <a:off x="561960" y="479736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8"/>
          <p:cNvSpPr/>
          <p:nvPr/>
        </p:nvSpPr>
        <p:spPr>
          <a:xfrm>
            <a:off x="8730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13237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285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4143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59749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753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344520" y="4076280"/>
            <a:ext cx="2879280" cy="576720"/>
            <a:chOff x="344520" y="4076280"/>
            <a:chExt cx="2879280" cy="576720"/>
          </a:xfrm>
        </p:grpSpPr>
        <p:grpSp>
          <p:nvGrpSpPr>
            <p:cNvPr id="210" name="Group 60"/>
            <p:cNvGrpSpPr/>
            <p:nvPr/>
          </p:nvGrpSpPr>
          <p:grpSpPr>
            <a:xfrm>
              <a:off x="414720" y="4076280"/>
              <a:ext cx="2809080" cy="576360"/>
              <a:chOff x="414720" y="4076280"/>
              <a:chExt cx="2809080" cy="576360"/>
            </a:xfrm>
          </p:grpSpPr>
          <p:sp>
            <p:nvSpPr>
              <p:cNvPr id="211" name="Rectangle 61"/>
              <p:cNvSpPr/>
              <p:nvPr/>
            </p:nvSpPr>
            <p:spPr>
              <a:xfrm rot="10800000">
                <a:off x="555480" y="4076280"/>
                <a:ext cx="2668320" cy="576360"/>
              </a:xfrm>
              <a:prstGeom prst="rect">
                <a:avLst/>
              </a:prstGeom>
              <a:solidFill>
                <a:srgbClr val="009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62"/>
              <p:cNvSpPr/>
              <p:nvPr/>
            </p:nvSpPr>
            <p:spPr>
              <a:xfrm flipH="1">
                <a:off x="414720" y="465264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63"/>
              <p:cNvSpPr/>
              <p:nvPr/>
            </p:nvSpPr>
            <p:spPr>
              <a:xfrm flipH="1">
                <a:off x="414720" y="407628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64"/>
            <p:cNvSpPr/>
            <p:nvPr/>
          </p:nvSpPr>
          <p:spPr>
            <a:xfrm rot="5400000">
              <a:off x="407520" y="4013280"/>
              <a:ext cx="576360" cy="703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91080 h 703080"/>
                <a:gd name="textAreaBottom" fmla="*/ 612000 h 7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9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65"/>
          <p:cNvSpPr/>
          <p:nvPr/>
        </p:nvSpPr>
        <p:spPr>
          <a:xfrm>
            <a:off x="415800" y="4221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7" descr="IMG_1672"/>
          <p:cNvPicPr/>
          <p:nvPr/>
        </p:nvPicPr>
        <p:blipFill>
          <a:blip r:embed="rId1"/>
          <a:stretch/>
        </p:blipFill>
        <p:spPr>
          <a:xfrm>
            <a:off x="5168880" y="1268280"/>
            <a:ext cx="1655640" cy="1057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2" descr="prace_kick_off_031"/>
          <p:cNvPicPr/>
          <p:nvPr/>
        </p:nvPicPr>
        <p:blipFill>
          <a:blip r:embed="rId2"/>
          <a:stretch/>
        </p:blipFill>
        <p:spPr>
          <a:xfrm>
            <a:off x="7099200" y="1255680"/>
            <a:ext cx="1800360" cy="1165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9"/>
          <p:cNvSpPr/>
          <p:nvPr/>
        </p:nvSpPr>
        <p:spPr>
          <a:xfrm>
            <a:off x="5529240" y="2565360"/>
            <a:ext cx="1584360" cy="576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0"/>
          <p:cNvSpPr/>
          <p:nvPr/>
        </p:nvSpPr>
        <p:spPr>
          <a:xfrm>
            <a:off x="5600880" y="26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M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>
            <a:off x="5961240" y="234936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3" descr="esfri-roadmap-report-26092006_en_Sivu_01"/>
          <p:cNvPicPr/>
          <p:nvPr/>
        </p:nvPicPr>
        <p:blipFill>
          <a:blip r:embed="rId3"/>
          <a:stretch/>
        </p:blipFill>
        <p:spPr>
          <a:xfrm>
            <a:off x="4235400" y="1268280"/>
            <a:ext cx="820800" cy="1071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5" descr="PRACE_Logo_pos_4c"/>
          <p:cNvPicPr/>
          <p:nvPr/>
        </p:nvPicPr>
        <p:blipFill>
          <a:blip r:embed="rId4"/>
          <a:stretch/>
        </p:blipFill>
        <p:spPr>
          <a:xfrm>
            <a:off x="2792520" y="5153040"/>
            <a:ext cx="1693800" cy="1155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7113600" y="2565360"/>
            <a:ext cx="1871640" cy="576360"/>
          </a:xfrm>
          <a:prstGeom prst="rect">
            <a:avLst/>
          </a:pr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28520" y="386064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EU-Grant: INFSO-RI-211528, 10 Mio.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2" descr="PRACE_map"/>
          <p:cNvPicPr/>
          <p:nvPr/>
        </p:nvPicPr>
        <p:blipFill>
          <a:blip r:embed="rId5"/>
          <a:stretch/>
        </p:blipFill>
        <p:spPr>
          <a:xfrm>
            <a:off x="200160" y="5381640"/>
            <a:ext cx="2089080" cy="1476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3"/>
          <p:cNvSpPr/>
          <p:nvPr/>
        </p:nvSpPr>
        <p:spPr>
          <a:xfrm>
            <a:off x="1930320" y="623412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292"/>
                </a:solidFill>
                <a:latin typeface="Arial"/>
              </a:rPr>
              <a:t>PRACE (AISBL), a legal entity</a:t>
            </a:r>
            <a:br>
              <a:rPr sz="1800"/>
            </a:b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with </a:t>
            </a:r>
            <a:r>
              <a:rPr b="1" lang="en-US" sz="1000" spc="-1" strike="noStrike">
                <a:solidFill>
                  <a:srgbClr val="024292"/>
                </a:solidFill>
                <a:latin typeface="Arial"/>
              </a:rPr>
              <a:t>(current)</a:t>
            </a:r>
            <a:r>
              <a:rPr b="1" lang="en-US" sz="1200" spc="-1" strike="noStrike">
                <a:solidFill>
                  <a:srgbClr val="02429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seat location in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4"/>
          <p:cNvSpPr/>
          <p:nvPr/>
        </p:nvSpPr>
        <p:spPr>
          <a:xfrm rot="16200000">
            <a:off x="9060840" y="4218840"/>
            <a:ext cx="287280" cy="581040"/>
          </a:xfrm>
          <a:custGeom>
            <a:avLst/>
            <a:gdLst>
              <a:gd name="textAreaLeft" fmla="*/ 0 w 287280"/>
              <a:gd name="textAreaRight" fmla="*/ 287640 w 2872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3224160" y="4653000"/>
            <a:ext cx="43344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2" descr=""/>
          <p:cNvPicPr/>
          <p:nvPr/>
        </p:nvPicPr>
        <p:blipFill>
          <a:blip r:embed="rId6"/>
          <a:stretch/>
        </p:blipFill>
        <p:spPr>
          <a:xfrm>
            <a:off x="5384880" y="5311800"/>
            <a:ext cx="3889440" cy="1430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3"/>
          <p:cNvSpPr/>
          <p:nvPr/>
        </p:nvSpPr>
        <p:spPr>
          <a:xfrm rot="21120000">
            <a:off x="5386320" y="60069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4"/>
          <p:cNvSpPr/>
          <p:nvPr/>
        </p:nvSpPr>
        <p:spPr>
          <a:xfrm rot="21129000">
            <a:off x="6176880" y="589104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June 9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5"/>
          <p:cNvSpPr/>
          <p:nvPr/>
        </p:nvSpPr>
        <p:spPr>
          <a:xfrm>
            <a:off x="2820960" y="4437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23.4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liennummernplatzhalter 6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BD3-3253-4A0F-B40F-9B033A1F6F7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5B6-575B-4AAE-A116-3367E5346EB6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Research Infrastructure Created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8520" y="2133720"/>
            <a:ext cx="790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the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ACE AISBL created with seat in Brussels in April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BE" sz="1900" spc="-1" strike="noStrike">
                <a:solidFill>
                  <a:srgbClr val="000000"/>
                </a:solidFill>
                <a:latin typeface="Arial"/>
              </a:rPr>
              <a:t>Association Internationale Sans But Lucratif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 members representing 20 European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auguration in Barcelona on June 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 secured for 2010 -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00 Million € from France, Germany, Italy, Spai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vided as Tier-0 services on TCO ba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0+ Million € from EC FP7 for preparatory and implementatio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rants INFSO-RI-211528 and 261557 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mplemented by ~ 60 Million € from PRACE me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PRACE-Inauguration-2-2010-06-09"/>
          <p:cNvPicPr/>
          <p:nvPr/>
        </p:nvPicPr>
        <p:blipFill>
          <a:blip r:embed="rId1"/>
          <a:stretch/>
        </p:blipFill>
        <p:spPr>
          <a:xfrm>
            <a:off x="8193240" y="4221000"/>
            <a:ext cx="168084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RACE-Inauguration-3-2010-06-09"/>
          <p:cNvPicPr/>
          <p:nvPr/>
        </p:nvPicPr>
        <p:blipFill>
          <a:blip r:embed="rId2"/>
          <a:stretch/>
        </p:blipFill>
        <p:spPr>
          <a:xfrm>
            <a:off x="7183440" y="1989000"/>
            <a:ext cx="2665440" cy="1778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Österreich mit Wappen Flagge / Fahne 90cmx150c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Bulgarien Flagge / Fahne 90cmx150c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28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Finnland Flagge / Fahne 45cmx30cm &lt;br&gt;(12 Stück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2076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Frankreich Flagge / Fahne 45cmx30cm&lt;br&gt; (12 Stück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1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eutschland Dienstflagge Fahne / Flagge 90cmx6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700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Griechenland Flagge / Fahne 90cmx150c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64492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Irland Flagge / Fahne 90cmx150cm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1940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talien Flagge / Fahne 45cmx30cm &lt;br&gt;(12 Stück)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59424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Polen Flagge / Fahne 90cmx150c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06728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Portugal Flagge / Fahne 45cmx30cm&lt;br&gt; (12 Stück)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54176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Serbien u.  Montenegro / Jugoslawien  Flagge / Fahne 90cmx150cm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01660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Spanien Flagge / Fahne 45cmx30cm&lt;br&gt; mit Emblem (12 Stück)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9108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Schweiz Flagge / Fahne 150cmx250cm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96592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Niederlande Flagge / Fahne 150cmx250cm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644040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Türkei Flagge / Fahne 45cmx30cm&lt;br&gt; (12 Stück)"/>
          <p:cNvPicPr/>
          <p:nvPr/>
        </p:nvPicPr>
        <p:blipFill>
          <a:blip r:embed="rId31"/>
          <a:stretch/>
        </p:blipFill>
        <p:spPr>
          <a:xfrm>
            <a:off x="691524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Großbritannien Flagge / Fahne 45cmx30cm&lt;br&gt; (12 Stück)"/>
          <p:cNvPicPr/>
          <p:nvPr/>
        </p:nvPicPr>
        <p:blipFill>
          <a:blip r:embed="rId32"/>
          <a:stretch/>
        </p:blipFill>
        <p:spPr>
          <a:xfrm>
            <a:off x="738972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Bulgarien Flagge / Fahne 90cmx150cm"/>
          <p:cNvPicPr/>
          <p:nvPr/>
        </p:nvPicPr>
        <p:blipFill>
          <a:blip r:embed="rId33"/>
          <a:stretch/>
        </p:blipFill>
        <p:spPr>
          <a:xfrm>
            <a:off x="7834320" y="386064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Zypern Flagge / Fahne 90cmx150cm"/>
          <p:cNvPicPr/>
          <p:nvPr/>
        </p:nvPicPr>
        <p:blipFill>
          <a:blip r:embed="rId34"/>
          <a:stretch/>
        </p:blipFill>
        <p:spPr>
          <a:xfrm>
            <a:off x="832644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Tschechien Flagge / Fahne 90cmx150cm"/>
          <p:cNvPicPr/>
          <p:nvPr/>
        </p:nvPicPr>
        <p:blipFill>
          <a:blip r:embed="rId35"/>
          <a:stretch/>
        </p:blipFill>
        <p:spPr>
          <a:xfrm>
            <a:off x="882000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Schweden Flagge / Fahne 45cmx30cm&lt;br&gt; (12 Stück)"/>
          <p:cNvPicPr/>
          <p:nvPr/>
        </p:nvPicPr>
        <p:blipFill>
          <a:blip r:embed="rId36"/>
          <a:stretch/>
        </p:blipFill>
        <p:spPr>
          <a:xfrm>
            <a:off x="9315360" y="3860640"/>
            <a:ext cx="3906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23800" y="2071440"/>
            <a:ext cx="93823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nding commit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ermany, France, Italy, 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 Mio € over 5 years in terms of cyc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ibution accounted as T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rictly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er re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Europea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of provi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8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lnSpc>
                <a:spcPts val="3399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ree-of-char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European scientific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liennummernplatzhalter 7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795-F35E-49DF-9F27-8CA1079873D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0160" y="1267920"/>
            <a:ext cx="9072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c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cess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280" y="2133360"/>
            <a:ext cx="873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goes for a set of machines with successively increa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F (2010) + 1.5 PF (2011) + 2 PF (2012) + 3 PF (2012) + 5 PF (2013)  and will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grad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capability of more th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 P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will Inclu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r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tes (continuing DEI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will provide support competence centre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v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liennummernplatzhalter 9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4423-844A-4C72-93DE-B509DA036B4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0560" y="1294920"/>
            <a:ext cx="792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uppor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ules Wolfrat</cp:lastModifiedBy>
  <dcterms:modified xsi:type="dcterms:W3CDTF">2011-05-11T12:38:15Z</dcterms:modified>
  <cp:revision>222</cp:revision>
  <dc:subject/>
  <dc:title>PowerPoint Presentation</dc:title>
</cp:coreProperties>
</file>