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4460-F45E-4A7F-9313-DACF24A7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43FE-9D06-4434-BF34-C9E953FD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68F-287D-4B1D-A483-5B69B36B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CA8E-65F8-466B-B889-F2224BDD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F06D-6FED-4B57-B670-1DCA811F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216D-1681-4B79-B1B9-B4BBE243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F66-91C8-4177-80F8-2CD01272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FDD-2373-42A3-837B-EFC57A88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A53-155E-4920-A937-5A21C347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5B9-ABF5-49E2-8BD3-3EAFCDD5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4348-29E6-471F-9519-84F5C55E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5BA-5407-4D23-9EE8-91B84E29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6375-A66D-4BB5-BD6E-01B3CD8E3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4" descr="untitled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7760" y="35856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1" lang="lv-LV" sz="3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 EUGridPMA mee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00400" y="175212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98989"/>
                </a:solidFill>
                <a:latin typeface="Calibri"/>
              </a:rPr>
              <a:t>26 - 28  September,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98989"/>
                </a:solidFill>
                <a:latin typeface="Calibri"/>
              </a:rPr>
              <a:t>Marrakech, Moroc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3" descr="zzzz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29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Basic inf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arrake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 City, old fortifi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y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edin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+ an adjacent moder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y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Gueliz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limate i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eptember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verage high °C (°F)  32 (9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verage low °C (°F)  18 (6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cipitation mm (inches) 0 (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ational currency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irham(MAD)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, 1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ro ~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11 M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334120" y="3257640"/>
            <a:ext cx="3809880" cy="360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ableau 5" descr=""/>
          <p:cNvPicPr/>
          <p:nvPr/>
        </p:nvPicPr>
        <p:blipFill>
          <a:blip r:embed="rId1"/>
          <a:stretch/>
        </p:blipFill>
        <p:spPr>
          <a:xfrm>
            <a:off x="615960" y="1932120"/>
            <a:ext cx="7991640" cy="4432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609480" y="507960"/>
            <a:ext cx="784872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a arrangemen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ries whose nationals are exempt from the visa requirement for entry into Moro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ights to Marrakec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Direct Flights fro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Belgium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:  Brussels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ranc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: Paris, Lyon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 + 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 + Bordeau, Marseille, Nantes, Nice, Toulouse 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aly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Milan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EasyJet, 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 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pai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  Madrid , Barcelona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witzerlan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Geneva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  + 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K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London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 + 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 + Manchester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-de-f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: Basel-Mulhouse-Freiburg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EasyJe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Flights via Casablanc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ll other countrie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9:42:22Z</dcterms:created>
  <dc:creator>Owner</dc:creator>
  <dc:description/>
  <dc:language>en-US</dc:language>
  <cp:lastModifiedBy>Owner</cp:lastModifiedBy>
  <dcterms:modified xsi:type="dcterms:W3CDTF">2011-01-24T13:16:52Z</dcterms:modified>
  <cp:revision>32</cp:revision>
  <dc:subject/>
  <dc:title>21 EUGridPMA meeting, Marrakech, Morocco 16-18 or 23-25  January, 2012 </dc:title>
</cp:coreProperties>
</file>