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8F2-F1BD-4C61-8BAF-3820FA1D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54CE-9188-4942-8B24-66DDD8F3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495-9751-4300-958D-8A4469EA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265-C558-4DAF-9CBE-AEE57674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BF8B-9D35-41CE-B801-C531AC21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E60A-9C0C-4861-9B90-7EAC21C9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0B94-146B-4661-9C61-262D2E4F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6A82-17EE-4953-A550-EAD3BEFD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0F8D-5803-4D14-AFE4-085B67F5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9CB9-E12F-4681-8BCE-2A34CD09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264-7BF3-4159-BBD4-B500DF19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D405-2649-4741-A200-7B532703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D98D-3980-4C7D-A437-FB9DA037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24DB-FF10-4E55-B049-956CF651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5BA8-5D39-47F3-8BF3-7EB8A52E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7A02-9D72-4621-9C3B-6FFC97D0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ADCA-50E6-428B-98DE-9C43C923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4568-FB82-4513-84E6-A3E05E07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C56C5-DBB6-40C5-9821-E09C570B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7EFF1-FD71-48D7-88D7-3D09A41C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EDBCB-528B-400A-B1A4-E4B04AF6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2EE5-4215-44C8-97DB-074E9837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9D998-AFC3-485F-8FB3-69A95D8D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007AE-EC5D-4669-BF99-EC2120B8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43734-591D-4FD4-A21B-079A1074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D6389-2AEB-4DE3-A4A6-E9130C7F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ED30F-4DAD-4FD5-A99F-BDB8DE7D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218C4-A894-4624-AF99-C5F44B62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F73BF-231D-4922-B4A3-54F05D46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8D15D-2B2A-4251-98DE-BE6BF059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47E44-E42F-4B20-94D7-A162FFEB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1A764-D387-4201-8415-7B91093B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26E7-5F27-4786-AAEF-20F7C011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1C036-78C2-4423-A5BD-C5C88906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009FC-ECAE-4C36-9D29-2565D772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0CBD6-C3EB-42CD-8393-276B6320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CE2AB-D6D7-4D53-8849-60B912CA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E2A35-340C-4766-B2C0-3471059B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9FAA6-1BCE-4E61-9845-CAE8F723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67D2D-4065-47D2-B224-7F62F72E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33232-C9C4-4CA4-A536-C194AD42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F7E63-2CD9-48F4-B371-681950CD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75653-1731-4E92-AD3E-CEF81BD6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8519-B06D-452D-B221-237D43C2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0C858-4B0E-4F3B-BAC3-A06B9DDB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6A9-A554-45E9-86F5-9F8ECC30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AA8B-FAF7-4F1A-B56C-A50CD5CC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D91F-1656-486A-8B0C-EADF6CFF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96200"/>
            <a:ext cx="11048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571760" y="6481800"/>
            <a:ext cx="661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191440" y="647964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F526-AFF4-4F2F-A3FC-9285209ED19C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C:\Dokumente und Einstellungen\nl\Eigene Dateien\Aufträge 2009-JSC\EMI-PPT-Template\hintergrund.jpg"/>
          <p:cNvPicPr/>
          <p:nvPr/>
        </p:nvPicPr>
        <p:blipFill>
          <a:blip r:embed="rId2"/>
          <a:stretch/>
        </p:blipFill>
        <p:spPr>
          <a:xfrm>
            <a:off x="0" y="-1908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2703600" y="700200"/>
            <a:ext cx="3843360" cy="16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BAE8-9AC3-4B77-A19F-DED095FD9904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kumente und Einstellungen\nl\Eigene Dateien\Aufträge 2009-JSC\EMI-PPT-Template\streifen_50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7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8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9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286B-3398-4A84-A1CD-9063A8A4B23F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tle 13"/>
          <p:cNvSpPr/>
          <p:nvPr/>
        </p:nvSpPr>
        <p:spPr>
          <a:xfrm>
            <a:off x="506520" y="484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EMI is partially funded by the European Commission under Grant Agreement 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1527120" y="1216080"/>
            <a:ext cx="6094440" cy="2558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F325-A1AF-4F2D-8F4C-1BA82F628192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946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694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19469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194694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witch.ch/grid/support/documents/" TargetMode="External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9600" y="2712960"/>
            <a:ext cx="7999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AAI WG</a:t>
            </a:r>
            <a:br>
              <a:rPr sz="4400"/>
            </a:br>
            <a:r>
              <a:rPr b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EM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240" y="4462560"/>
            <a:ext cx="642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Christoph Witzig 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on behalf of EMI AAI WG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Use Case 3: AAI-enabled portals for displaying and accessing Grid information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33120" y="184320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Any portal can easily be accessed through AAI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Low priority </a:t>
            </a:r>
            <a:r>
              <a:rPr b="0" lang="en-US" sz="2800" spc="-1" strike="noStrike">
                <a:solidFill>
                  <a:srgbClr val="01092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typical Grid administrator already has X.509 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2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6DE3-9585-498F-90D3-2CA39C31D3DD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Use Case 4 : Security Token Service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33120" y="135108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A service obtains a security token and needs to convert it into another security token in order to access another service (e.g. Grid service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Example: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Incoming token: SAML, kerbero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Outgoing token: X.509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Note: very general use-cas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7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EAC5-E88C-477E-84E5-A08F8EDB2A66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952200" y="363600"/>
            <a:ext cx="64292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Use Case 5: Use of AAI attributes in Grid services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33120" y="144144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Today: attributes are issued by VOM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Tomorrow: non-VO attributes can be issued by AAI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Attributes in question are few, simple but possibly very important, such a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10920"/>
                </a:solidFill>
                <a:latin typeface="Calibri"/>
              </a:rPr>
              <a:t>Employing institutio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10920"/>
                </a:solidFill>
                <a:latin typeface="Calibri"/>
              </a:rPr>
              <a:t>Afflilation (student, professor, ...)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10920"/>
                </a:solidFill>
                <a:latin typeface="Calibri"/>
              </a:rPr>
              <a:t>Study branch (biology, physics 5th semester)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Question: What requirements should be put on AA? 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1510-C2DD-4633-971A-307C7D92C542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Use Case 6: VO Registration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33120" y="144144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Identity vetting based on AAI in registration proces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Possibly involving AAI attribute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Low priority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established mechanism exist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Interesting if other communities bring large number of user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7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C9F5-5444-473B-B10E-2DC232E86353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Use-cases: Summary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173240" y="1814400"/>
          <a:ext cx="7480080" cy="3942000"/>
        </p:xfrm>
        <a:graphic>
          <a:graphicData uri="http://schemas.openxmlformats.org/drawingml/2006/table">
            <a:tbl>
              <a:tblPr/>
              <a:tblGrid>
                <a:gridCol w="695160"/>
                <a:gridCol w="3465720"/>
                <a:gridCol w="3319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se-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509 issuance based on A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„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ved“ (but needs improvement!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I-enabled por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utions ex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L delegation n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I-enabled Grid info por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, general purpose service, high 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 of AAI attributes in 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esting, potentially very impor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 regi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72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89A1-6541-400F-9761-CD30A636553F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Security Token Service: Functionality </a:t>
            </a:r>
            <a:r>
              <a:rPr b="1" lang="de-CH" sz="1500" spc="-1" strike="noStrike">
                <a:solidFill>
                  <a:srgbClr val="194694"/>
                </a:solidFill>
                <a:latin typeface="Calibri"/>
              </a:rPr>
              <a:t>(1/2)</a:t>
            </a:r>
            <a:endParaRPr b="0" lang="en-US" sz="15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33120" y="1170000"/>
            <a:ext cx="748044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uthenticates and authorizes users based on security token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Transforms a security token (the claim) into another security token suitable for the requested servic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Username token into SAML toke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SAML token into X.509 toke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ggregates required information from external Attribute Authoritie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stablishes a trust relation between different application domain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Shibboleth domain vs Grid domai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77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4F15-2340-4F85-9BE5-C2CD1F0C47A7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Security Token Service: Functionality </a:t>
            </a:r>
            <a:r>
              <a:rPr b="1" lang="de-CH" sz="1500" spc="-1" strike="noStrike">
                <a:solidFill>
                  <a:srgbClr val="194694"/>
                </a:solidFill>
                <a:latin typeface="Calibri"/>
              </a:rPr>
              <a:t>(2/2)</a:t>
            </a:r>
            <a:endParaRPr b="0" lang="en-US" sz="15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33120" y="144144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Web Service (SOAP) based protocol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WS-Trust profil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Version 0 (dated Jan 2008!)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witch.ch/grid/support/documents/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Basic Operations: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10920"/>
                </a:solidFill>
                <a:latin typeface="Calibri"/>
              </a:rPr>
              <a:t>Request toke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10920"/>
                </a:solidFill>
                <a:latin typeface="Calibri"/>
              </a:rPr>
              <a:t>Renew toke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10920"/>
                </a:solidFill>
                <a:latin typeface="Calibri"/>
              </a:rPr>
              <a:t>Cancel toke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10920"/>
                </a:solidFill>
                <a:latin typeface="Calibri"/>
              </a:rPr>
              <a:t>Validate toke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Easy expansion to handle new token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Prospect: Integrated with Shibboleth IdP 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82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74F2-11FF-4A3D-A18E-86881C34E38F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Security Token Service: Architecture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33120" y="135252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Profile Handler implements WS-Trust profil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Token Authority manages security token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Resolver retrieves information, attributes from external authorities (LDAP, Online CA, VOMS, ...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87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BA94-ED47-421A-B16A-5CB2ECBCECDF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sts_architecture.png"/>
          <p:cNvPicPr/>
          <p:nvPr/>
        </p:nvPicPr>
        <p:blipFill>
          <a:blip r:embed="rId1"/>
          <a:stretch/>
        </p:blipFill>
        <p:spPr>
          <a:xfrm>
            <a:off x="1332000" y="3417840"/>
            <a:ext cx="6645240" cy="3279960"/>
          </a:xfrm>
          <a:prstGeom prst="rect">
            <a:avLst/>
          </a:prstGeom>
          <a:ln w="0">
            <a:noFill/>
          </a:ln>
        </p:spPr>
      </p:pic>
      <p:sp>
        <p:nvSpPr>
          <p:cNvPr id="291" name="TextBox 7"/>
          <p:cNvSpPr/>
          <p:nvPr/>
        </p:nvSpPr>
        <p:spPr>
          <a:xfrm>
            <a:off x="3648960" y="610380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Note: Prospect of building on Shibboleth  (IdP v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umsplatzhalt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ußzeilenplatzhalt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liennummernplatzhalt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AFD2-0362-4FCF-90D2-0456C9F1ECD9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403280" y="2924280"/>
            <a:ext cx="6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12720" y="147240"/>
            <a:ext cx="6702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4694"/>
                </a:solidFill>
                <a:latin typeface="Calibri"/>
              </a:rPr>
              <a:t>Trust Model: X.509 to SAML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12360" y="3360240"/>
            <a:ext cx="8139240" cy="30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X.509 Validation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rvice A and STS validate the X.509 token (X.509 trust based on the IGTF trust anchors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SAML Validation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rvice B must validate and trust the SAML token issued by the STS (SAML Trust Domain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pic>
        <p:nvPicPr>
          <p:cNvPr id="298" name="Picture 8" descr="STS-X509_SAML_Trust.png"/>
          <p:cNvPicPr/>
          <p:nvPr/>
        </p:nvPicPr>
        <p:blipFill>
          <a:blip r:embed="rId1"/>
          <a:stretch/>
        </p:blipFill>
        <p:spPr>
          <a:xfrm>
            <a:off x="3684600" y="0"/>
            <a:ext cx="5459400" cy="43164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Franz Kafka.jpg"/>
          <p:cNvPicPr/>
          <p:nvPr/>
        </p:nvPicPr>
        <p:blipFill>
          <a:blip r:embed="rId2"/>
          <a:stretch/>
        </p:blipFill>
        <p:spPr>
          <a:xfrm>
            <a:off x="2876400" y="2244600"/>
            <a:ext cx="84960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umsplatzhalt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ußzeilenplatzhalt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liennummernplatzhalt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9909-FE4F-444B-A2FF-89D61CD903AF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1403280" y="2924280"/>
            <a:ext cx="6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12720" y="147240"/>
            <a:ext cx="6702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4694"/>
                </a:solidFill>
                <a:latin typeface="Calibri"/>
              </a:rPr>
              <a:t>Trust Model: SAML to X.509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12720" y="3360240"/>
            <a:ext cx="8531280" cy="30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SAML Validation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rvice A and STS must validate and trust the SAML token issued by an IdP/AA (SAML Trust Domain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X.509 Validation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rvice B validates the X.509 token issued by the STS (based on the IGTF trust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pic>
        <p:nvPicPr>
          <p:cNvPr id="306" name="Picture 10" descr="STS-SAML_X509_Trust.png"/>
          <p:cNvPicPr/>
          <p:nvPr/>
        </p:nvPicPr>
        <p:blipFill>
          <a:blip r:embed="rId1"/>
          <a:stretch/>
        </p:blipFill>
        <p:spPr>
          <a:xfrm>
            <a:off x="4327560" y="874800"/>
            <a:ext cx="4157640" cy="27432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8" descr="Martina_Navratilova.jpg"/>
          <p:cNvPicPr/>
          <p:nvPr/>
        </p:nvPicPr>
        <p:blipFill>
          <a:blip r:embed="rId2"/>
          <a:stretch/>
        </p:blipFill>
        <p:spPr>
          <a:xfrm>
            <a:off x="3395520" y="2498760"/>
            <a:ext cx="105588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Comments</a:t>
            </a: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33120" y="144144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Disclaimer:</a:t>
            </a:r>
            <a:br>
              <a:rPr sz="3200"/>
            </a:b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This is work in progress that has just started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We are aware that some of these issues have already been discussed within EuGridPMA 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430F-2026-4C19-A702-5DFEF92B251D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Datumsplatzhalt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5581-2D1D-4565-972A-FA69943547B3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1403280" y="2924280"/>
            <a:ext cx="6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12720" y="147240"/>
            <a:ext cx="6702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4694"/>
                </a:solidFill>
                <a:latin typeface="Calibri"/>
              </a:rPr>
              <a:t>SAML Trust Model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57360" y="1044720"/>
            <a:ext cx="830232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AML Token Issuanc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694"/>
                </a:solidFill>
                <a:latin typeface="Calibri"/>
              </a:rPr>
              <a:t>STS must be able to issue SAML token to another service (signed and encrypted?)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AML Token Validation and Trust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694"/>
                </a:solidFill>
                <a:latin typeface="Calibri"/>
              </a:rPr>
              <a:t>Services must be able to validate and trust a SAML token issued by another service (STS, IdP, Attribute Authority, …)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4694"/>
                </a:solidFill>
                <a:latin typeface="Calibri"/>
              </a:rPr>
              <a:t>=&gt; SAML Trust Domain </a:t>
            </a: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must be defined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694"/>
                </a:solidFill>
                <a:latin typeface="Calibri"/>
              </a:rPr>
              <a:t>Using Metadata (Shibboleth)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1946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Entity ID (uniquely identifies a SP, IdP, AA, …)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1946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Key-Info (X.509 certificate for signature/encryption)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Issues / Questions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33120" y="132876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Handling trust between trust domain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Authentication assertion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Attributes handling (VOMS, IdP)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What requirements do you put on STS and other trust domain? </a:t>
            </a:r>
            <a:r>
              <a:rPr b="0" lang="en-US" sz="2400" spc="-1" strike="noStrike">
                <a:solidFill>
                  <a:srgbClr val="01092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 linking trust domain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Issuance of certificates – proxie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Interaction STS/IdP/VOM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Private key handling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Attribute handling / attribute trust?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16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94C0-093A-47A6-869D-9BD5B66E94D1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4152600"/>
            <a:ext cx="91440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0FB8-BFC2-4109-AF56-BAC4D0ADBE27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Content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33120" y="144144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EMI AAI WG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Identified use-case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Security Token Service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Policy issue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14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0646-CEC5-4713-87E9-18B439CA1EBB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933120" y="25200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EMI AAI WG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12960" y="1316160"/>
            <a:ext cx="748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EMI proposal mentions interoperability of EMI / Grid with AAIs, in particular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„</a:t>
            </a: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Easier“ credential handling for the user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Interoperability with Shibboleth and kerberos domain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Members from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CNAF, HIP, NKUOA, SWITCH, UWAR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6A0E-C552-4BE6-967C-E557C07CC233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46000" y="243000"/>
            <a:ext cx="642960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Objectives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33120" y="11826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109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Identify use-cases how EMI could support AAI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109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Support sub-set of identified use-cases within EMI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109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Reachout to other parties involved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EuGridPMA </a:t>
            </a:r>
            <a:r>
              <a:rPr b="0" lang="en-US" sz="2800" spc="-1" strike="noStrike">
                <a:solidFill>
                  <a:srgbClr val="01092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Trust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SFRI, EGI, …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4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88EA-0A51-4CBA-807C-A2D001F4394A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Use Case 1: Obtaining a X.509 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Based on token from another domain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20520" y="1843200"/>
            <a:ext cx="748188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1a) short-lived credential </a:t>
            </a:r>
            <a:r>
              <a:rPr b="0" lang="en-US" sz="3200" spc="-1" strike="noStrike">
                <a:solidFill>
                  <a:srgbClr val="01092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 next slide</a:t>
            </a: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	</a:t>
            </a: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1b) long-lived credential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Well-known for EuGridPMA </a:t>
            </a:r>
            <a:br>
              <a:rPr sz="3200"/>
            </a:br>
            <a:r>
              <a:rPr b="0" lang="en-US" sz="3200" spc="-1" strike="noStrike">
                <a:solidFill>
                  <a:srgbClr val="01092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 SLCS, MICS profile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9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5948-481A-450B-8F1B-3115661D8DBE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Content Placeholder 10" descr="slcs.png"/>
          <p:cNvPicPr/>
          <p:nvPr/>
        </p:nvPicPr>
        <p:blipFill>
          <a:blip r:embed="rId1"/>
          <a:srcRect l="-5858" t="0" r="-5858" b="0"/>
          <a:stretch/>
        </p:blipFill>
        <p:spPr>
          <a:xfrm>
            <a:off x="2614680" y="2416320"/>
            <a:ext cx="6038640" cy="40478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SLCS 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4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915C-2F35-41F3-A4D6-96AB2B71E59F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Martina_Navratilova.jpg"/>
          <p:cNvPicPr/>
          <p:nvPr/>
        </p:nvPicPr>
        <p:blipFill>
          <a:blip r:embed="rId2"/>
          <a:stretch/>
        </p:blipFill>
        <p:spPr>
          <a:xfrm>
            <a:off x="1969920" y="4716360"/>
            <a:ext cx="1094040" cy="10940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8"/>
          <p:cNvSpPr/>
          <p:nvPr/>
        </p:nvSpPr>
        <p:spPr>
          <a:xfrm>
            <a:off x="1229760" y="1382760"/>
            <a:ext cx="45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lcs-init: command lin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User Agent handles WebSSO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933120" y="1879200"/>
            <a:ext cx="7480440" cy="45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Portal obtains X.509 from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Certificate store (e.g. myproxy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„</a:t>
            </a: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CA“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Note: CA has a very broad meaning here – not necessarily EUGridPMA CA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Based on portal request (portal acting on behalf of user)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Based on SAML issued by IdP (delegation)</a:t>
            </a:r>
            <a:br>
              <a:rPr sz="2400"/>
            </a:br>
            <a:r>
              <a:rPr b="0" lang="en-US" sz="2400" spc="-1" strike="noStrike">
                <a:solidFill>
                  <a:srgbClr val="01092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 next slide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Note: New use-case, becoming available now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CBBB-35AD-4219-8CA1-3CD8B2B72A56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94694"/>
                </a:solidFill>
                <a:latin typeface="Calibri"/>
              </a:rPr>
              <a:t>Use Case 2: AAI-enabled portals to Grid infrastructure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Use Case 2: AAI-enabled portals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5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003D-913B-4A33-B437-21D555186D90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Content Placeholder 9" descr="aai-portal.png"/>
          <p:cNvPicPr/>
          <p:nvPr/>
        </p:nvPicPr>
        <p:blipFill>
          <a:blip r:embed="rId1"/>
          <a:srcRect l="-14626" t="0" r="-14626" b="0"/>
          <a:stretch/>
        </p:blipFill>
        <p:spPr>
          <a:xfrm>
            <a:off x="1111320" y="1374840"/>
            <a:ext cx="7480080" cy="5014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Martina_Navratilova.jpg"/>
          <p:cNvPicPr/>
          <p:nvPr/>
        </p:nvPicPr>
        <p:blipFill>
          <a:blip r:embed="rId2"/>
          <a:stretch/>
        </p:blipFill>
        <p:spPr>
          <a:xfrm>
            <a:off x="1050840" y="3898800"/>
            <a:ext cx="110196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6:30:03Z</dcterms:created>
  <dc:creator>Valery Tschopp</dc:creator>
  <dc:description/>
  <dc:language>en-US</dc:language>
  <cp:lastModifiedBy>Christoph Witzig</cp:lastModifiedBy>
  <cp:lastPrinted>2011-05-09T11:05:15Z</cp:lastPrinted>
  <dcterms:modified xsi:type="dcterms:W3CDTF">2011-05-12T07:05:45Z</dcterms:modified>
  <cp:revision>93</cp:revision>
  <dc:subject/>
  <dc:title>STS Trust</dc:title>
</cp:coreProperties>
</file>