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png" ContentType="image/png"/>
  <Override PartName="/ppt/media/image7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1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B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15.12.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2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B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Bel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3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B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04B2DA-2AED-422A-9DED-CFCA85407DEA}" type="slidenum">
              <a:rPr b="0" lang="nl-B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15.12.20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Beln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D8181F-2406-40D0-B77C-2B35E1DDADFD}" type="slidenum">
              <a:rPr b="0" lang="nl-B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15.12.20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Beln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610B02-2F72-4CB6-90B0-EA13C3CCA1D8}" type="slidenum">
              <a:rPr b="0" lang="nl-B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15.12.20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Beln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4E6D7D-FD31-4A5E-A000-8774D7C7F0BA}" type="slidenum">
              <a:rPr b="0" lang="nl-B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15.12.20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Beln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E6091B-8955-4C0C-9314-0576BC5AC14F}" type="slidenum">
              <a:rPr b="0" lang="nl-B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15.12.20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Beln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4D73DA-6D86-4B4F-9964-712F2D7049F2}" type="slidenum">
              <a:rPr b="0" lang="nl-B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752940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18920" y="4129200"/>
            <a:ext cx="752940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1892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704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4840" y="198252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10760" y="198252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18920" y="412920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4840" y="412920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10760" y="412920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36D9C-94E1-46A4-8A32-B559DDE05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18920" y="1982520"/>
            <a:ext cx="75294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9FB43-C42E-4152-8B6A-E882EE8A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75294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0037F-8584-4FC2-BFB1-60B6F406D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A0F41-3608-4D67-A79D-BF2263374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DD1B6-7017-411E-82A0-A09083788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18920" y="358920"/>
            <a:ext cx="7529400" cy="50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8631D-A2C2-4A85-B799-180DC2C2E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1892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D1964-832E-4DAD-B882-8510CA5D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18920" y="1982520"/>
            <a:ext cx="75294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704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15CEA-D2D8-4A5D-BB40-DDD9ED75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18920" y="4129200"/>
            <a:ext cx="752940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E28F4-F9E0-4125-A99A-2969B546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752940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18920" y="4129200"/>
            <a:ext cx="752940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7D718-A0EC-474C-B102-FDCE95ADC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1892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704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D8499-A111-4879-AF7A-9C521B1FD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64840" y="198252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10760" y="198252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18920" y="412920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64840" y="412920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10760" y="412920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4E09D-B663-44F7-8409-B9C02314D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718920" y="1982520"/>
            <a:ext cx="75294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75294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75294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718920" y="358920"/>
            <a:ext cx="7529400" cy="50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1892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704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18920" y="4129200"/>
            <a:ext cx="752940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752940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718920" y="4129200"/>
            <a:ext cx="752940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1892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704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64840" y="198252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10760" y="198252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718920" y="412920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64840" y="412920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10760" y="412920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A9072-53F8-4E8C-A6C1-A4626C7E2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718920" y="1982520"/>
            <a:ext cx="75294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7D8A0-E77D-4321-A7E0-DFD6068E4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75294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35CAF-4BF1-4D25-B649-15A040AE9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6A11D-9D4E-4F45-89D2-CBE9335FB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7E748-24AC-4A91-BEF0-8343A7CF4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718920" y="358920"/>
            <a:ext cx="7529400" cy="50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4D9F9-E500-4E1C-AB0E-876536C39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71892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F2F16-8A4B-4015-AE0A-ED7311C7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704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C28F6-4252-43B6-9C78-19AC4AD8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718920" y="4129200"/>
            <a:ext cx="752940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21B67-3DD1-4841-9A1E-2B527183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752940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718920" y="4129200"/>
            <a:ext cx="752940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98A33-10E3-41D2-8C7A-99E34B233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1892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704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80AF8-B61B-4E4B-B990-CF39BB322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64840" y="198252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810760" y="198252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718920" y="412920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64840" y="412920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810760" y="412920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D6E4E-7FF3-45E5-AE32-364B29564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718920" y="1982520"/>
            <a:ext cx="75294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75294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718920" y="358920"/>
            <a:ext cx="7529400" cy="50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1892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704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18920" y="4129200"/>
            <a:ext cx="752940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752940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718920" y="4129200"/>
            <a:ext cx="752940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71892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704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18920" y="358920"/>
            <a:ext cx="7529400" cy="50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4840" y="198252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810760" y="198252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718920" y="412920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4840" y="412920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810760" y="412920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1892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704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18920" y="4129200"/>
            <a:ext cx="752940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7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7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7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7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rcRect l="2360" t="6749" r="2352" b="2178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8267760" y="6124680"/>
            <a:ext cx="517320" cy="3762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3" descr=""/>
          <p:cNvPicPr/>
          <p:nvPr/>
        </p:nvPicPr>
        <p:blipFill>
          <a:blip r:embed="rId4"/>
          <a:stretch/>
        </p:blipFill>
        <p:spPr>
          <a:xfrm>
            <a:off x="723960" y="5262480"/>
            <a:ext cx="1800000" cy="87624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5"/>
          <a:stretch/>
        </p:blipFill>
        <p:spPr>
          <a:xfrm>
            <a:off x="2222640" y="1770120"/>
            <a:ext cx="6921360" cy="508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04880" y="293760"/>
            <a:ext cx="76946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04880" y="1668600"/>
            <a:ext cx="7694640" cy="38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2"/>
          <a:srcRect l="2360" t="2364" r="2828" b="23437"/>
          <a:stretch/>
        </p:blipFill>
        <p:spPr>
          <a:xfrm>
            <a:off x="380880" y="0"/>
            <a:ext cx="87631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4"/>
          <a:stretch/>
        </p:blipFill>
        <p:spPr>
          <a:xfrm>
            <a:off x="7694640" y="6286680"/>
            <a:ext cx="1079640" cy="393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5"/>
          <a:stretch/>
        </p:blipFill>
        <p:spPr>
          <a:xfrm>
            <a:off x="380880" y="6534000"/>
            <a:ext cx="5761080" cy="324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6"/>
          <a:srcRect l="0" t="-35347" r="-25968" b="0"/>
          <a:stretch/>
        </p:blipFill>
        <p:spPr>
          <a:xfrm>
            <a:off x="4356000" y="0"/>
            <a:ext cx="4788000" cy="29541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718920" y="1982520"/>
            <a:ext cx="75294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Num" idx="1"/>
          </p:nvPr>
        </p:nvSpPr>
        <p:spPr>
          <a:xfrm>
            <a:off x="5333760" y="6530760"/>
            <a:ext cx="401400" cy="3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nl-BE" sz="900" spc="-1" strike="noStrike">
                <a:solidFill>
                  <a:srgbClr val="8b8e8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B1E809B-4C40-41A7-BB64-22E946879ED4}" type="slidenum">
              <a:rPr b="0" lang="nl-BE" sz="900" spc="-1" strike="noStrike">
                <a:solidFill>
                  <a:srgbClr val="8b8e8d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2"/>
          </p:nvPr>
        </p:nvSpPr>
        <p:spPr>
          <a:xfrm>
            <a:off x="1432080" y="6530760"/>
            <a:ext cx="3898800" cy="3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900" spc="-1" strike="noStrike">
                <a:solidFill>
                  <a:srgbClr val="8b8e8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8b8e8d"/>
                </a:solidFill>
                <a:latin typeface="Times New Roman"/>
              </a:rPr>
              <a:t>BEgrid CA upd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3"/>
          </p:nvPr>
        </p:nvSpPr>
        <p:spPr>
          <a:xfrm>
            <a:off x="720360" y="6530760"/>
            <a:ext cx="825480" cy="3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US" sz="900" spc="-1" strike="noStrike">
                <a:solidFill>
                  <a:srgbClr val="96979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900" spc="-1" strike="noStrike">
                <a:solidFill>
                  <a:srgbClr val="969797"/>
                </a:solidFill>
                <a:latin typeface="Times New Roman"/>
              </a:rPr>
              <a:t>25 january 20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"/>
          <p:cNvPicPr/>
          <p:nvPr/>
        </p:nvPicPr>
        <p:blipFill>
          <a:blip r:embed="rId2"/>
          <a:srcRect l="2360" t="2364" r="2828" b="23437"/>
          <a:stretch/>
        </p:blipFill>
        <p:spPr>
          <a:xfrm>
            <a:off x="380880" y="0"/>
            <a:ext cx="876312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4"/>
          <a:stretch/>
        </p:blipFill>
        <p:spPr>
          <a:xfrm>
            <a:off x="7694640" y="6286680"/>
            <a:ext cx="1079640" cy="393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"/>
          <p:cNvPicPr/>
          <p:nvPr/>
        </p:nvPicPr>
        <p:blipFill>
          <a:blip r:embed="rId5"/>
          <a:stretch/>
        </p:blipFill>
        <p:spPr>
          <a:xfrm>
            <a:off x="395280" y="6534000"/>
            <a:ext cx="5761080" cy="324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6"/>
          <a:srcRect l="0" t="-35347" r="-25968" b="0"/>
          <a:stretch/>
        </p:blipFill>
        <p:spPr>
          <a:xfrm>
            <a:off x="4356000" y="0"/>
            <a:ext cx="4788000" cy="29541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18920" y="1982520"/>
            <a:ext cx="75294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ftr" idx="4"/>
          </p:nvPr>
        </p:nvSpPr>
        <p:spPr>
          <a:xfrm>
            <a:off x="1432080" y="6530760"/>
            <a:ext cx="3898800" cy="3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900" spc="-1" strike="noStrike">
                <a:solidFill>
                  <a:srgbClr val="8b8e8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8b8e8d"/>
                </a:solidFill>
                <a:latin typeface="Times New Roman"/>
              </a:rPr>
              <a:t>BEgrid CA upd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dt" idx="5"/>
          </p:nvPr>
        </p:nvSpPr>
        <p:spPr>
          <a:xfrm>
            <a:off x="720360" y="6530760"/>
            <a:ext cx="825480" cy="3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US" sz="900" spc="-1" strike="noStrike">
                <a:solidFill>
                  <a:srgbClr val="96979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900" spc="-1" strike="noStrike">
                <a:solidFill>
                  <a:srgbClr val="969797"/>
                </a:solidFill>
                <a:latin typeface="Times New Roman"/>
              </a:rPr>
              <a:t>25 january 20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5364000" y="6554880"/>
            <a:ext cx="4035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127511-1AEB-4787-8F68-A337725BEED7}" type="slidenum">
              <a:rPr b="0" lang="nl-BE" sz="900" spc="-1" strike="noStrike">
                <a:solidFill>
                  <a:srgbClr val="8b8e8d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" descr=""/>
          <p:cNvPicPr/>
          <p:nvPr/>
        </p:nvPicPr>
        <p:blipFill>
          <a:blip r:embed="rId2"/>
          <a:srcRect l="2360" t="2364" r="2828" b="23437"/>
          <a:stretch/>
        </p:blipFill>
        <p:spPr>
          <a:xfrm>
            <a:off x="380880" y="0"/>
            <a:ext cx="876312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"/>
          <p:cNvPicPr/>
          <p:nvPr/>
        </p:nvPicPr>
        <p:blipFill>
          <a:blip r:embed="rId4"/>
          <a:stretch/>
        </p:blipFill>
        <p:spPr>
          <a:xfrm>
            <a:off x="7694640" y="6286680"/>
            <a:ext cx="1079640" cy="393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"/>
          <p:cNvPicPr/>
          <p:nvPr/>
        </p:nvPicPr>
        <p:blipFill>
          <a:blip r:embed="rId5"/>
          <a:stretch/>
        </p:blipFill>
        <p:spPr>
          <a:xfrm>
            <a:off x="380880" y="6534000"/>
            <a:ext cx="5761080" cy="324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6"/>
          <a:srcRect l="0" t="-35347" r="-25968" b="0"/>
          <a:stretch/>
        </p:blipFill>
        <p:spPr>
          <a:xfrm>
            <a:off x="4356000" y="0"/>
            <a:ext cx="4788000" cy="29541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718920" y="1982520"/>
            <a:ext cx="75294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Num" idx="6"/>
          </p:nvPr>
        </p:nvSpPr>
        <p:spPr>
          <a:xfrm>
            <a:off x="5333760" y="6530760"/>
            <a:ext cx="401400" cy="3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nl-BE" sz="900" spc="-1" strike="noStrike">
                <a:solidFill>
                  <a:srgbClr val="8b8e8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2CFF2E4-7A1B-4FB4-AEBC-393A9475A934}" type="slidenum">
              <a:rPr b="0" lang="nl-BE" sz="900" spc="-1" strike="noStrike">
                <a:solidFill>
                  <a:srgbClr val="8b8e8d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7"/>
          </p:nvPr>
        </p:nvSpPr>
        <p:spPr>
          <a:xfrm>
            <a:off x="1432080" y="6530760"/>
            <a:ext cx="3898800" cy="3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900" spc="-1" strike="noStrike">
                <a:solidFill>
                  <a:srgbClr val="8b8e8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8b8e8d"/>
                </a:solidFill>
                <a:latin typeface="Times New Roman"/>
              </a:rPr>
              <a:t>BEgrid CA upd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dt" idx="8"/>
          </p:nvPr>
        </p:nvSpPr>
        <p:spPr>
          <a:xfrm>
            <a:off x="720720" y="6530760"/>
            <a:ext cx="1114560" cy="3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US" sz="900" spc="-1" strike="noStrike">
                <a:solidFill>
                  <a:srgbClr val="96979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900" spc="-1" strike="noStrike">
                <a:solidFill>
                  <a:srgbClr val="969797"/>
                </a:solidFill>
                <a:latin typeface="Times New Roman"/>
              </a:rPr>
              <a:t>12 september 20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1" descr=""/>
          <p:cNvPicPr/>
          <p:nvPr/>
        </p:nvPicPr>
        <p:blipFill>
          <a:blip r:embed="rId2"/>
          <a:srcRect l="2360" t="2364" r="2828" b="23437"/>
          <a:stretch/>
        </p:blipFill>
        <p:spPr>
          <a:xfrm>
            <a:off x="380880" y="0"/>
            <a:ext cx="8763120" cy="6858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"/>
          <p:cNvPicPr/>
          <p:nvPr/>
        </p:nvPicPr>
        <p:blipFill>
          <a:blip r:embed="rId4"/>
          <a:stretch/>
        </p:blipFill>
        <p:spPr>
          <a:xfrm>
            <a:off x="7694640" y="6286680"/>
            <a:ext cx="1079640" cy="3934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"/>
          <p:cNvPicPr/>
          <p:nvPr/>
        </p:nvPicPr>
        <p:blipFill>
          <a:blip r:embed="rId5"/>
          <a:stretch/>
        </p:blipFill>
        <p:spPr>
          <a:xfrm>
            <a:off x="395280" y="6534000"/>
            <a:ext cx="5761080" cy="324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6"/>
          <a:srcRect l="0" t="-35347" r="-25968" b="0"/>
          <a:stretch/>
        </p:blipFill>
        <p:spPr>
          <a:xfrm>
            <a:off x="4356000" y="0"/>
            <a:ext cx="4788000" cy="295416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10"/>
          <p:cNvSpPr/>
          <p:nvPr/>
        </p:nvSpPr>
        <p:spPr>
          <a:xfrm>
            <a:off x="5364000" y="6554880"/>
            <a:ext cx="4035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4F896F-45BE-4F01-87BD-BB583C695506}" type="slidenum">
              <a:rPr b="0" lang="nl-BE" sz="900" spc="-1" strike="noStrike">
                <a:solidFill>
                  <a:srgbClr val="8b8e8d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8920" y="1982520"/>
            <a:ext cx="75294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ftr" idx="9"/>
          </p:nvPr>
        </p:nvSpPr>
        <p:spPr>
          <a:xfrm>
            <a:off x="1432080" y="6530760"/>
            <a:ext cx="3898800" cy="3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900" spc="-1" strike="noStrike">
                <a:solidFill>
                  <a:srgbClr val="8b8e8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8b8e8d"/>
                </a:solidFill>
                <a:latin typeface="Times New Roman"/>
              </a:rPr>
              <a:t>BEgrid CA upd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dt" idx="10"/>
          </p:nvPr>
        </p:nvSpPr>
        <p:spPr>
          <a:xfrm>
            <a:off x="720720" y="6530760"/>
            <a:ext cx="1114560" cy="3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US" sz="900" spc="-1" strike="noStrike">
                <a:solidFill>
                  <a:srgbClr val="96979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900" spc="-1" strike="noStrike">
                <a:solidFill>
                  <a:srgbClr val="969797"/>
                </a:solidFill>
                <a:latin typeface="Times New Roman"/>
              </a:rPr>
              <a:t>12 september 20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savannah.cern.ch/patch/?5011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04520" y="293400"/>
            <a:ext cx="7697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Arial Rounded MT Bold"/>
              </a:rPr>
              <a:t>EUGridPMA – BEgrid CA update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04520" y="1668600"/>
            <a:ext cx="7697880" cy="191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lnet – Jean-Christophe R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rakech – 12 September 20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Footer Placeholder 4"/>
          <p:cNvSpPr/>
          <p:nvPr/>
        </p:nvSpPr>
        <p:spPr>
          <a:xfrm>
            <a:off x="1432080" y="6531120"/>
            <a:ext cx="3898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8b8e8d"/>
                </a:solidFill>
                <a:latin typeface="Times New Roman"/>
              </a:rPr>
              <a:t>BEgrid CA updat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Date Placeholder 5"/>
          <p:cNvSpPr/>
          <p:nvPr/>
        </p:nvSpPr>
        <p:spPr>
          <a:xfrm>
            <a:off x="720720" y="6531120"/>
            <a:ext cx="971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900" spc="-1" strike="noStrike">
                <a:solidFill>
                  <a:srgbClr val="969797"/>
                </a:solidFill>
                <a:latin typeface="Times New Roman"/>
              </a:rPr>
              <a:t>12 september 201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308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buClr>
                <a:srgbClr val="0092d2"/>
              </a:buClr>
              <a:buSzPct val="70000"/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Arial Rounded MT Bold"/>
              </a:rPr>
              <a:t>Current System: Own CA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75308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601"/>
              </a:spcBef>
              <a:buClr>
                <a:srgbClr val="4e504f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Live since the 28</a:t>
            </a:r>
            <a:r>
              <a:rPr b="1" lang="nl-BE" sz="2400" spc="-1" strike="noStrike" baseline="33000">
                <a:solidFill>
                  <a:srgbClr val="0092d2"/>
                </a:solidFill>
                <a:latin typeface="Arial"/>
              </a:rPr>
              <a:t>th</a:t>
            </a: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 october 2008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e504f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Modules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1" marL="741240" indent="-284040">
              <a:spcBef>
                <a:spcPts val="451"/>
              </a:spcBef>
              <a:buClr>
                <a:srgbClr val="4e504f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CA, RA, EE, Log, Management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741240" indent="-284040">
              <a:spcBef>
                <a:spcPts val="451"/>
              </a:spcBef>
              <a:buClr>
                <a:srgbClr val="4e504f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May be splitted on different servers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741240" indent="-284040">
              <a:spcBef>
                <a:spcPts val="451"/>
              </a:spcBef>
              <a:buClr>
                <a:srgbClr val="4e504f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Internal certificates for modules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e504f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Access rights per module / certificate profile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e504f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Certificates: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1" marL="741240" indent="-284040">
              <a:spcBef>
                <a:spcPts val="451"/>
              </a:spcBef>
              <a:buClr>
                <a:srgbClr val="4e504f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Profile per institution (associated RA)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741240" indent="-284040">
              <a:spcBef>
                <a:spcPts val="451"/>
              </a:spcBef>
              <a:buClr>
                <a:srgbClr val="4e504f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Around 350 active certificates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1432080" y="6531120"/>
            <a:ext cx="3898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8b8e8d"/>
                </a:solidFill>
                <a:latin typeface="Times New Roman"/>
              </a:rPr>
              <a:t>BEgrid CA updat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Date Placeholder 4"/>
          <p:cNvSpPr/>
          <p:nvPr/>
        </p:nvSpPr>
        <p:spPr>
          <a:xfrm>
            <a:off x="720720" y="6531120"/>
            <a:ext cx="825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900" spc="-1" strike="noStrike">
                <a:solidFill>
                  <a:srgbClr val="969797"/>
                </a:solidFill>
                <a:latin typeface="Times New Roman"/>
              </a:rPr>
              <a:t>25 january 201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19280" y="358920"/>
            <a:ext cx="7532640" cy="9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Arial Rounded MT Bold"/>
              </a:rPr>
              <a:t>BEgrid CA current system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4000" y="1699920"/>
            <a:ext cx="75308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Belnet / BEgrid staff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Authority for the system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Central RA / backup RA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Monitoring of the system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Supervision of the local RA’s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Local RA’s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Currently: 12 people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Staff of the various institutions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Trained by BEgrid staff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ooter Placeholder 4"/>
          <p:cNvSpPr/>
          <p:nvPr/>
        </p:nvSpPr>
        <p:spPr>
          <a:xfrm>
            <a:off x="1432080" y="6531120"/>
            <a:ext cx="3898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8b8e8d"/>
                </a:solidFill>
                <a:latin typeface="Times New Roman"/>
              </a:rPr>
              <a:t>BEgrid CA updat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Date Placeholder 5"/>
          <p:cNvSpPr/>
          <p:nvPr/>
        </p:nvSpPr>
        <p:spPr>
          <a:xfrm>
            <a:off x="720720" y="6531120"/>
            <a:ext cx="11145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900" spc="-1" strike="noStrike">
                <a:solidFill>
                  <a:srgbClr val="969797"/>
                </a:solidFill>
                <a:latin typeface="Times New Roman"/>
              </a:rPr>
              <a:t>25 january 201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308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Arial Rounded MT Bold"/>
              </a:rPr>
              <a:t>Current System: Own CA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718920" y="1982520"/>
            <a:ext cx="75294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BE" sz="2400" spc="-1" strike="noStrike">
                <a:solidFill>
                  <a:srgbClr val="0092d2"/>
                </a:solidFill>
                <a:latin typeface="Arial"/>
              </a:rPr>
              <a:t>CA offline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BE" sz="1800" spc="-1" strike="noStrike">
                <a:solidFill>
                  <a:srgbClr val="4e504f"/>
                </a:solidFill>
                <a:latin typeface="Arial"/>
              </a:rPr>
              <a:t>Adds a lot of work to Belnet’s CA staff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BE" sz="2400" spc="-1" strike="noStrike">
                <a:solidFill>
                  <a:srgbClr val="0092d2"/>
                </a:solidFill>
                <a:latin typeface="Arial"/>
              </a:rPr>
              <a:t>Looking forward to go online again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BE" sz="1800" spc="-1" strike="noStrike">
                <a:solidFill>
                  <a:srgbClr val="4e504f"/>
                </a:solidFill>
                <a:latin typeface="Arial"/>
              </a:rPr>
              <a:t>Network HSM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BE" sz="1600" spc="-1" strike="noStrike">
                <a:solidFill>
                  <a:srgbClr val="4e504f"/>
                </a:solidFill>
                <a:latin typeface="Arial"/>
              </a:rPr>
              <a:t>Very expensive</a:t>
            </a:r>
            <a:endParaRPr b="0" lang="en-US" sz="1600" spc="-1" strike="noStrike">
              <a:solidFill>
                <a:srgbClr val="4e504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BE" sz="1600" spc="-1" strike="noStrike">
                <a:solidFill>
                  <a:srgbClr val="4e504f"/>
                </a:solidFill>
                <a:latin typeface="Arial"/>
              </a:rPr>
              <a:t>Need more usages than Begrid CA alone.. CERT ?</a:t>
            </a:r>
            <a:endParaRPr b="0" lang="en-US" sz="1600" spc="-1" strike="noStrike">
              <a:solidFill>
                <a:srgbClr val="4e504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BE" sz="1800" spc="-1" strike="noStrike">
                <a:solidFill>
                  <a:srgbClr val="4e504f"/>
                </a:solidFill>
                <a:latin typeface="Arial"/>
              </a:rPr>
              <a:t>SoftHSM ?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BE" sz="1600" spc="-1" strike="noStrike">
                <a:solidFill>
                  <a:srgbClr val="4e504f"/>
                </a:solidFill>
                <a:latin typeface="Arial"/>
              </a:rPr>
              <a:t>http://www.opendnssec.org/softhsm/</a:t>
            </a:r>
            <a:endParaRPr b="0" lang="en-US" sz="1600" spc="-1" strike="noStrike">
              <a:solidFill>
                <a:srgbClr val="4e504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ooter Placeholder 3"/>
          <p:cNvSpPr/>
          <p:nvPr/>
        </p:nvSpPr>
        <p:spPr>
          <a:xfrm>
            <a:off x="1432080" y="6531120"/>
            <a:ext cx="3898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8b8e8d"/>
                </a:solidFill>
                <a:latin typeface="Times New Roman"/>
              </a:rPr>
              <a:t>BEgrid CA updat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Date Placeholder 4"/>
          <p:cNvSpPr/>
          <p:nvPr/>
        </p:nvSpPr>
        <p:spPr>
          <a:xfrm>
            <a:off x="720720" y="6531120"/>
            <a:ext cx="825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900" spc="-1" strike="noStrike">
                <a:solidFill>
                  <a:srgbClr val="969797"/>
                </a:solidFill>
                <a:latin typeface="Times New Roman"/>
              </a:rPr>
              <a:t>25 january 201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308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Arial Rounded MT Bold"/>
              </a:rPr>
              <a:t>Transition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75308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400" spc="-1" strike="noStrike">
                <a:solidFill>
                  <a:srgbClr val="0092d2"/>
                </a:solidFill>
                <a:latin typeface="Arial"/>
              </a:rPr>
              <a:t>Still use our own CA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400" spc="-1" strike="noStrike">
                <a:solidFill>
                  <a:srgbClr val="0092d2"/>
                </a:solidFill>
                <a:latin typeface="Arial"/>
              </a:rPr>
              <a:t>Switch to TERENA’s Personnal Certificate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4e504f"/>
                </a:solidFill>
                <a:latin typeface="Arial"/>
              </a:rPr>
              <a:t>Currently investigated :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2" marL="800280" indent="0"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600" spc="-1" strike="noStrike">
                <a:solidFill>
                  <a:srgbClr val="4e504f"/>
                </a:solidFill>
                <a:latin typeface="Arial"/>
              </a:rPr>
              <a:t>Personal e-science certificates</a:t>
            </a:r>
            <a:endParaRPr b="0" lang="en-US" sz="1600" spc="-1" strike="noStrike">
              <a:solidFill>
                <a:srgbClr val="4e504f"/>
              </a:solidFill>
              <a:latin typeface="Arial"/>
            </a:endParaRPr>
          </a:p>
          <a:p>
            <a:pPr lvl="2" marL="800280" indent="0"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600" spc="-1" strike="noStrike">
                <a:solidFill>
                  <a:srgbClr val="4e504f"/>
                </a:solidFill>
                <a:latin typeface="Arial"/>
              </a:rPr>
              <a:t>Institutions must be member of the Belnet R&amp;E Federation</a:t>
            </a:r>
            <a:endParaRPr b="0" lang="en-US" sz="1600" spc="-1" strike="noStrike">
              <a:solidFill>
                <a:srgbClr val="4e504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4e504f"/>
                </a:solidFill>
                <a:latin typeface="Arial"/>
              </a:rPr>
              <a:t>Later :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2" marL="800280" indent="0"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600" spc="-1" strike="noStrike">
                <a:solidFill>
                  <a:srgbClr val="4e504f"/>
                </a:solidFill>
                <a:latin typeface="Arial"/>
              </a:rPr>
              <a:t>e-science server certificates</a:t>
            </a:r>
            <a:endParaRPr b="0" lang="en-US" sz="1600" spc="-1" strike="noStrike">
              <a:solidFill>
                <a:srgbClr val="4e504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Arial Rounded MT Bold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718920" y="1982520"/>
            <a:ext cx="75294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BE" sz="2400" spc="-1" strike="noStrike">
                <a:solidFill>
                  <a:srgbClr val="0092d2"/>
                </a:solidFill>
                <a:latin typeface="Arial"/>
              </a:rPr>
              <a:t>First tests with personal e-science certificates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BE" sz="1800" spc="-1" strike="noStrike">
                <a:solidFill>
                  <a:srgbClr val="4e504f"/>
                </a:solidFill>
                <a:latin typeface="Arial"/>
              </a:rPr>
              <a:t>Problem with proxy path length   (glite-ce-cream-1.12.4-2)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BE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s://savannah.cern.ch/patch/?5011</a:t>
            </a:r>
            <a:endParaRPr b="0" lang="en-US" sz="1600" spc="-1" strike="noStrike">
              <a:solidFill>
                <a:srgbClr val="4e504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BE" sz="1600" spc="-1" strike="noStrike">
                <a:solidFill>
                  <a:srgbClr val="4e504f"/>
                </a:solidFill>
                <a:latin typeface="Arial"/>
              </a:rPr>
              <a:t>Known bug, patch needs to be deployed</a:t>
            </a:r>
            <a:endParaRPr b="0" lang="en-US" sz="1600" spc="-1" strike="noStrike">
              <a:solidFill>
                <a:srgbClr val="4e504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BE" sz="2400" spc="-1" strike="noStrike">
                <a:solidFill>
                  <a:srgbClr val="0092d2"/>
                </a:solidFill>
                <a:latin typeface="Arial"/>
              </a:rPr>
              <a:t>As soon as patched is widely deployed, we will inform our users that they may start to use personal e-science certificates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BE" sz="2400" spc="-1" strike="noStrike">
                <a:solidFill>
                  <a:srgbClr val="0092d2"/>
                </a:solidFill>
                <a:latin typeface="Arial"/>
              </a:rPr>
              <a:t>In parallel, we start testing server e-science certificates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55" name="Footer Placeholder 3"/>
          <p:cNvSpPr/>
          <p:nvPr/>
        </p:nvSpPr>
        <p:spPr>
          <a:xfrm>
            <a:off x="1432080" y="6531120"/>
            <a:ext cx="3898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8b8e8d"/>
                </a:solidFill>
                <a:latin typeface="Times New Roman"/>
              </a:rPr>
              <a:t>BEgrid CA updat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Date Placeholder 4"/>
          <p:cNvSpPr/>
          <p:nvPr/>
        </p:nvSpPr>
        <p:spPr>
          <a:xfrm>
            <a:off x="720720" y="6531120"/>
            <a:ext cx="825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900" spc="-1" strike="noStrike">
                <a:solidFill>
                  <a:srgbClr val="969797"/>
                </a:solidFill>
                <a:latin typeface="Times New Roman"/>
              </a:rPr>
              <a:t>25 january 201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10:23:45Z</dcterms:created>
  <dc:creator>Elke</dc:creator>
  <dc:description/>
  <dc:language>en-US</dc:language>
  <cp:lastModifiedBy>jean-christophe</cp:lastModifiedBy>
  <dcterms:modified xsi:type="dcterms:W3CDTF">2011-09-09T11:56:26Z</dcterms:modified>
  <cp:revision>25</cp:revision>
  <dc:subject/>
  <dc:title>Title presentation</dc:title>
</cp:coreProperties>
</file>