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13F-B093-4DCE-806B-6FFB99181F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B47-5467-4846-8932-BF838434A2F6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FB3-6BFE-4CFD-B562-D2F1C9F5AD23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C07A-E6A9-48F0-A3E7-C91082EBA81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1C9-816F-47AC-B8B5-21993D37DF6C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3659-F644-4232-8427-BB119F36B3E9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1534-51CC-415F-8715-BEC9CB0BBDE9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810-2226-4B08-A86A-44459D02D61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B3DD-F088-4A2E-B3C1-0BC1090E0B9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DB27-D885-4B01-A391-49A8640EE3A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3298-45D1-4C5B-867D-EC5C88371D9A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F91-C8F7-4ACB-AC80-A0A651D4C76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A10-43A2-4A2A-9BF3-CB6B37DFDE22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2A7-FF4F-4D41-A7CB-2BC6A3B03316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876-6182-491B-AA92-44E64D358C9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000-4B85-4106-9D0E-B676593686B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C27A-D853-4447-BAF2-22F9539478B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C7A-F5EE-4D42-ABFA-DB8B0BEC6B09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AB3-6FCA-4CAE-B566-1B4A97EADC8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7794-4D3F-4910-B666-3C9BAB215A4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4C8-9D86-4A54-A11D-148BDB1C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7E8-B0CD-4ECB-954C-FDC227D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6D6-6DD0-464B-9D1C-E71A495E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048-A0E8-42CE-A670-FBCC5601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9910-A4F4-41CB-B13B-FF95DA81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F46-5FFB-4E96-BADA-7535684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8BA-0923-47E6-885A-573A0C8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5C3F-972E-4FCA-985B-AA261DD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5006-DD94-44C1-A31B-B1132DDB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46F-46FD-4906-96FD-182FF72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B6A-8080-4732-846A-7C23D89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3CE-8C34-475D-A8C9-3AB8C8B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63ED-FFAE-4B5E-90DC-7941E52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31E7-E835-4C7F-BC09-3B0BA0F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0B2-C6EE-4C4E-9639-823DA77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3F2-F446-4B18-980C-8BB2D4BD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91E3-0F0F-4721-B95A-3D213B3B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2413-B12F-4087-82E9-B866FAEE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85FC-65A5-49AF-9849-8840B43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70F6-CF15-49B0-92FD-6F69F61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B3E9-1087-4B50-9B41-FB684C5B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35D3-529B-4EC2-AF77-B3AE109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5A1-FE79-4B8B-AF75-04B73089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767A-11D0-4AEF-A9E7-E75EF682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833F-9A28-45C3-8380-1AD7C06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C28D-A28E-496C-9230-276FE97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8946-DD40-42F5-B9DE-9CED4BB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EA43-76E1-4A35-83EA-F3FD99D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FFB9-BA6F-4DDB-8895-6B93FF43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4E15-6F08-4AE8-A0A3-16995DA1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EC31-FCCC-4088-BED9-9F303BEC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6CA1-6121-4B19-95B4-7ED090F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625A-F1B4-459B-BEF2-D6937F1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192-9736-46A2-A33D-9E73353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FB3A-F569-4342-A866-FE1FAA5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C6C7-095F-4DE1-A77D-D96FC835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1AC8-DF73-44A9-BBA9-995C2312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E5EC-54B3-43FA-8CDD-557B38E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BA0B-FC80-4A4B-8695-BB94C3D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BE17-DAF3-476B-BA20-73AE346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6D8B-2D0F-46AD-A477-B38C462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C240-3188-4F96-B054-754376E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546B-C727-4598-8F96-4B1F281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AEF98-72D9-49A1-A2C7-05332398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EF6-361A-4B5C-9281-EE8D9A1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AB24-D497-4F6E-8F53-1E2E8B1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99F6-DC16-4EDC-8B82-991BC8E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DB57-BF7B-45D8-BDF6-D668D28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0E18-9993-4D56-B90E-461A0DF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C4FC-896D-4413-A2AC-F627087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72EB-5D85-4112-8857-A81A63D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FF0A-72CF-4475-86FB-9EB5025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845A-5EC7-4730-BA99-D7A1CAC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81B8-FAB6-4978-BC0C-1A0DBEDE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32CB8-8EE3-4E6F-BD5F-34EEC8F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FA9-0C62-4E47-B6E5-286FEC2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3D49-42F3-44DA-AA42-CE0F4B0C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C384-8393-4EAB-9148-07A60C8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3964-D54C-462B-AE21-BD3546D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1B6B-4846-469C-B7A0-C3C33FC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D9E7-C94D-439C-B4A3-DC5B079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E72D-C6B1-41EE-84CF-6762D3F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202E-BF26-4A3E-9BB2-FFEE3B10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41BB-9140-468D-995C-021A8CF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5740-DBA6-41F5-8D4B-EE6D97A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7258-94B9-4CEF-A3C8-2CCDFA7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BC4-2D2F-4E7C-9CF7-69C85B3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ED29-71AC-4A98-B5F1-3AE0C5F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4CF1-320F-45D8-B36E-BA962A8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BBE7-158A-43E1-95D6-8F0A6792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B022A-DE3E-4D3C-B70A-9ACE4F19DE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B6236-18CC-4DE9-87A5-CD6CEA776B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C51F1-FC02-4560-89A1-7650521709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FDBE7-1E45-4B4D-9DB0-8756B5A9D25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453C9-6696-4842-8349-F5905BD920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966A5-0F94-48FF-B24E-BE18899066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9F74F-55DB-41F3-A7D2-86AB8CCE5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EDF-1630-4432-97F1-5BD4764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8F84D-1A18-49F1-9ABA-20B7CAC8E0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65F2B-321C-4C0A-BAB3-241F4D4BFA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B3402-8C33-413E-9878-E486DF1110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C028C-C7BA-44D2-9B44-0C792024DB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2597A-4568-4418-8A0C-1071D6C9A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3CF-0235-4B9A-B8DE-21B9085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3BA-5D23-4837-A48B-190043184AB3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FC2C-2631-4A3A-A617-A72A80067FE4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0C0-DCED-4F2F-9166-F59CF9BEC8E5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3F6E-E389-49CC-927B-F96A3B233EDE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9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10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B960-518D-4400-9641-C8E70D58B2EB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563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IUCC – May 2009 – Eddie Aronovi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1369-4290-45E8-B975-608E9ABE66D3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5821200"/>
            <a:ext cx="89676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4E2-23C1-490A-960D-B0B60571A57A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7D6-DE73-48CD-BABD-09E236CA325B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F19-114E-4A18-BF6B-F4F195C2DA55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142-BFF9-4D18-B0D6-BFADB64CB76F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60B7-5DE8-416E-8199-1188FB77914F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6FD-E8A8-4988-849F-0EC0C03FDE48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69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72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9"/>
          </p:nvPr>
        </p:nvSpPr>
        <p:spPr>
          <a:xfrm>
            <a:off x="3203640" y="6559200"/>
            <a:ext cx="5262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Grid Operation and Security by Eddie Aronovich,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C14-B50C-4A28-B4FC-FB239FE66F85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94920" y="2781000"/>
            <a:ext cx="846468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rbel"/>
              </a:rPr>
              <a:t>IUCC Certification Authority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Implementation of self audit finding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esented by Arad Alper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January 201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114720" y="31680"/>
            <a:ext cx="2676600" cy="30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5090-6913-4E5C-8E33-1FEE43F32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re an end-entity obligation to protect the private key with a 12 character pass phrase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1" lang="en-US" sz="3000" spc="-1" strike="noStrike">
                <a:solidFill>
                  <a:srgbClr val="fa7d7a"/>
                </a:solidFill>
                <a:latin typeface="Corbel"/>
              </a:rPr>
              <a:t> 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d7a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lready implemented in practice, and will be a stipulation in the nex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2CB5-38E5-4808-AC7B-21E7BB684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accept external auditing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41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ccording to section our CP/CPS, no external auditing will be performed, only self-auditing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have no problem with external auditing, and we will change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3609-CFE5-4CF3-A0D3-D015E4592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the CA guarantee that a subject name will remain unique throughout the lifetime of the C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We do not have such a mechanism. A review of the certificates issued so far reveals no duplication of subject nam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Requesting suggestions how to deal with this stipulation.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A0FA-4981-4FD3-9620-09D48267A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an end-entity obligation include requesting revocation? -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re is no mention of it in the CP/CPS, but we do stress it to the use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xt CP/C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CD23-FCF4-4728-984C-EBB5371B36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erform operational audits of the CA/RA staff once a yea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A performs a yearly self-assessment. We do not do any official RA audi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will audit our RAs, and fix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D316-B896-4075-B20B-AA2695821E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ipulations that do not appear in CP/CPS but are maintained in practice 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f61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for certificate profiles to match GFD 125, but they do match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issue a new CRL 7 days before expiration date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maintain a list of RAs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The stipulations will be added in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A21A-F281-43C4-83CD-871DBBD62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P/CPS structured according to RFC 3647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o. It is structured according to RFC 2527 which was the one available when we drafted our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’ll use 3647 to write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2E9C-7965-4CCE-BFF1-05834BEC44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ho can request certificate revocation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CP/CPS fails to mention that RA or CA can request revoc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456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D0A7-D517-4F96-983E-8971BEB768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85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re certificates and private keys re-keyed or renewed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According to CP/CPS,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expired certificates must be re-keyed if a request is made prior to expiration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 practice, we revoke a certificate when it is about to expire, and issue a new one, with a new private ke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intend to continue this practice until the switch to TCS, then work by their r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26C8-61FE-4A5D-A274-85243AA06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rovide their trust ancho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 assumed that EUGridPMA was our trust anchor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epository. 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can provide our trust anchor to EUGRidPMA wh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sk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F3E1-EC93-48B5-9219-47E3FAFB0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8760" y="838080"/>
            <a:ext cx="8535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(Inter University Computation Center) is a member in FP7 projects - Geant and EGI and Linksce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handles all Israeli grid activ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CA is the authority that issues gri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176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UGridPMA member since Dec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grid is the unit inside of IUCC that handles Grid an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AD1C-0AE0-450C-8FD0-A83B51812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RA validate the identity of a person requesting a host/service certificate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no stipulation is CP/CPS. In practice, there are very few such requests, and the persons requesting are well known to the R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rbel"/>
              </a:rPr>
              <a:t>Requesting sugg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A466-778E-4955-96A5-3476F1889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5640" y="3860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048120" y="31680"/>
            <a:ext cx="2939760" cy="33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A64B-E7B6-4B46-8795-EE7856BDF4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IUCC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CA</a:t>
            </a:r>
            <a:endParaRPr b="1" lang="en-US" sz="40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951200"/>
            <a:ext cx="8229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UCC CA handles the grid certification to all of Israel’s 8 universit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ch university has its own 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Isragrid/IUCC serves as a default RA, that verifies requests from non-academic bod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rbel"/>
              </a:rPr>
              <a:t>Question: can we use the default RA for academic users as well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797E-8E6B-4277-A10A-65683DD4F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2010, IUCC decided to transfer our certificate issuance to an outside service, operated by Terena (TC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UCC has been a member of TCS since September 2010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en issuing server certificates via TCS since January 2011. User certificates are still issued using the OpenCA machi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 have been a member of TCS Portal since December 2011, and are in the process of moving user certificates issuance to the portal, and completing the switch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witch to T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B939-6821-41F1-8328-5AB0B05378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the move is completed, a new CP/CPS will be draf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 audit was performed using the curren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1F86-068C-4EE5-9F2A-CCDDAC5BF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f audit was performed using the audit document GFD 16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used the scoring system provided in the documen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: G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: Recommendation (min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: Recommendation (maj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: Advice (must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: Could not evaluate (N/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e we shall present the Ds, Cs &amp; B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883C-CBB0-4340-9B99-07C81597D0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P/CPS describe the procedure of changing CP/CPS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w CP/CPS. Requesting instructions.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Bookshelf Symbol 7"/>
                <a:ea typeface="Bookshelf Symbol 7"/>
              </a:rPr>
              <a:t>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E5AD-9B95-4F6D-8952-E7BE13555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as the secure environment of the CA machine approved by PM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 CA machine used to be operated and located in Tel Aviv University (IUCC outsourced work). IUCC/Isragrid hired staff in 2009 and moved the machine to a safe-box in the IUCC building. However, we did not get PMA approval for the new spot.  We believe the PMA never gave approval for the previous location as w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How do we get the approval for the new saf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B9DB-548A-4286-A9AF-06CEE46BB1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RL compliant with RFC5280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RFC5280 stipulates that the CRL has to be version 2. Our CRL is version 1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Should we fix this, or can we continue issuing version 1 CRLs until we take our old CA system offlin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D2B4-E72C-4008-986D-626B27D3FA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00:04Z</dcterms:created>
  <dc:creator>user</dc:creator>
  <dc:description/>
  <dc:language>en-US</dc:language>
  <cp:lastModifiedBy>ארד</cp:lastModifiedBy>
  <dcterms:modified xsi:type="dcterms:W3CDTF">2012-01-11T14:55:26Z</dcterms:modified>
  <cp:revision>260</cp:revision>
  <dc:subject/>
  <dc:title>הגריד האקדמי הישראלי</dc:title>
</cp:coreProperties>
</file>