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449B-3438-4B3B-B433-7CA0C4EF91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02A6-F492-451C-B51B-655C87B28D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905-22E4-48BA-85AF-F4160FB8AB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AFD-3800-4176-B64B-7FF464C2AF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AC7-BAEC-41D2-A64F-458ADFFBB9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23C2-CC51-461B-A77B-433821F80E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C38A-CC42-42DB-AA25-C2545E11FF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0D2-4608-4F0F-8757-BD98099AA0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8675A-6EE3-49CD-B98E-BE6BC52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845E-9F1C-4078-A79C-1D7520D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A425-5F1A-47FC-A77E-D51A56C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D95F8-3666-4FF6-B727-C063CBB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BA8D6-C295-404B-9C9F-3A33110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88A3F-6BEB-42C1-8595-DA54F18E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9F2CE-E4BC-40AB-885B-69E84D1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799F8-2CE1-431E-B78D-761C056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0EBB-1ADF-4C5F-88CB-448B243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89EDD-0468-4169-85D7-8566060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19A6F-3B43-4D7B-8319-914F883A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977A-4A98-4856-89FC-C852FDB3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4C4-ACC3-418C-BCE0-7F1F2A23ADCB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A204-615F-4DC9-9980-E739B929A4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 #24, Ljubljana,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17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4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484360" y="6237360"/>
            <a:ext cx="504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since October 20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1052640"/>
          <a:ext cx="7129440" cy="5499000"/>
        </p:xfrm>
        <a:graphic>
          <a:graphicData uri="http://schemas.openxmlformats.org/drawingml/2006/table">
            <a:tbl>
              <a:tblPr/>
              <a:tblGrid>
                <a:gridCol w="2024280"/>
                <a:gridCol w="525240"/>
                <a:gridCol w="1862280"/>
                <a:gridCol w="2717640"/>
              </a:tblGrid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+ SLCS (propos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giCert(2) – US, TACC - US, UFF BrGrid &amp; UFF LACGrid -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SLCS (NCSA x 2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Classic pending (SENAMHI – Peru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OSG, XSEDE(TeraGrid)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accredited since last F2F in October, 2011 Oak Rigde, T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CS UTK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Cert – Classic x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Overhaul under way – several items require updating…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(s)://tagpma.es.net/wiki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14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TAGPMA F2F </a:t>
            </a: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NICS, Oak Ridge, T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ct 11 – 12, 201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://indico.rnp.br/conferenceOtherViews.py?view=standard&amp;confId=1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NICS UTK – SLCS (MyProxy with 2-factor authentication token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igiCert – Classic x 2, HLCA x 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One new member (NCAR, Steve Beaty) has requested accreditation of 2 CAs (MICS, SLCS) – Jim Basney, me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Membership Review under 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No recent upda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TAGPMA F2F planned for February 9-10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ted by San Diego Supercomputer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da items inclu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GPMA Membership Review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from EUGridPMA and APGrid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SA 2-Factor CA (Jim Basney, NC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LCA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 of Registration Practice Stat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LCG Timetable for move to SH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Authority Prof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gular Video Conference Calls are now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thl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at 12noon Eastern on th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nd Wednesda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of each mon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after TAGPMA 15 will be March 14,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VO – look for TAGP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we may be dropping the ESNet support in favor of 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all for agenda items goes out 1 week before the next c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e-mail list no later than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dcterms:modified xsi:type="dcterms:W3CDTF">2012-01-17T14:48:14Z</dcterms:modified>
  <cp:revision>135</cp:revision>
  <dc:subject>F2F12 Lubbock TX</dc:subject>
  <dc:title>TAGPMA Update</dc:title>
</cp:coreProperties>
</file>