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76B5324-3469-4D4D-B2B3-AAE6B87CA0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E3057D-0A59-462A-AE56-BA664D4DF6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7609D654-CDDE-4EEF-8AC6-BD7E6DCC238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ED83A072-2835-4D3A-AB32-F1EC77C503A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553C7EE-3982-4A1E-B9DE-90DB7EF06FD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EB1DE01-A242-4D07-83F3-7876E4C01B1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74ED3D50-4FA6-4CA8-BC5F-F4C75FD3B2E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52447B4-CAEB-4858-BF24-B4A4843972F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CE80A1C-8BAC-4AFF-8BEF-A7130DF2386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7BE95CED-3FC9-477C-BE3F-F59D641A13A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5A8580F-4929-4266-9D97-DBE54596A17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75C8F60-5A2D-4484-B1DA-C4E92225200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40836D7-EB6E-4578-8B94-1900B404E3A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r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6-18, 2012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jubljana, Slove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Jožef Stefan Institute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an Jona Javorsek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and the Slovenian NGI!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Dusan for the September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2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 and EVO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811080" y="1996920"/>
            <a:ext cx="772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try to host everything on EVO, but if the desktop sharing does not work well enough, we can switch 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to collaborate on documents - especially during editing sess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90180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25</a:t>
            </a:r>
            <a:r>
              <a:rPr b="1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1" lang="en-GB" sz="2400" spc="-1" strike="noStrike">
                <a:solidFill>
                  <a:srgbClr val="990000"/>
                </a:solidFill>
                <a:latin typeface="Lucida Sans"/>
              </a:rPr>
              <a:t>Karlsruhe, Ma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AG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an Diego February 9-10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PGridPMA meeting and ISGC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Taipei, TW, Feb 29 – March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4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Oxford, UK, March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ERENA Networking Conference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Reykjavik, May 21-25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26</a:t>
            </a:r>
            <a:r>
              <a:rPr b="1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1" lang="en-GB" sz="2400" spc="-1" strike="noStrike">
                <a:solidFill>
                  <a:srgbClr val="990000"/>
                </a:solidFill>
                <a:latin typeface="Lucida Sans"/>
              </a:rPr>
              <a:t>Belgrade (tentative), September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7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 t.b.d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8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Lucida Sans"/>
              </a:rPr>
              <a:t>Kyiv (tentative), May 2013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troduction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Josef Stefan Institute, SiGNET, and local inform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ELF-AUDIT STATUS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ending self-audi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87520" y="1295280"/>
            <a:ext cx="85564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-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 new CP/CPS, review by JCR+DoC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Y-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 new CP/CPS, review DG+Ursul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OSA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ing new CP/CPS, review Ursula+Yur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G.ACAD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 – await new CP/CPS, review Edgars+Bo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RGI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ing new CP/CPS, review Emir+David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altic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will be redone in updat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UCC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presenting now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KeScienc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 – await CP/CPS update, review Willy+Alexe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kIRIS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CP/CPS postponed since many people lef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EGIS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review done, being implement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GridIrelan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needs sending of the new CP/CPS to Nun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pending CP/CP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1-15T07:53:37Z</dcterms:modified>
  <cp:revision>593</cp:revision>
  <dc:subject/>
  <dc:title>European Grid Policy Management Authority</dc:title>
</cp:coreProperties>
</file>