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22"/>
          </p:nvPr>
        </p:nvSpPr>
        <p:spPr>
          <a:xfrm>
            <a:off x="3779640" y="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move the slide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23"/>
          </p:nvPr>
        </p:nvSpPr>
        <p:spPr>
          <a:xfrm>
            <a:off x="0" y="943272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24"/>
          </p:nvPr>
        </p:nvSpPr>
        <p:spPr>
          <a:xfrm>
            <a:off x="3779640" y="9432720"/>
            <a:ext cx="2889000" cy="495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F69A097-57D4-4263-A0B7-B311A2DDE0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FDB99BD-5BDA-423B-9FC4-762CCFBC73FE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D5DFD36-7E8C-47DD-9885-36FC6003DF2D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Espace réservé du numéro de diapositive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4070746-844E-4B58-B5EA-D93136598240}" type="slidenum">
              <a:rPr b="0" lang="en-US" sz="1200" spc="-1" strike="noStrike">
                <a:solidFill>
                  <a:srgbClr val="0000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Espace réservé du numéro de diapositive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DEF2376-5859-4695-A25C-AB4F5223A372}" type="slidenum">
              <a:rPr b="0" lang="en-US" sz="1200" spc="-1" strike="noStrike">
                <a:solidFill>
                  <a:srgbClr val="0000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Espace réservé du numéro de diapositive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D0C234D-A3C4-4554-B8F5-3F45D355FCCE}" type="slidenum">
              <a:rPr b="0" lang="en-US" sz="1200" spc="-1" strike="noStrike">
                <a:solidFill>
                  <a:srgbClr val="0000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Espace réservé du numéro de diapositive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913CDDA-2E24-4D42-A192-8331F49F5BBC}" type="slidenum">
              <a:rPr b="0" lang="en-US" sz="1200" spc="-1" strike="noStrike">
                <a:solidFill>
                  <a:srgbClr val="0000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CEDC412-B458-4D41-9D08-B727F066AE3D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9A1ED46-7858-4379-8EFF-7A9A6DE56871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25501E0-A1E8-41F0-9245-63A6D631C6EB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6CCC38A-3FD3-43CF-8D4E-4887EA860DC0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DD894-F7CD-4D2B-B7C9-87B82FB4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3DBC-D70F-421E-8B32-60EC988A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423936-EEAD-4AC8-9782-38B18AEA5AE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EC1B7-D0EA-44A9-9ACF-E66075EA0D7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AED75-CAFC-46D6-846E-88DAE679A81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CD79D8-56D3-459C-BE27-68AD154A992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4AE2DF-66E3-46DB-AEA4-4ACA82208A3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262253-08F7-4964-BA3B-BBAB7D085D0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0A5B9-21DB-454E-AAA8-0D713278DEE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7B68F6-32D6-4285-96F3-ED4295B188B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6D81DB-5500-46E6-811D-B2AFE7AE490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029137-275F-4AC3-8A7C-D8E36DADE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6F8B-5A0B-428B-94A1-D79D3F2C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4691A6-7DC3-4D8A-AC5C-63F367C40DD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AF38C0-1959-4DAD-8F4F-84ECD518174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5F7118-5464-48CE-82DE-8D49DC718F3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DB8805-3C12-4E13-A14C-F822F90787D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8C067A-E766-4326-A2F3-EFE8FDB9212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05814C-9A80-49AD-A8BA-FE8F0700453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CA24DA-7FC3-43BA-B990-BABC6B1F7CF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74132E-A628-48BA-B8EE-66BE11C0F30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5429DF-7424-44B0-A1D7-C4E70B1F4AA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3852E4-5133-47BA-A141-4898231E0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C6F7-091F-4266-862B-35C802C8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25A9E5-DBF3-48AD-A24B-8F0EC66505F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87FB1-A441-47E9-9B0E-0497871DB7A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684BE-6CD1-47AE-8A2C-860DF911E9D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D7BFE-B67B-429C-8F65-AEF17DD4F47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7E35C-745E-4B0E-AD8F-FC253612C87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3913F-F815-4AC4-B1B5-51C9BD471E7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C2480-6CB1-4866-8BD7-E8271F4BFC0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1289E-85A0-476C-8B02-DC81D73ED1A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99F6D-4692-4BA0-95C6-AB049DFB00A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3A419-E193-4163-AF7D-A9E3D405C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44980-3D6F-4BFC-A86B-EA6FD4F62AF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15838-5730-48CA-936F-F5449A37D90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432B4-4792-410E-8CEB-F307C985B5B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D919BE-A8EA-4640-9D92-443C1B3CAD7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B761CE-ECB4-48B6-868A-F93C7B7C7EB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AAECF5-51C8-41B5-AFE1-F5961550BDD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E88A60-BBA4-4027-A6AE-5A22CD23EF2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55BB96-B41C-490C-B363-5D7109292F8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301EE5-968F-411F-AD65-5C951DD19B4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4B7702-5CF6-4A6C-9AC4-16E38A84BC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67A916-0969-46BF-8FA7-FCF6DE50405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F64F28-B09A-4AD6-8E55-F77F10D743B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2FFD11-EF3C-4149-8CCC-0097D1ED1C1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396ED9-0D3F-4EEF-9FD0-27F6DC8748C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42D995-2928-4256-9994-7C765237F5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E1D8-7F90-4E67-801A-A844893F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A942-F217-46F3-B855-641D358C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0DC2A-4D79-46AE-9765-E0F0A908FB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D340D-F04A-4C60-A157-BBF9D13E31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0FF96-D4FD-4CC3-A3C4-0C70FB948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30AC-3BA6-430C-AE8A-7B7CD455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2DF2D-4A7B-45CC-9EA2-F92351CDAA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AA7B0-DA73-4F10-AF7F-806E97E819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D8372-A166-4FCD-AE41-E1CE766324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F71D7-A561-421C-B8E6-F84687FF764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4EAB1-1315-477D-B3E9-E1B05909D4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4B0C5-4F1E-460D-9E45-2BEFF97A23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CA664-5386-4DBC-B007-6BB5F40393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D153A-32DC-41F4-BEAF-94B92B1B170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0B4F7-259A-4FBD-8310-765CDD629CF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07A9-78E5-4D93-A662-D0DBED978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6D7E-A1F6-4A34-A4BC-8EDBE7AA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2CE8-85BB-4940-A202-7BF1114CB9B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FC92-F811-446F-8619-15C88D03B00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C969-646A-4CDD-8876-674EB478A85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64C4-5FDF-425B-A0EF-E9FBAF34B1D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0BC4-5CE1-4B50-B2AB-0DC33BF51DB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5006-CCE5-4D17-A1C6-56D9E2CC4EA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43D0-AC81-4BB5-B8DA-48E3F7013BC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BB67-FEB6-4881-B7B4-75E422BB764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AEDB-038E-4C51-9B25-489DD6622F6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6470-B4A7-4E3B-9A29-61A7E293A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3AB6-72FD-465F-8897-B4F41DB4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9669-69F3-4EF6-B365-A59CD32D505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C7EF1-C114-44CE-A46F-C65C6ECC84E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5DEFB-2AE0-44C8-9F3D-B1B4FB06455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3C7FE-A769-4209-B896-8FFC492450F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65AF6-009A-45EA-8180-D442C2A6BB0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99727-5C90-4421-9436-06255889F73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154F0-7F8C-42ED-964D-F87597C2D5E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B926F-14D3-45CD-B90B-E03999EBC45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2F294-9DAA-4B6A-A1E9-ACC36CAD2FD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D5323-80E1-4A90-BDF5-AEBEEE417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8EA24-3D24-4781-B21D-6E941D92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2E1BB-4629-4700-9EDF-33D1407DAB3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1AD26-D576-4315-A10D-7CA85F5815C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78412-D752-4FD7-A4BB-90DA9E321CF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5E6F4B-09EE-4D58-8577-B1FD1E64B21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9CE4A9-2ADB-4AEF-926B-9495BBBFD53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EE603F-163C-43ED-B7C8-93DEA4A828D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2E79D-7EC5-4DA9-BB40-412B1BA3D32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150632-FE08-4D37-8259-93F86A9A7F6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9B8428-3DDB-4803-82D5-0D652275006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26E0FC-B15D-4D1E-9AD0-D50CD692F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BCBED-1516-4630-B460-020BF46D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C8CFB8-BEF7-46CA-9CD0-599279CF368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84D837-C5F6-4952-8C9A-ED7713B5E20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03C438-C5CE-402A-8F98-58A52EBD31D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F12436-0B8B-40B1-9BC5-DA701AD2F22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17EC11-A758-43A0-8FA9-3A50276EF68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C9C06-FC25-4CAF-9F7E-A35F33FE797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E5893-A7D9-4FAF-8A65-1A123D86568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0967A-A64D-4274-9D22-65903F76627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1F9B6-1D07-4BCF-BD50-DCBAB976023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89BD5-4199-4738-9045-D6E347D9A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413F-ECAB-488E-9D66-43339484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71125-E794-40A8-98FC-D96BF683432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E33ED-F2B4-4C04-8AD7-E53782ACC88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A199C-2D64-4961-8A57-9C805FB2709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0BB59-6765-4089-B13D-808C29CD99B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2B0AB-FE2B-4BBB-86B5-2BAA9BB800F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782D4-A7CC-4EDA-8DCA-E806EA0A174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5E88C-B9B0-4F38-8578-289D7B009FD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767ABE-BAFD-44E6-8D20-4A3C9666008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A54F95-5A39-4F50-AF56-D86D6D52A66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47AA51-979F-4362-BD26-7656F0646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4561-9E2E-4BC7-8DD1-16464442F608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  <a:ea typeface="Arial"/>
              </a:rPr>
              <a:t>21th EUGridPMA meeting, Utrecht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8989da"/>
                </a:solidFill>
                <a:latin typeface="Times New Roman"/>
                <a:cs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935C-DF05-458F-A6BD-7831625191B0}" type="datetime">
              <a:rPr b="0" lang="ar-SY" sz="1200" spc="-1" strike="noStrike">
                <a:solidFill>
                  <a:srgbClr val="8989da"/>
                </a:solidFill>
                <a:latin typeface="Times New Roman"/>
                <a:cs typeface="Arial"/>
              </a:rPr>
              <a:t>١٤٤٨/٠٢/١٦</a:t>
            </a:fld>
            <a:r>
              <a:rPr b="0" lang="ar-SY" sz="1200" spc="-1" strike="noStrike">
                <a:solidFill>
                  <a:srgbClr val="8989da"/>
                </a:solidFill>
                <a:latin typeface="Times New Roman"/>
                <a:ea typeface="Arial"/>
              </a:rPr>
              <a:t> </a:t>
            </a:r>
            <a:fld id="{03076D87-C97B-4918-8080-5EB919703C87}" type="datetime10">
              <a:rPr b="0" lang="ar-SY" sz="1200" spc="-1" strike="noStrike">
                <a:solidFill>
                  <a:srgbClr val="8989da"/>
                </a:solidFill>
                <a:latin typeface="Times New Roman"/>
                <a:ea typeface="Arial"/>
              </a:rPr>
              <a:t>20:1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6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EE5C-1BC2-446A-8CDD-764D2BBEBAD1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7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28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8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B6D5-0FFD-4812-A5DC-8AD36687CDF9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19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0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CAC9-84CC-4F17-8E86-8B7FC76E305B}" type="slidenum">
              <a:rPr b="0" lang="en-US" sz="1400" spc="-1" strike="noStrike">
                <a:solidFill>
                  <a:srgbClr val="0000cc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1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cc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>
            <a:lum bright="12000"/>
          </a:blip>
          <a:srcRect l="11966" t="0" r="8797" b="8705"/>
          <a:stretch/>
        </p:blipFill>
        <p:spPr>
          <a:xfrm>
            <a:off x="458640" y="663480"/>
            <a:ext cx="8244000" cy="6027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9404280" y="532440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5" name="Arc 8"/>
          <p:cNvSpPr/>
          <p:nvPr/>
        </p:nvSpPr>
        <p:spPr>
          <a:xfrm>
            <a:off x="3960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025880" y="98280"/>
            <a:ext cx="44910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7" name="Arc 12"/>
          <p:cNvSpPr/>
          <p:nvPr/>
        </p:nvSpPr>
        <p:spPr>
          <a:xfrm>
            <a:off x="61920" y="5913360"/>
            <a:ext cx="1598760" cy="1222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8" name="Arc 13"/>
          <p:cNvSpPr/>
          <p:nvPr/>
        </p:nvSpPr>
        <p:spPr>
          <a:xfrm flipH="1">
            <a:off x="8501040" y="-136440"/>
            <a:ext cx="1557360" cy="788760"/>
          </a:xfrm>
          <a:custGeom>
            <a:avLst/>
            <a:gdLst/>
            <a:ahLst/>
            <a:rect l="l" t="t" r="r" b="b"/>
            <a:pathLst>
              <a:path fill="none" w="20883" h="17763">
                <a:moveTo>
                  <a:pt x="20883" y="5518"/>
                </a:moveTo>
                <a:cubicBezTo>
                  <a:pt x="19568" y="10493"/>
                  <a:pt x="16520" y="14836"/>
                  <a:pt x="12288" y="17763"/>
                </a:cubicBezTo>
              </a:path>
              <a:path stroke="0" w="20883" h="17763">
                <a:moveTo>
                  <a:pt x="20883" y="5518"/>
                </a:moveTo>
                <a:cubicBezTo>
                  <a:pt x="19568" y="10493"/>
                  <a:pt x="16520" y="14836"/>
                  <a:pt x="12288" y="17763"/>
                </a:cubicBezTo>
                <a:lnTo>
                  <a:pt x="0" y="0"/>
                </a:lnTo>
                <a:lnTo>
                  <a:pt x="20883" y="5518"/>
                </a:lnTo>
                <a:close/>
              </a:path>
            </a:pathLst>
          </a:custGeom>
          <a:noFill/>
          <a:ln w="255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9" name="Arc 14"/>
          <p:cNvSpPr/>
          <p:nvPr/>
        </p:nvSpPr>
        <p:spPr>
          <a:xfrm flipH="1" flipV="1">
            <a:off x="8178120" y="-286200"/>
            <a:ext cx="887400" cy="1086120"/>
          </a:xfrm>
          <a:custGeom>
            <a:avLst/>
            <a:gdLst/>
            <a:ahLst/>
            <a:rect l="l" t="t" r="r" b="b"/>
            <a:pathLst>
              <a:path fill="none" w="20836" h="21596">
                <a:moveTo>
                  <a:pt x="372" y="-1"/>
                </a:moveTo>
                <a:cubicBezTo>
                  <a:pt x="9969" y="164"/>
                  <a:pt x="18306" y="6644"/>
                  <a:pt x="20836" y="15903"/>
                </a:cubicBezTo>
              </a:path>
              <a:path stroke="0" w="20836" h="21596">
                <a:moveTo>
                  <a:pt x="372" y="-1"/>
                </a:moveTo>
                <a:cubicBezTo>
                  <a:pt x="9969" y="164"/>
                  <a:pt x="18306" y="6644"/>
                  <a:pt x="20836" y="15903"/>
                </a:cubicBezTo>
                <a:lnTo>
                  <a:pt x="0" y="21596"/>
                </a:lnTo>
                <a:lnTo>
                  <a:pt x="372" y="-1"/>
                </a:lnTo>
                <a:close/>
              </a:path>
            </a:pathLst>
          </a:custGeom>
          <a:noFill/>
          <a:ln w="25560">
            <a:solidFill>
              <a:srgbClr val="f4c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239760" y="382680"/>
            <a:ext cx="302580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1" name="Line 17"/>
          <p:cNvSpPr/>
          <p:nvPr/>
        </p:nvSpPr>
        <p:spPr>
          <a:xfrm>
            <a:off x="9036000" y="781200"/>
            <a:ext cx="0" cy="2388960"/>
          </a:xfrm>
          <a:prstGeom prst="line">
            <a:avLst/>
          </a:prstGeom>
          <a:ln w="25560">
            <a:solidFill>
              <a:srgbClr val="f4ce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2650320" y="6561000"/>
            <a:ext cx="331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ff9933"/>
                </a:solidFill>
                <a:latin typeface="Rockwell"/>
                <a:ea typeface="Rockwell"/>
              </a:rPr>
              <a:t>24</a:t>
            </a:r>
            <a:r>
              <a:rPr b="1" lang="nl-NL" sz="1000" spc="-1" strike="noStrike" baseline="36000">
                <a:solidFill>
                  <a:srgbClr val="ff9933"/>
                </a:solidFill>
                <a:latin typeface="Rockwell"/>
                <a:ea typeface="Rockwell"/>
              </a:rPr>
              <a:t>th </a:t>
            </a:r>
            <a:r>
              <a:rPr b="1" lang="nl-NL" sz="1000" spc="-1" strike="noStrike">
                <a:solidFill>
                  <a:srgbClr val="ff9933"/>
                </a:solidFill>
                <a:latin typeface="Rockwell"/>
                <a:ea typeface="Rockwell"/>
              </a:rPr>
              <a:t>EUGridPMA Meeting, </a:t>
            </a:r>
            <a:r>
              <a:rPr b="1" lang="fr-FR" sz="1000" spc="-1" strike="noStrike">
                <a:solidFill>
                  <a:srgbClr val="ff9933"/>
                </a:solidFill>
                <a:latin typeface="Rockwell"/>
                <a:ea typeface="Rockwell"/>
              </a:rPr>
              <a:t>Ljubljana, Slovenia</a:t>
            </a:r>
            <a:r>
              <a:rPr b="1" lang="nl-NL" sz="1000" spc="-1" strike="noStrike">
                <a:solidFill>
                  <a:srgbClr val="ff9933"/>
                </a:solidFill>
                <a:latin typeface="Rockwell"/>
                <a:ea typeface="Rockwell"/>
              </a:rPr>
              <a:t>, 2012</a:t>
            </a:r>
            <a:endParaRPr b="0" lang="en-US" sz="10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3" name="Straight Connector 12"/>
          <p:cNvSpPr/>
          <p:nvPr/>
        </p:nvSpPr>
        <p:spPr>
          <a:xfrm>
            <a:off x="108000" y="6556320"/>
            <a:ext cx="8928000" cy="0"/>
          </a:xfrm>
          <a:prstGeom prst="line">
            <a:avLst/>
          </a:prstGeom>
          <a:ln w="19080">
            <a:solidFill>
              <a:srgbClr val="ffe6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8259120" y="6537240"/>
            <a:ext cx="109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A1E4-9AEC-4DF0-9923-691CD1C74E05}" type="slidenum">
              <a:rPr b="1" lang="en-US" sz="1400" spc="-1" strike="noStrike">
                <a:solidFill>
                  <a:srgbClr val="ff9933"/>
                </a:solidFill>
                <a:latin typeface="Rockwell"/>
                <a:ea typeface="Rockwell"/>
              </a:rPr>
              <a:t>&lt;number&gt;</a:t>
            </a:fld>
            <a:endParaRPr b="0" lang="en-US" sz="1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4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79F9-7281-4D5C-A803-44E423BE953D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6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5FDC-B603-40F3-9B7B-4D5877101852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8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AB3B-758C-4692-AC37-04A5A916E859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9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0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DB73-7921-4D19-8F72-A21101B5EB25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12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B7D8-2CB9-495B-812C-DE5B746D419E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3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4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1BE3-0C1E-44A0-ABA9-BE3D375F0787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5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000" y="2300400"/>
            <a:ext cx="80643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 Black"/>
              </a:rPr>
              <a:t>TNGrid CA</a:t>
            </a:r>
            <a:endParaRPr b="1" lang="en-US" sz="44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11280" y="335592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99"/>
                </a:solidFill>
                <a:latin typeface="Rockwell"/>
              </a:rPr>
              <a:t>24</a:t>
            </a:r>
            <a:r>
              <a:rPr b="1" lang="nl-NL" sz="1600" spc="-1" strike="noStrike" baseline="34000">
                <a:solidFill>
                  <a:srgbClr val="000099"/>
                </a:solidFill>
                <a:latin typeface="Rockwell"/>
              </a:rPr>
              <a:t>th</a:t>
            </a:r>
            <a:r>
              <a:rPr b="1" lang="nl-NL" sz="1600" spc="-1" strike="noStrike">
                <a:solidFill>
                  <a:srgbClr val="000099"/>
                </a:solidFill>
                <a:latin typeface="Rockwell"/>
              </a:rPr>
              <a:t> EUGridPMA meeting 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Rockwell"/>
              </a:rPr>
              <a:t>Ljubljana, Slovenia</a:t>
            </a:r>
            <a:r>
              <a:rPr b="1" lang="nl-NL" sz="1600" spc="-1" strike="noStrike">
                <a:solidFill>
                  <a:srgbClr val="000099"/>
                </a:solidFill>
                <a:latin typeface="Rockwell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Rockwell"/>
              </a:rPr>
              <a:t>16-18 January, 2012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24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51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Rockwell"/>
              </a:rPr>
              <a:t>Heithem ABBES                Mohamed JEMNI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24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Rockwell"/>
              </a:rPr>
              <a:t>heithem.abbes@esstt.rnu.tn                     mohamed.jemni@fst.rnu.tn</a:t>
            </a:r>
            <a:endParaRPr b="0" lang="en-US" sz="10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24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Rockwell"/>
              </a:rPr>
              <a:t>Research Unit </a:t>
            </a:r>
            <a:r>
              <a:rPr b="1" lang="it-IT" sz="1200" spc="-1" strike="noStrike">
                <a:solidFill>
                  <a:srgbClr val="000099"/>
                </a:solidFill>
                <a:latin typeface="Rockwell"/>
              </a:rPr>
              <a:t>Technolgies of Information and Communication</a:t>
            </a: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Rockwell"/>
              </a:rPr>
              <a:t>University of Tunis </a:t>
            </a:r>
            <a:r>
              <a:rPr b="1" lang="en-US" sz="1200" spc="-1" strike="noStrike">
                <a:solidFill>
                  <a:srgbClr val="000099"/>
                </a:solidFill>
                <a:latin typeface="Rockwell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</p:txBody>
      </p:sp>
      <p:pic>
        <p:nvPicPr>
          <p:cNvPr id="520" name="Image 3" descr="TN-GRID.png"/>
          <p:cNvPicPr/>
          <p:nvPr/>
        </p:nvPicPr>
        <p:blipFill>
          <a:blip r:embed="rId1"/>
          <a:stretch/>
        </p:blipFill>
        <p:spPr>
          <a:xfrm>
            <a:off x="128520" y="477720"/>
            <a:ext cx="2139840" cy="1511280"/>
          </a:xfrm>
          <a:prstGeom prst="rect">
            <a:avLst/>
          </a:prstGeom>
          <a:ln w="0">
            <a:noFill/>
          </a:ln>
        </p:spPr>
      </p:pic>
      <p:pic>
        <p:nvPicPr>
          <p:cNvPr id="521" name="Image 2" descr="logo2.bmp"/>
          <p:cNvPicPr/>
          <p:nvPr/>
        </p:nvPicPr>
        <p:blipFill>
          <a:blip r:embed="rId2"/>
          <a:stretch/>
        </p:blipFill>
        <p:spPr>
          <a:xfrm>
            <a:off x="3973680" y="765000"/>
            <a:ext cx="885600" cy="952560"/>
          </a:xfrm>
          <a:prstGeom prst="rect">
            <a:avLst/>
          </a:prstGeom>
          <a:ln w="0">
            <a:noFill/>
          </a:ln>
        </p:spPr>
      </p:pic>
      <p:pic>
        <p:nvPicPr>
          <p:cNvPr id="522" name="Image 4" descr="eumedgrid_logo.png"/>
          <p:cNvPicPr/>
          <p:nvPr/>
        </p:nvPicPr>
        <p:blipFill>
          <a:blip r:embed="rId3"/>
          <a:stretch/>
        </p:blipFill>
        <p:spPr>
          <a:xfrm>
            <a:off x="6411960" y="739800"/>
            <a:ext cx="1905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Name Form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66560" y="1268280"/>
            <a:ext cx="8282160" cy="52689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Rockwell"/>
              </a:rPr>
              <a:t>Issuer (TNGrid CA)</a:t>
            </a: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  : </a:t>
            </a:r>
            <a:r>
              <a:rPr b="1" lang="en-US" sz="1500" spc="-1" strike="noStrike">
                <a:solidFill>
                  <a:srgbClr val="ff0000"/>
                </a:solidFill>
                <a:latin typeface="Rockwell"/>
              </a:rPr>
              <a:t>C=TN/O=TNGrid/CN=TNGrid CA</a:t>
            </a:r>
            <a:endParaRPr b="0" lang="en-US" sz="15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Rockwell"/>
              </a:rPr>
              <a:t>User</a:t>
            </a: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 : </a:t>
            </a:r>
            <a:r>
              <a:rPr b="1" lang="en-US" sz="1500" spc="-1" strike="noStrike">
                <a:solidFill>
                  <a:srgbClr val="ff0000"/>
                </a:solidFill>
                <a:latin typeface="Rockwell"/>
              </a:rPr>
              <a:t>C=TN, O=TNGrid, OU=organizationName, CN=commonName</a:t>
            </a:r>
            <a:endParaRPr b="0" lang="en-US" sz="1500" spc="-1" strike="noStrike">
              <a:solidFill>
                <a:srgbClr val="000099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organizati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is the organization name of the subject.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comm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must be the Forename and the Surname of the subject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Rockwell"/>
              </a:rPr>
              <a:t>Host</a:t>
            </a: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 : </a:t>
            </a:r>
            <a:r>
              <a:rPr b="1" lang="en-US" sz="1500" spc="-1" strike="noStrike">
                <a:solidFill>
                  <a:srgbClr val="ff0000"/>
                </a:solidFill>
                <a:latin typeface="Rockwell"/>
              </a:rPr>
              <a:t>C=TN, O=TNGrid, OU=organizationName, CN=commonName</a:t>
            </a:r>
            <a:endParaRPr b="0" lang="en-US" sz="1500" spc="-1" strike="noStrike">
              <a:solidFill>
                <a:srgbClr val="000099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organizati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is the name of the organization owning the host.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comm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must be the DNS FQDN of the host preceded by </a:t>
            </a:r>
            <a:r>
              <a:rPr b="0" lang="ja-JP" sz="1500" spc="-1" strike="noStrike">
                <a:solidFill>
                  <a:srgbClr val="000082"/>
                </a:solidFill>
                <a:latin typeface="Rockwell"/>
              </a:rPr>
              <a:t>‘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host/</a:t>
            </a:r>
            <a:r>
              <a:rPr b="0" lang="ja-JP" sz="1500" spc="-1" strike="noStrike">
                <a:solidFill>
                  <a:srgbClr val="000082"/>
                </a:solidFill>
                <a:latin typeface="Rockwell"/>
              </a:rPr>
              <a:t>’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Rockwell"/>
              </a:rPr>
              <a:t>Service</a:t>
            </a: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 : </a:t>
            </a:r>
            <a:r>
              <a:rPr b="1" lang="en-US" sz="1500" spc="-1" strike="noStrike">
                <a:solidFill>
                  <a:srgbClr val="ff0000"/>
                </a:solidFill>
                <a:latin typeface="Rockwell"/>
              </a:rPr>
              <a:t>C=TN, O=TNGrid, OU=organizationName, CN=commonName</a:t>
            </a:r>
            <a:endParaRPr b="0" lang="en-US" sz="1500" spc="-1" strike="noStrike">
              <a:solidFill>
                <a:srgbClr val="000099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organizati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is the name of the organization owning the service.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comm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must be the DNS FQDN of the server preceded by </a:t>
            </a:r>
            <a:r>
              <a:rPr b="0" lang="ja-JP" sz="1500" spc="-1" strike="noStrike">
                <a:solidFill>
                  <a:srgbClr val="000082"/>
                </a:solidFill>
                <a:latin typeface="Rockwell"/>
              </a:rPr>
              <a:t>‘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serviceName/</a:t>
            </a:r>
            <a:r>
              <a:rPr b="0" lang="ja-JP" sz="1500" spc="-1" strike="noStrike">
                <a:solidFill>
                  <a:srgbClr val="000082"/>
                </a:solidFill>
                <a:latin typeface="Rockwell"/>
              </a:rPr>
              <a:t>’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where serviceName must uniquely identify the service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5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5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07640" y="232560"/>
            <a:ext cx="6635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A Private Key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39280" y="1266480"/>
            <a:ext cx="8137800" cy="51865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Rockwell"/>
              </a:rPr>
              <a:t>Asymmetric algorithm: </a:t>
            </a:r>
            <a:r>
              <a:rPr b="1" lang="en-US" sz="1700" spc="-1" strike="noStrike">
                <a:solidFill>
                  <a:srgbClr val="ff9933"/>
                </a:solidFill>
                <a:latin typeface="Rockwell"/>
              </a:rPr>
              <a:t>RSA</a:t>
            </a:r>
            <a:endParaRPr b="0" lang="en-US" sz="17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Rockwell"/>
              </a:rPr>
              <a:t>Key size: </a:t>
            </a:r>
            <a:r>
              <a:rPr b="1" lang="en-US" sz="1700" spc="-1" strike="noStrike">
                <a:solidFill>
                  <a:srgbClr val="ff9933"/>
                </a:solidFill>
                <a:latin typeface="Rockwell"/>
              </a:rPr>
              <a:t>2048 bits </a:t>
            </a:r>
            <a:r>
              <a:rPr b="0" lang="en-US" sz="1200" spc="-1" strike="noStrike">
                <a:solidFill>
                  <a:srgbClr val="000099"/>
                </a:solidFill>
                <a:latin typeface="Rockwell"/>
              </a:rPr>
              <a:t>[CP/CPS 4.1.2]</a:t>
            </a: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Rockwell"/>
              </a:rPr>
              <a:t>Protected by a pass-phrase of </a:t>
            </a:r>
            <a:r>
              <a:rPr b="1" lang="en-US" sz="1700" spc="-1" strike="noStrike">
                <a:solidFill>
                  <a:srgbClr val="ff9933"/>
                </a:solidFill>
                <a:latin typeface="Rockwell"/>
              </a:rPr>
              <a:t>15 characters </a:t>
            </a:r>
            <a:r>
              <a:rPr b="0" lang="en-US" sz="1200" spc="-1" strike="noStrike">
                <a:solidFill>
                  <a:srgbClr val="000099"/>
                </a:solidFill>
                <a:latin typeface="Rockwell"/>
              </a:rPr>
              <a:t>[CP/CPS 6.4.1]</a:t>
            </a: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Rockwell"/>
              </a:rPr>
              <a:t>The pass-phrase is only known to CA operators</a:t>
            </a:r>
            <a:endParaRPr b="0" lang="en-US" sz="17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Rockwell"/>
              </a:rPr>
              <a:t>TNGrid CA private key is kept, encrypted, in multiple copies and in different locations </a:t>
            </a:r>
            <a:r>
              <a:rPr b="0" lang="en-US" sz="1200" spc="-1" strike="noStrike">
                <a:solidFill>
                  <a:srgbClr val="000099"/>
                </a:solidFill>
                <a:latin typeface="Rockwell"/>
              </a:rPr>
              <a:t>[CP/CPS 6.2.4]</a:t>
            </a: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Rockwell"/>
              </a:rPr>
              <a:t>In case the private key of the TNGrid CA is (or suspected to be) compromised , the CA shall</a:t>
            </a:r>
            <a:r>
              <a:rPr b="0" lang="en-US" sz="2000" spc="-1" strike="noStrike">
                <a:solidFill>
                  <a:srgbClr val="000099"/>
                </a:solidFill>
                <a:latin typeface="Rockwell"/>
              </a:rPr>
              <a:t> </a:t>
            </a:r>
            <a:r>
              <a:rPr b="0" lang="en-US" sz="1500" spc="-1" strike="noStrike">
                <a:solidFill>
                  <a:srgbClr val="000099"/>
                </a:solidFill>
                <a:latin typeface="Rockwell"/>
              </a:rPr>
              <a:t>[CP/CPS 5.7.3]</a:t>
            </a:r>
            <a:r>
              <a:rPr b="0" lang="en-US" sz="2000" spc="-1" strike="noStrike">
                <a:solidFill>
                  <a:srgbClr val="000099"/>
                </a:solidFill>
                <a:latin typeface="Rockwell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Rockwell"/>
              </a:rPr>
              <a:t>notify subscribers</a:t>
            </a:r>
            <a:endParaRPr b="0" i="1" lang="en-US" sz="14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Rockwell"/>
              </a:rPr>
              <a:t>terminate issuing certificates and CRLs</a:t>
            </a:r>
            <a:endParaRPr b="0" i="1" lang="en-US" sz="14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Rockwell"/>
              </a:rPr>
              <a:t>generate a new CA key pair</a:t>
            </a:r>
            <a:endParaRPr b="0" i="1" lang="en-US" sz="14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Rockwell"/>
              </a:rPr>
              <a:t>revoke all certificates signed using the compromised key</a:t>
            </a:r>
            <a:endParaRPr b="0" i="1" lang="en-US" sz="14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indefinite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A Certificate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2200" y="1052640"/>
            <a:ext cx="7705800" cy="5256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Version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r>
              <a:rPr b="1" lang="fr-FR" sz="1800" spc="-1" strike="noStrike">
                <a:solidFill>
                  <a:srgbClr val="ff9933"/>
                </a:solidFill>
                <a:latin typeface="Rockwell"/>
              </a:rPr>
              <a:t>3 (0x2)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Serial Number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r>
              <a:rPr b="0" lang="fr-FR" sz="1800" spc="-1" strike="noStrike">
                <a:solidFill>
                  <a:srgbClr val="000099"/>
                </a:solidFill>
                <a:latin typeface="Rockwell"/>
              </a:rPr>
              <a:t>2 (0x2)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Signature Algorithm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r>
              <a:rPr b="0" lang="fr-FR" sz="1800" spc="-1" strike="noStrike">
                <a:solidFill>
                  <a:srgbClr val="000099"/>
                </a:solidFill>
                <a:latin typeface="Rockwell"/>
              </a:rPr>
              <a:t>sha256WithRSAEncryption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Issuer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r>
              <a:rPr b="0" lang="fr-FR" sz="1600" spc="-1" strike="noStrike">
                <a:solidFill>
                  <a:srgbClr val="000099"/>
                </a:solidFill>
                <a:latin typeface="Rockwell"/>
              </a:rPr>
              <a:t>CN=TNGrid CA,O=TNGrid,C=TN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Validity 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Not Before: </a:t>
            </a:r>
            <a:r>
              <a:rPr b="0" lang="pl-PL" sz="1600" spc="-1" strike="noStrike">
                <a:solidFill>
                  <a:srgbClr val="0000cc"/>
                </a:solidFill>
                <a:latin typeface="Rockwell"/>
              </a:rPr>
              <a:t>Dec 16 14:27:25 2011 GMT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Not After : </a:t>
            </a:r>
            <a:r>
              <a:rPr b="0" lang="pl-PL" sz="1600" spc="-1" strike="noStrike">
                <a:solidFill>
                  <a:srgbClr val="0000cc"/>
                </a:solidFill>
                <a:latin typeface="Rockwell"/>
              </a:rPr>
              <a:t>Dec 11 14:27:25 2031 GMT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Subject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r>
              <a:rPr b="0" lang="fr-FR" sz="1800" spc="-1" strike="noStrike">
                <a:solidFill>
                  <a:srgbClr val="000099"/>
                </a:solidFill>
                <a:latin typeface="Rockwell"/>
              </a:rPr>
              <a:t>CN=TNGrid CA,O=TNGrid,C=TN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Subject Public Key Info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Public Key Algorithm: </a:t>
            </a:r>
            <a:r>
              <a:rPr b="0" lang="en-US" sz="1600" spc="-1" strike="noStrike">
                <a:solidFill>
                  <a:srgbClr val="ff9933"/>
                </a:solidFill>
                <a:latin typeface="Rockwell"/>
              </a:rPr>
              <a:t>rsaEncryption 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RSA Public Key: </a:t>
            </a:r>
            <a:r>
              <a:rPr b="1" lang="en-US" sz="1600" spc="-1" strike="noStrike">
                <a:solidFill>
                  <a:srgbClr val="ff9933"/>
                </a:solidFill>
                <a:latin typeface="Rockwell"/>
              </a:rPr>
              <a:t>2048 bit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indefinite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indefinite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A Certificate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95280" y="1257480"/>
            <a:ext cx="8282160" cy="53402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The values of extensions in case of CA certificate are following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Basic Constraints: </a:t>
            </a:r>
            <a:r>
              <a:rPr b="1" lang="en-US" sz="2000" spc="-1" strike="noStrike">
                <a:solidFill>
                  <a:srgbClr val="ff9933"/>
                </a:solidFill>
                <a:latin typeface="Rockwell"/>
              </a:rPr>
              <a:t>critical, CA:TRUE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Key Usage: </a:t>
            </a:r>
            <a:r>
              <a:rPr b="0" lang="fr-FR" sz="2000" spc="-1" strike="noStrike">
                <a:solidFill>
                  <a:srgbClr val="ff9933"/>
                </a:solidFill>
                <a:latin typeface="Rockwell"/>
              </a:rPr>
              <a:t>critical, keyCertSign</a:t>
            </a:r>
            <a:r>
              <a:rPr b="0" lang="en-US" sz="2000" spc="-1" strike="noStrike">
                <a:solidFill>
                  <a:srgbClr val="ff9933"/>
                </a:solidFill>
                <a:latin typeface="Rockwell"/>
              </a:rPr>
              <a:t>, CRL Signing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Subject Key Identifier: </a:t>
            </a:r>
            <a:r>
              <a:rPr b="0" lang="en-US" sz="2000" spc="-1" strike="noStrike">
                <a:solidFill>
                  <a:srgbClr val="ff9933"/>
                </a:solidFill>
                <a:latin typeface="Rockwell"/>
              </a:rPr>
              <a:t>CA key ID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Authority Key Identifier: </a:t>
            </a:r>
            <a:r>
              <a:rPr b="0" lang="fr-FR" sz="2400" spc="-1" strike="noStrike">
                <a:solidFill>
                  <a:srgbClr val="ff9933"/>
                </a:solidFill>
                <a:latin typeface="Rockwell"/>
              </a:rPr>
              <a:t>keyid,issuer</a:t>
            </a:r>
            <a:endParaRPr b="0" i="1" lang="en-US" sz="24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Rockwell"/>
              </a:rPr>
              <a:t>crlDistributionPoints = </a:t>
            </a:r>
            <a:r>
              <a:rPr b="0" lang="fr-FR" sz="2400" spc="-1" strike="noStrike">
                <a:solidFill>
                  <a:srgbClr val="ff9933"/>
                </a:solidFill>
                <a:latin typeface="Rockwell"/>
              </a:rPr>
              <a:t>URI</a:t>
            </a:r>
            <a:endParaRPr b="0" i="1" lang="en-US" sz="24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End Entity Certificates &amp; Key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4360" y="1413000"/>
            <a:ext cx="7775280" cy="4851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Key size &gt;=1024 bits [CP/CPS 6.1.5]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Life time :1 year plus one month (395 days) [CP/CPS 6.3.2]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User certificate must not be shared  [CP/CPS 4.5]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Each entity must generate its key pair [CP/CPS 6.1.1, 6.1.2]</a:t>
            </a:r>
            <a:endParaRPr b="0" i="1" lang="en-US" sz="24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End entity should protect his/her passphrase according to   </a:t>
            </a:r>
            <a:r>
              <a:rPr b="0" lang="ja-JP" sz="2400" spc="-1" strike="noStrike">
                <a:solidFill>
                  <a:srgbClr val="ff0000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Guidelines on Private Key Protection</a:t>
            </a:r>
            <a:r>
              <a:rPr b="0" lang="ja-JP" sz="2400" spc="-1" strike="noStrike">
                <a:solidFill>
                  <a:srgbClr val="ff0000"/>
                </a:solidFill>
                <a:latin typeface="Rockwell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 [CP/CPS 4.1.2]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9280" y="352080"/>
            <a:ext cx="82803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Enrollment process &amp; responsibilitie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68000" y="1267920"/>
            <a:ext cx="8351640" cy="51246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Rockwell"/>
              </a:rPr>
              <a:t>For </a:t>
            </a:r>
            <a:r>
              <a:rPr b="1" lang="en-GB" sz="2600" spc="-1" strike="noStrike">
                <a:solidFill>
                  <a:srgbClr val="ff0000"/>
                </a:solidFill>
                <a:latin typeface="Rockwell"/>
              </a:rPr>
              <a:t>user certificates</a:t>
            </a:r>
            <a:endParaRPr b="0" lang="en-US" sz="2600" spc="-1" strike="noStrike">
              <a:solidFill>
                <a:srgbClr val="000099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User certificate requests is submitted by an online procedure on TNGrid CA secure website (https://www.tngrid.tn/index/ca/), using a web browser.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key pairs are generated by the web browser locally on the user's machine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certificate (public key signed by the CA) can only be downloaded using the same browser, including the key pair, on the same machine, by a secure URL from TNGrid CA website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indefinite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indefinite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611280" y="1196640"/>
            <a:ext cx="813744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r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host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service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certificat</a:t>
            </a:r>
            <a:r>
              <a:rPr b="1" lang="en-US" sz="2300" spc="-1" strike="noStrike">
                <a:solidFill>
                  <a:srgbClr val="ff0000"/>
                </a:solidFill>
                <a:latin typeface="Rockwell"/>
              </a:rPr>
              <a:t>es</a:t>
            </a:r>
            <a:endParaRPr b="0" lang="en-US" sz="2300" spc="-1" strike="noStrike">
              <a:solidFill>
                <a:srgbClr val="000099"/>
              </a:solidFill>
              <a:latin typeface="Rockwell"/>
            </a:endParaRPr>
          </a:p>
          <a:p>
            <a:pPr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Rockwell"/>
              </a:rPr>
              <a:t>The host or service administrator creates key pair and certificate request file using </a:t>
            </a:r>
            <a:r>
              <a:rPr b="0" i="1" lang="en-US" sz="2100" spc="-1" strike="noStrike">
                <a:solidFill>
                  <a:srgbClr val="000099"/>
                </a:solidFill>
                <a:latin typeface="Rockwell"/>
              </a:rPr>
              <a:t>OpenSSL</a:t>
            </a:r>
            <a:r>
              <a:rPr b="0" lang="en-US" sz="2100" spc="-1" strike="noStrike">
                <a:solidFill>
                  <a:srgbClr val="000099"/>
                </a:solidFill>
                <a:latin typeface="Rockwell"/>
              </a:rPr>
              <a:t> packages, submit certificate request file to the TNGrid CA by a signed e-mail.</a:t>
            </a:r>
            <a:endParaRPr b="0" lang="en-US" sz="2100" spc="-1" strike="noStrike">
              <a:solidFill>
                <a:srgbClr val="000099"/>
              </a:solidFill>
              <a:latin typeface="Rockwell"/>
            </a:endParaRPr>
          </a:p>
          <a:p>
            <a:pPr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Rockwell"/>
              </a:rPr>
              <a:t>The private key is kept by the host or service administrator. </a:t>
            </a:r>
            <a:endParaRPr b="0" lang="en-US" sz="2100" spc="-1" strike="noStrike">
              <a:solidFill>
                <a:srgbClr val="000099"/>
              </a:solidFill>
              <a:latin typeface="Rockwell"/>
            </a:endParaRPr>
          </a:p>
          <a:p>
            <a:pPr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Rockwell"/>
              </a:rPr>
              <a:t>The certificate request will be verified by the appropriate RA</a:t>
            </a:r>
            <a:endParaRPr b="0" lang="en-US" sz="2100" spc="-1" strike="noStrike">
              <a:solidFill>
                <a:srgbClr val="000099"/>
              </a:solidFill>
              <a:latin typeface="Rockwell"/>
            </a:endParaRPr>
          </a:p>
          <a:p>
            <a:pPr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Rockwell"/>
              </a:rPr>
              <a:t>If the request is approved by the RA, the requester will then receive an e-mail, containing his/her certificate or information needed to download using a browser by a secure URL on the TNGrid CA website.</a:t>
            </a:r>
            <a:endParaRPr b="0" lang="en-US" sz="21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280" y="352080"/>
            <a:ext cx="82803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Enrollment process &amp; responsibilitie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indefinite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indefinite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8000" y="439920"/>
            <a:ext cx="7343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Certificate issuance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30280"/>
            <a:ext cx="8507520" cy="46627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certificate request shall be transferred to the machine which holds the private key of TNGrid CA and which is offline.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On this machine the certificate is created and signed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signed certificate shall then be transferred back to the online CA server and an email will be sent to the relevant RA manager informing him/her about the action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lifetime of the certificate is one year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Certificate acceptance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94920" y="1267920"/>
            <a:ext cx="8280360" cy="49690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Rockwell"/>
              </a:rPr>
              <a:t>The subscriber must send an e-mail within 15 days from the day that his/her certificate was issued.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Rockwell"/>
              </a:rPr>
              <a:t>He/she will sign his/her e-mail with issued certificate confirming the acceptance of the certificated his/her adhesion to the policy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Rockwell"/>
              </a:rPr>
              <a:t>Upon receipt of a certificate acceptance the TNGrid CA will make available the certificate on its repository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230040"/>
            <a:ext cx="80647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End Entity Certificates &amp; Key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539280" y="1123920"/>
            <a:ext cx="8425080" cy="54007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The values of extensions in case of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user certificates 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are following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basicConstraints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ritical, CA:FALS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keyUsage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ritical, digitalSignature, keyEncipherment, dataEncipherment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extendedKeyUsage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lientAuth, emailProtection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crlDistributionPoints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URI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certificatePolicies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Your_OID, Authentication_Profile_OID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subjectKeyIdentifier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hash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authorityKeyIdentifier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keyid,issuer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subjectAltName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email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6120" y="354240"/>
            <a:ext cx="7140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TNGrid : Tunisian National Grid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pic>
        <p:nvPicPr>
          <p:cNvPr id="524" name="Image 3" descr="TN-GRID.png"/>
          <p:cNvPicPr/>
          <p:nvPr/>
        </p:nvPicPr>
        <p:blipFill>
          <a:blip r:embed="rId1"/>
          <a:stretch/>
        </p:blipFill>
        <p:spPr>
          <a:xfrm>
            <a:off x="3635280" y="5013360"/>
            <a:ext cx="2140200" cy="1511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395280" y="1339560"/>
            <a:ext cx="8353440" cy="41050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8000"/>
          </a:bodyPr>
          <a:p>
            <a:pPr marL="334440" indent="-3344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TNGrid project is an initiative of the research unit of Technologies of Information and Communication (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UTIC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) at the Higher School of Sciences and Technology of Tunis</a:t>
            </a:r>
            <a:r>
              <a:rPr b="0" i="1" lang="en-US" sz="2400" spc="-1" strike="noStrike">
                <a:solidFill>
                  <a:srgbClr val="000099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ESSTT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) of the University of Tunis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34440" indent="-3344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NGrid offers an open and free Tunisian National Grid for researchers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34440" indent="-3344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grid computing platform is based on institutional resources and volunteer participations.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34440" indent="-3344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End Entity Certificates &amp; Key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10920" y="1268280"/>
            <a:ext cx="8281800" cy="52675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The values of extensions in case of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host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service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certificates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 are following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basicConstraints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ritical, CA:FALS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keyUsage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ritical, digitalSignature, keyEncipherment, dataEncipherment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extendedKeyUsage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lientAuth,</a:t>
            </a: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 </a:t>
            </a:r>
            <a:r>
              <a:rPr b="1" lang="fr-FR" sz="1800" spc="-1" strike="noStrike">
                <a:solidFill>
                  <a:srgbClr val="008000"/>
                </a:solidFill>
                <a:latin typeface="Rockwell"/>
              </a:rPr>
              <a:t>serverAuth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crlDistributionPoints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URI: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certificatePolicies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Your_OID, Authentication_Profile_OID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subjectKeyIdentifier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hash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authorityKeyIdentifier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keyid,issuer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subjectAltName=</a:t>
            </a:r>
            <a:r>
              <a:rPr b="1" lang="fr-FR" sz="1800" spc="-1" strike="noStrike">
                <a:solidFill>
                  <a:srgbClr val="008000"/>
                </a:solidFill>
                <a:latin typeface="Rockwell"/>
              </a:rPr>
              <a:t>DNS: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End Entity Certificates &amp; Key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95280" y="1196640"/>
            <a:ext cx="8424720" cy="51246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Certificate Renewal 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[CP/CPS 4.6]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727920" indent="-2800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TNGrid CA does not permit certificate signing request with the same key as the previous certificate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marL="335880" indent="-3358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Certificate Re-key 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[CP/CPS 4.7.3]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727920" indent="-2800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After a certificate has been revoked, expired, will be expired in one month, or the private key is compromised 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27920" indent="-2800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If the certificate has been revoked, expired, or compromised, it must follow enrolment process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27920" indent="-2800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Rockwell"/>
            </a:endParaRPr>
          </a:p>
          <a:p>
            <a:pPr lvl="1" marL="727920" indent="-2800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marL="335880" indent="-3358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ertificate Revocation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94920" y="1125360"/>
            <a:ext cx="8497800" cy="5328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7000"/>
          </a:bodyPr>
          <a:p>
            <a:pPr marL="332640" indent="-33264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Can be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 requested by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certificate subscriber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any other entity presenting proof of knowledge of: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2" marL="1108440" indent="-221400">
              <a:spcAft>
                <a:spcPts val="601"/>
              </a:spcAft>
              <a:buClr>
                <a:srgbClr val="f1af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2"/>
                </a:solidFill>
                <a:latin typeface="Rockwell"/>
              </a:rPr>
              <a:t>private key compromise</a:t>
            </a:r>
            <a:endParaRPr b="0" lang="en-US" sz="1600" spc="-1" strike="noStrike">
              <a:solidFill>
                <a:srgbClr val="0000cc"/>
              </a:solidFill>
              <a:latin typeface="Rockwell"/>
            </a:endParaRPr>
          </a:p>
          <a:p>
            <a:pPr lvl="2" marL="1108440" indent="-221400">
              <a:spcAft>
                <a:spcPts val="601"/>
              </a:spcAft>
              <a:buClr>
                <a:srgbClr val="f1af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2"/>
                </a:solidFill>
                <a:latin typeface="Rockwell"/>
              </a:rPr>
              <a:t>modification of the subscriber's data</a:t>
            </a:r>
            <a:endParaRPr b="0" lang="en-US" sz="1600" spc="-1" strike="noStrike">
              <a:solidFill>
                <a:srgbClr val="0000cc"/>
              </a:solidFill>
              <a:latin typeface="Rockwell"/>
            </a:endParaRPr>
          </a:p>
          <a:p>
            <a:pPr marL="332640" indent="-33264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A certificate 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will be 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revoked in the following circumstances 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subject of the certificate has ceased being an eligible end entity for certification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subject does not require the certificate any mor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private key has been lost or compromised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information in the certificate is wrong or inaccurat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system to which the certificate has been issued has been retired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subject has failed to comply with the rules of TNGrid CP/CPS Policy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ertificate Revocation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68360" y="1197000"/>
            <a:ext cx="8353440" cy="52689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Procedure for Revocation Request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[CP/CPS 4.9.3]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A revocation request must be made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by the </a:t>
            </a:r>
            <a:r>
              <a:rPr b="1" lang="en-US" sz="2000" spc="-1" strike="noStrike">
                <a:solidFill>
                  <a:srgbClr val="0000cc"/>
                </a:solidFill>
                <a:latin typeface="Rockwell"/>
              </a:rPr>
              <a:t>owner</a:t>
            </a: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 of the certificate in an </a:t>
            </a:r>
            <a:r>
              <a:rPr b="1" lang="en-US" sz="2000" spc="-1" strike="noStrike">
                <a:solidFill>
                  <a:srgbClr val="0000cc"/>
                </a:solidFill>
                <a:latin typeface="Rockwell"/>
              </a:rPr>
              <a:t>e-mail signed </a:t>
            </a: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with the private key associated with the (still not expired) certificate,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Rockwell"/>
              </a:rPr>
              <a:t>on behalf </a:t>
            </a: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of the owner who has lost his/her private key in an </a:t>
            </a:r>
            <a:r>
              <a:rPr b="1" lang="en-US" sz="2000" spc="-1" strike="noStrike">
                <a:solidFill>
                  <a:srgbClr val="0000cc"/>
                </a:solidFill>
                <a:latin typeface="Rockwell"/>
              </a:rPr>
              <a:t>e-mail signed </a:t>
            </a: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by an authorized person of the organization/unit that consented to the certificate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by the RA using a secure web interface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Rockwell"/>
              </a:rPr>
              <a:t>The TNGrid CA must process revocation requests with the highest priority within one working day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[CP/CPS 4.9.5]</a:t>
            </a:r>
            <a:endParaRPr b="0" lang="en-US" sz="1400" spc="-1" strike="noStrike">
              <a:solidFill>
                <a:srgbClr val="000099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ertificate Revocation Lis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68360" y="981000"/>
            <a:ext cx="8207280" cy="55562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Lifetime is 30 days </a:t>
            </a: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[CP/CPS 4.9.7]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CRL issuance </a:t>
            </a:r>
            <a:r>
              <a:rPr b="1" lang="en-US" sz="1400" spc="-1" strike="noStrike">
                <a:solidFill>
                  <a:srgbClr val="000099"/>
                </a:solidFill>
                <a:latin typeface="Rockwel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[CP/CPS 4.9.7] 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CRLs are issued after every certificate revocation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at least every month, 7 days before the month-long validity of the CRL has expired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Available at online repository: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3" marL="120024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Rockwell"/>
              </a:rPr>
              <a:t>http://www.tngrid.tn/pki/pub/crl/cacrl.crl  </a:t>
            </a:r>
            <a:endParaRPr b="0" i="1" lang="en-US" sz="1600" spc="-1" strike="noStrike">
              <a:solidFill>
                <a:srgbClr val="000099"/>
              </a:solidFill>
              <a:latin typeface="Rockwell"/>
            </a:endParaRPr>
          </a:p>
          <a:p>
            <a:pPr lvl="3" marL="120024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https://www.tngrid.tn/pki/pub/crl/cacrl.pem </a:t>
            </a:r>
            <a:endParaRPr b="0" i="1" lang="en-US" sz="16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Rockwell"/>
              </a:rPr>
              <a:t>Version: </a:t>
            </a:r>
            <a:r>
              <a:rPr b="1" lang="de-DE" sz="1800" spc="-1" strike="noStrike">
                <a:solidFill>
                  <a:srgbClr val="ff0000"/>
                </a:solidFill>
                <a:latin typeface="Rockwell"/>
              </a:rPr>
              <a:t>x509 v3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 </a:t>
            </a: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[CP/CPS 7.2] 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0920" y="-15840"/>
            <a:ext cx="784836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ompromise and Disaster Recovery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96360" y="1196640"/>
            <a:ext cx="8496360" cy="51958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If CA private key is (or suspect to be) compromised 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[CP/CPS 5.7.1]: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Inform the RA, subscribers and relying parties of which the CA is awar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erminate the certificates and CRL distribution services for certificates and CRLs issued using the compromised key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Notify relevant security contact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If a RA Operator</a:t>
            </a:r>
            <a:r>
              <a:rPr b="1" lang="fr-FR" sz="2000" spc="-1" strike="noStrike">
                <a:solidFill>
                  <a:srgbClr val="000099"/>
                </a:solidFill>
                <a:latin typeface="Rockwell"/>
              </a:rPr>
              <a:t>’</a:t>
            </a: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s private key is (or suspected to be) compromised </a:t>
            </a:r>
            <a:r>
              <a:rPr b="0" lang="en-US" sz="2000" spc="-1" strike="noStrike">
                <a:solidFill>
                  <a:srgbClr val="000099"/>
                </a:solidFill>
                <a:latin typeface="Rockwell"/>
              </a:rPr>
              <a:t>[CP/CPS 5.7.1]: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the RA Operator or Manager must inform the CA and request the revocation of the RA Operator</a:t>
            </a:r>
            <a:r>
              <a:rPr b="0" lang="fr-FR" sz="1600" spc="-1" strike="noStrike">
                <a:solidFill>
                  <a:srgbClr val="0000cc"/>
                </a:solidFill>
                <a:latin typeface="Rockwell"/>
              </a:rPr>
              <a:t>’</a:t>
            </a: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s certificate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If Entity Private Key is compromised 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[CP/CPS 5.7.1]: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RA has to be informed immediately in order to start the certificate revocation process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Publication &amp; Repository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95280" y="1125360"/>
            <a:ext cx="8424720" cy="5183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NGrid CA will publish the following information on its website </a:t>
            </a:r>
            <a:r>
              <a:rPr b="0" lang="en-US" sz="2000" spc="-1" strike="noStrike">
                <a:solidFill>
                  <a:srgbClr val="000099"/>
                </a:solidFill>
                <a:latin typeface="Rockwell"/>
              </a:rPr>
              <a:t>[CP/CPS 2.2]: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General information about TNGrid CA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E-mail addresses for inquiries and fault reporting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Mailing address of CA Administration location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NGrid CA root certificat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PEM format of the TNGrid CA certificat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Issued certificate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Certificate Revocation List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CP/CPS document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s web repository is available 24x7 on a best effort basis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Achieved work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66200" y="1125360"/>
            <a:ext cx="8426520" cy="5183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Preparation CP/CPS Documen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P/CPS is revised (3 times) by 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Feyza Eryol from TUBITAK ULAKBIM,Turkey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omments from Fayza were implemented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oftware for CA setup  (both for online and offline CA)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esting the CA 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Generate CA private key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Issue CA certificate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Issue a user certificate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Issue a host certificate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Online web repository is operationa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Image 1" descr="Image 2.png"/>
          <p:cNvPicPr/>
          <p:nvPr/>
        </p:nvPicPr>
        <p:blipFill>
          <a:blip r:embed="rId1"/>
          <a:stretch/>
        </p:blipFill>
        <p:spPr>
          <a:xfrm>
            <a:off x="592200" y="511200"/>
            <a:ext cx="7796160" cy="60134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1763640" y="-27360"/>
            <a:ext cx="5400720" cy="6476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70000"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Verdana"/>
              </a:rPr>
              <a:t>http://www.tngrid.tn/index/ca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179280" y="765000"/>
            <a:ext cx="7632720" cy="648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71000"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595959"/>
                </a:solidFill>
                <a:latin typeface="Verdana"/>
              </a:rPr>
              <a:t>https://www.tngrid.tn/pki/pub/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</p:txBody>
      </p:sp>
      <p:pic>
        <p:nvPicPr>
          <p:cNvPr id="581" name="Image 1" descr="Image 3.png"/>
          <p:cNvPicPr/>
          <p:nvPr/>
        </p:nvPicPr>
        <p:blipFill>
          <a:blip r:embed="rId1"/>
          <a:stretch/>
        </p:blipFill>
        <p:spPr>
          <a:xfrm>
            <a:off x="17640" y="1484280"/>
            <a:ext cx="9151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99640" y="211320"/>
            <a:ext cx="73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TNGrid : Tunisian National Grid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pic>
        <p:nvPicPr>
          <p:cNvPr id="527" name="Image 3" descr="Image 5.png"/>
          <p:cNvPicPr/>
          <p:nvPr/>
        </p:nvPicPr>
        <p:blipFill>
          <a:blip r:embed="rId1"/>
          <a:stretch/>
        </p:blipFill>
        <p:spPr>
          <a:xfrm>
            <a:off x="1044720" y="1052640"/>
            <a:ext cx="6983280" cy="541476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1619280" y="549000"/>
            <a:ext cx="5400720" cy="647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216000" rIns="198000" tIns="216000" bIns="216000" anchor="t">
            <a:normAutofit fontScale="70000"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http://www.tngrid.tn/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52560" y="2876040"/>
            <a:ext cx="6859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 Black"/>
              </a:rPr>
              <a:t>Thanks for your Attention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TNGrid CA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68360" y="981000"/>
            <a:ext cx="8207280" cy="55562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UTIC research unit is involved in grid computing research axis since 2004.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UTIC research unit is working and is participating in EUMEDGRID projects coordinated by INFN (Italy) since 2006 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We have started as Registration Authority, managed by Mohamed Jemni, with INFN CA and still using INFN CA services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We have prepared to set up the</a:t>
            </a:r>
            <a:r>
              <a:rPr b="0" lang="en-GB" sz="2400" spc="-1" strike="noStrike">
                <a:solidFill>
                  <a:srgbClr val="000099"/>
                </a:solidFill>
                <a:latin typeface="Rockwell"/>
              </a:rPr>
              <a:t> TNGrid CA and to be fully operational  just after our accreditation process with EuGridPMA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ertificate usage 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24000" y="1125360"/>
            <a:ext cx="8496000" cy="4896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Rockwell"/>
              </a:rPr>
              <a:t>Certificates issued by the TNGrid CA are only valid in the context of scientific activities:</a:t>
            </a:r>
            <a:endParaRPr b="0" lang="en-US" sz="28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Rockwell"/>
              </a:rPr>
              <a:t>User certificates </a:t>
            </a: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can be issued to authenticate the users who benefit from academic and research resources, services and activities.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Rockwell"/>
              </a:rPr>
              <a:t>Host certificates </a:t>
            </a: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can be used for the machines of clusters inside TNGrid 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Rockwell"/>
              </a:rPr>
              <a:t>Service certificates </a:t>
            </a: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can be used to recognize services used inside TNGrid 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CA Manager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5280" y="1197000"/>
            <a:ext cx="8282160" cy="4751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Rockwell"/>
              </a:rPr>
              <a:t>TNGrid CA will be managed by UTIC which manages TNGrid infrastructure</a:t>
            </a:r>
            <a:endParaRPr b="0" lang="en-US" sz="2600" spc="-1" strike="noStrike">
              <a:solidFill>
                <a:srgbClr val="000099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Rockwell"/>
              </a:rPr>
              <a:t>The Manager of the TNGrid CA is:</a:t>
            </a:r>
            <a:endParaRPr b="0" lang="en-US" sz="2600" spc="-1" strike="noStrike">
              <a:solidFill>
                <a:srgbClr val="000099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    </a:t>
            </a:r>
            <a:r>
              <a:rPr b="1" lang="en-US" sz="2200" spc="-1" strike="noStrike">
                <a:solidFill>
                  <a:srgbClr val="0000cc"/>
                </a:solidFill>
                <a:latin typeface="Rockwell"/>
              </a:rPr>
              <a:t>Mohamed Jemni   </a:t>
            </a: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(mohamed.jemni@fst.rnu.tn)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The alternate representative is: 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    </a:t>
            </a:r>
            <a:r>
              <a:rPr b="1" lang="en-US" sz="2200" spc="-1" strike="noStrike">
                <a:solidFill>
                  <a:srgbClr val="0000cc"/>
                </a:solidFill>
                <a:latin typeface="Rockwell"/>
              </a:rPr>
              <a:t>Heithem Abbes </a:t>
            </a: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(heithem.abbes@esstt.rnu.tn)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P/CP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10920" y="1123920"/>
            <a:ext cx="8064360" cy="11527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75000"/>
          </a:bodyPr>
          <a:p>
            <a:pPr marL="257040" indent="-2570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OID: </a:t>
            </a:r>
            <a:r>
              <a:rPr b="1" lang="en-US" sz="2000" spc="-1" strike="noStrike">
                <a:solidFill>
                  <a:srgbClr val="ff0000"/>
                </a:solidFill>
                <a:latin typeface="Rockwell"/>
              </a:rPr>
              <a:t>1.3.6.1.4.1.37660.1.1.1.0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[CP/CPS 7.1.6]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marL="257040" indent="-2570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tructured as defined in </a:t>
            </a: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RFC 3647 </a:t>
            </a: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[CP/CPS 1.1]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marL="257040" indent="-2570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187280" y="2852640"/>
          <a:ext cx="6840720" cy="2592360"/>
        </p:xfrm>
        <a:graphic>
          <a:graphicData uri="http://schemas.openxmlformats.org/drawingml/2006/table">
            <a:tbl>
              <a:tblPr/>
              <a:tblGrid>
                <a:gridCol w="3421080"/>
                <a:gridCol w="341964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OID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1.3.6.1.4.1.37660.1.1.1.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IANA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1.3.6.1.4.1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UTIC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3766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TNGrid CA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.1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CP/CPS document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.1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CP/CPS Version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1.0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P/CP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94920" y="1197000"/>
            <a:ext cx="8280360" cy="4896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Policy Administration </a:t>
            </a: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[CP/CPS 1.5]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UTIC research unit (ESSTT University) is responsible for the management, registration, maintenance and interpretation of TNGrid CA. It is reachable at: http://www.utic.rnu.tn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All major changes related to policy, technology or security must be approved by TNGRID CA before signing any certificates under the new CP/CP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All versions will be available at online repository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https://www.tngrid.tn/pki/pub/ =&gt; 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“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PKI Info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”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 =&gt; 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“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Get CA Policy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”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http://www.tngrid.tn =&gt; 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“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Certification Authority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”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 =&gt; 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“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Policy Document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”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A System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50920" y="1041480"/>
            <a:ext cx="8642160" cy="55562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Uses 2 dedicated machines:</a:t>
            </a:r>
            <a:endParaRPr b="0" lang="en-US" sz="22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cc"/>
                </a:solidFill>
                <a:latin typeface="Rockwell"/>
              </a:rPr>
              <a:t>One offline signing server (</a:t>
            </a:r>
            <a:r>
              <a:rPr b="1" lang="en-US" sz="1700" spc="-1" strike="noStrike">
                <a:solidFill>
                  <a:srgbClr val="ff0000"/>
                </a:solidFill>
                <a:latin typeface="Rockwell"/>
              </a:rPr>
              <a:t>Offline CA server</a:t>
            </a:r>
            <a:r>
              <a:rPr b="1" lang="en-US" sz="1700" spc="-1" strike="noStrike">
                <a:solidFill>
                  <a:srgbClr val="0000cc"/>
                </a:solidFill>
                <a:latin typeface="Rockwell"/>
              </a:rPr>
              <a:t>)</a:t>
            </a:r>
            <a:endParaRPr b="0" i="1" lang="en-US" sz="17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Intel Core 2 Duo 2,33GHZ, 3GB RAM ;300 GB HD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Operating System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: Debian 5.0.5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Softwar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: OpenCA v1.1.1, OpenSSL V2.0.31, Apache V2.2.9, MySQL v 5.1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cc"/>
                </a:solidFill>
                <a:latin typeface="Rockwell"/>
              </a:rPr>
              <a:t>One online web server (</a:t>
            </a:r>
            <a:r>
              <a:rPr b="1" lang="en-US" sz="1700" spc="-1" strike="noStrike">
                <a:solidFill>
                  <a:srgbClr val="ff0000"/>
                </a:solidFill>
                <a:latin typeface="Rockwell"/>
              </a:rPr>
              <a:t>Online CA server</a:t>
            </a:r>
            <a:r>
              <a:rPr b="1" lang="en-US" sz="1700" spc="-1" strike="noStrike">
                <a:solidFill>
                  <a:srgbClr val="0000cc"/>
                </a:solidFill>
                <a:latin typeface="Rockwell"/>
              </a:rPr>
              <a:t>):</a:t>
            </a:r>
            <a:endParaRPr b="0" i="1" lang="en-US" sz="17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cc"/>
                </a:solidFill>
                <a:latin typeface="Rockwell"/>
              </a:rPr>
              <a:t>https://www.tngrid.tn/pki/pub/ 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: For Subscribers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cc"/>
                </a:solidFill>
                <a:latin typeface="Rockwell"/>
              </a:rPr>
              <a:t>https://www.tngrid.tn/pki/ra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:For RA Manager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Intel Core 2 Duo 2,33GHZ, 3GB RAM ; 200 GB HD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Operating System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: Debian 5.0.5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Softwar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: OpenCA v1.1.1, OpenSSL V2.0.31, Apache V2.2.9, MySQL v 5.1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Located at Grid Center Room, ESSTT </a:t>
            </a:r>
            <a:endParaRPr b="0" lang="en-US" sz="22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cc"/>
                </a:solidFill>
                <a:latin typeface="Rockwell"/>
              </a:rPr>
              <a:t>Only CA managers and CA operators can be granted physical access to CA machines</a:t>
            </a:r>
            <a:endParaRPr b="0" i="1" lang="en-US" sz="17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cc"/>
                </a:solidFill>
                <a:latin typeface="Rockwell"/>
              </a:rPr>
              <a:t>A secure environment where access is controlled</a:t>
            </a:r>
            <a:endParaRPr b="0" i="1" lang="en-US" sz="17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8:57:16Z</dcterms:created>
  <dc:creator>Ghassan SABA</dc:creator>
  <dc:description/>
  <dc:language>en-US</dc:language>
  <cp:lastModifiedBy>Heithem Abbes</cp:lastModifiedBy>
  <dcterms:modified xsi:type="dcterms:W3CDTF">2012-01-17T09:29:40Z</dcterms:modified>
  <cp:revision>602</cp:revision>
  <dc:subject/>
  <dc:title>Presentation of HIAST GRID 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121033</vt:lpwstr>
  </property>
</Properties>
</file>