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EAFEC7A-1BED-4901-96A1-02B552804A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C036E48-F0AE-4CA5-9C40-61D5AA9115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7B31C18E-364B-427E-A55C-9766622D5D8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C1B2FAA4-7220-447B-AEBE-C9304F004DC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54B9762D-3204-42BF-AAF6-77460740A0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5BEFD31-6ECB-4AA8-9727-44458985371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80CBE23C-3DED-43CE-B393-1FCC2B8A3A4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C54389BF-AECB-441B-A415-58214F3AD95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90699D5-0C7E-4E97-B9C1-90D2CED285A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256B7929-0386-4350-B652-3D76867461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B7540331-9B88-4376-BBF9-452FB94FE3E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1C2EA7C4-EB6E-4CBB-A2EC-EF677681986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6B52247B-FD6A-44E6-8F49-523FB9F26A1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and 3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IGTF All Hand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7-9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arlsruhe, German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Lucida Sans"/>
              </a:rPr>
              <a:t>KIT </a:t>
            </a: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STEINBUCH CENTRE FOR COMPUTING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Ursula Epting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Hardi and Nuno for the January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 via Adob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document sharing will be used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yon, FR September 10-12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5 (and HPDC and EEF AAI FedWS)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Delft , NL, 18-20 June 2012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ijmegen, NL, 21-22 June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6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hicago, IL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(to be discussed), January 2012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5840" y="690480"/>
            <a:ext cx="9128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960480"/>
            <a:ext cx="913608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C:\Users\davidg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0" y="730080"/>
            <a:ext cx="9118440" cy="441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5-06T16:44:20Z</dcterms:modified>
  <cp:revision>595</cp:revision>
  <dc:subject/>
  <dc:title>European Grid Policy Management Authority</dc:title>
</cp:coreProperties>
</file>