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3C9A-5F9E-407C-8CDF-C3B053F08F9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4298-0A28-483E-B177-7CA8CFA832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F35D-AC05-4FCA-8D06-F05A31D782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2AD5-B886-453A-A4AB-49DC206762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EC3C-DBF4-457A-A716-A0D8437097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FF2-397E-4A12-B570-33579900F0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8E5E-661E-4370-A47E-DF0270A1EA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C256-7C96-4D4D-A37F-CABB83282E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052-D9C7-416F-8CB8-0FE1EB55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02B-98D1-44ED-A94A-A5BE1B80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C39-6B2D-49B4-9C7D-593D47AD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46D-EAFB-4A58-B5F9-005ED125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DF0-C820-4C85-A5DC-2F6431B6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0A0-240C-4CC9-9DBD-165483A1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8F3-3357-4079-9D1D-F97881E3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947-9EFF-4159-BEEE-8F5AE146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F76-AA12-4E9F-8622-51E1A604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426-CA82-4CA3-9FBD-D59AFAF5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532-B475-44AE-B134-4A1459BF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658-8037-42BF-AF08-BBF5CD03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3373-BF64-48F3-BA4D-62E0E5164A79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45F4-62DA-4F97-8925-43F274AC37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hyperlink" Target="mailto:astolk@ula.v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923920"/>
            <a:ext cx="5545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9213b"/>
                </a:solidFill>
                <a:latin typeface="Impact"/>
              </a:rPr>
              <a:t>TAGPMA Update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br>
              <a:rPr sz="2800"/>
            </a:br>
            <a:endParaRPr b="0" lang="en-US" sz="28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5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th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 / IGTF All-Hands Meeting</a:t>
            </a:r>
            <a:br>
              <a:rPr sz="2800"/>
            </a:b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Karlsruhe, Germa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May 7-9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3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dsimmel@psc.e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Secretary(s)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3"/>
              </a:rPr>
              <a:t>astolk@ula.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77920" y="1011240"/>
          <a:ext cx="7066080" cy="5586480"/>
        </p:xfrm>
        <a:graphic>
          <a:graphicData uri="http://schemas.openxmlformats.org/drawingml/2006/table">
            <a:tbl>
              <a:tblPr/>
              <a:tblGrid>
                <a:gridCol w="1666800"/>
                <a:gridCol w="165600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S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 Altuna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7 Members from North, Central and South Amer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3 IGTF Accredited C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3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a58"/>
                </a:solidFill>
                <a:latin typeface="Verdana"/>
              </a:rPr>
              <a:t>DigiCert(2) – US, TACC - US, UFF BrGrid &amp; UFF LACGrid - Brazil, ANSPGrid – Brazil, UNLPGrid - Argentina, REUNA – Chile, ULAGrid – Venezuela, GridCanada, UNAM – Mexico, UNIANDES - Colombia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a58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7 SLCS (NCSA x 3, FermiLabs, NERSC, PSC, NICS UTK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 CAs in-process, pending accredi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 Classic pending (SENAMHI – Per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7 Relying Par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(OSG, XSEDE, THEgrid, LCG, REBCA, NIH, SURA Gri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 CAs accredited since last F2F in February, 2012 at SCSC, La Jolla, C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NCSA Two-Factor CA – U.S. – SL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ANSPGrid CA – Brazil – Class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IGTF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http://www.tagpma.org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static, public information &amp;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Overhaul overdue </a:t>
            </a:r>
            <a:r>
              <a:rPr b="0" lang="en-US" sz="1800" spc="-1" strike="noStrike">
                <a:solidFill>
                  <a:srgbClr val="244a58"/>
                </a:solidFill>
                <a:latin typeface="Wingdings"/>
                <a:ea typeface="Wingdings"/>
              </a:rPr>
              <a:t>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 - plan to have it done by Augus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twiki </a:t>
            </a:r>
            <a:r>
              <a:rPr b="0" lang="en-GB" sz="1800" spc="-1" strike="noStrike">
                <a:solidFill>
                  <a:srgbClr val="244a58"/>
                </a:solidFill>
                <a:latin typeface="Verdana"/>
              </a:rPr>
              <a:t>http(s)://tagpma.es.net/wiki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in-process TAGPMA documents, note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ontains agenda and minutes from month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agpma-gener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E-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44a58"/>
                </a:solidFill>
                <a:latin typeface="Verdana"/>
              </a:rPr>
              <a:t>TAGPMA Voted to ACCEPT the Updated Classic Profile v4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44a58"/>
                </a:solidFill>
                <a:latin typeface="Verdana"/>
              </a:rPr>
              <a:t>Most Recent Accredi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[USA] NCSA Two-Factor CA – SLCS (MyProxy with 2-factor authentication toke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[Brazil] ANSPGrid CA - Class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2 CAs (SENAMHI &amp; SDSC) are still in process for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NCAR is pursuing development of its planned 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XSEDE is developing a new HLCA (to be hosted by NC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May permit consolidation of some XSEDE member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XSEDE Service Providers would become RAs for the XSEDE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embership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One RP still suspended – no response received to date – if they do not restore their participation by the August meeting, we will remove them from membership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Previous F2F Meeting: TAGPMA 15 at SDSC, San Diego, 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February 9-10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Details can be found he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indico.rnp.br/conferenceDisplay.py?confId=1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Planning for TAGPMA 16 at UTP, Ciudad de Panama, Pan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Week of August 27-31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TAGPMA 16 will be co-located with the CLCAR conference at the Technological University of Panama (Universidad Tecnológica de Panamá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CLCAR (Conferencia Latinoamericana de Computación de Alto Rendiment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Latin American Conference on High Performance Compu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Call for papers available: Full papers and Poster abstracts DUE MAY 15,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Papers may be submitted in English, Spanish, or Portugu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See www.clcar.org for detai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16 / CLCAR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pic>
        <p:nvPicPr>
          <p:cNvPr id="108" name="Picture 3" descr="Screen Shot 2012-05-07 at May 7 3.54.16 AM.png"/>
          <p:cNvPicPr/>
          <p:nvPr/>
        </p:nvPicPr>
        <p:blipFill>
          <a:blip r:embed="rId1"/>
          <a:stretch/>
        </p:blipFill>
        <p:spPr>
          <a:xfrm>
            <a:off x="826920" y="1014480"/>
            <a:ext cx="745344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Regular Video Conference Calls are now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Monthl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, at 12noon Eastern on the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2nd Wednesda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of each mont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ext one will be June 13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arrangements: EVO – look for TAG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ESNet 884483 or GDS 0011349884483 or phone 1-510-883-7860 884483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Call for agenda items goes out 1 week before the next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The agenda is usually posted on tagpma-general e-mail list no later than 1 day before th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Feel free to join to attend meeting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cp:lastPrinted>2012-05-07T08:19:40Z</cp:lastPrinted>
  <dcterms:modified xsi:type="dcterms:W3CDTF">2012-05-07T09:14:06Z</dcterms:modified>
  <cp:revision>157</cp:revision>
  <dc:subject>F2F12 Lubbock TX</dc:subject>
  <dc:title>TAGPMA Update</dc:title>
</cp:coreProperties>
</file>