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4360-F00D-4E20-95CB-78B0B4F8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29E4-8B13-415E-B383-F4A03591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2075-2679-4A90-B584-5FC68A70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66B67-27EE-41A1-B189-C2678AC7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BDA1A-B7C8-4126-AB60-78A41413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5299-D601-4DDB-9FD1-773BB385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6BA27-D897-4A1F-A9A1-52B330BC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4FE4-0C55-43DF-9B39-2BB138A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F2ED-CDFA-49C0-B19C-E96D975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23AD-C437-4B2F-8CFF-7C8626EC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5DE2-387A-4083-9532-F89BCED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2AB9-DEB3-4DBD-A7CE-AA87257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AC08-8C51-4DF1-8C89-37A02F7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FA89-1257-42AF-AB06-A63CF34F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D2BF3-03FF-48BE-9910-60398460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C33D-4683-43F6-A8B8-788E881D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CAFBB-BB0A-4D8E-A860-0E62E07C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21667-0933-4AF6-ADFF-313F971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1E8AE-6D39-41A0-B3F8-ABD7B51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4043C-1A6E-495B-8C13-A2FDD102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08C9C-B94A-498C-A82E-2A6D9E6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B0E14-7A59-45F6-94A2-C85E2565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80EF4-7832-458C-85C4-51C40E3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44432-6615-48DF-8162-0BFB6B6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6C80F-2F53-4CBA-B879-F367271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1031D-05D5-4BFA-8628-89D7537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23B5D-AEB4-4B8B-BDE9-9668DE47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C4943-E51E-4A6F-9619-224539CF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EC6D0-E86B-4CB9-8548-2C2C9E6DC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A0DC4-FAC3-4CA3-854B-7D2B268B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0C3CC-552E-4265-A4F0-D907B7A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370C3-7324-4667-87F2-2C93B9B1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41AB6-66E7-4489-BB03-05A4B7D4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02A6A-210C-4F24-8ADD-3504C0A9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3C774-F95E-4587-98EB-254FC4D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4EA64-D389-4E39-A878-36A4AB2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90057-E5CA-4E51-9E97-47FEE98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4603B-7794-4CAF-8A82-B8EBEE4F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38646-B9C6-4C24-838B-E08302B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B37F4-562F-4453-AE83-1B8ED22D2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B932C-5907-4663-A1C6-E1CA30BEC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002A0-0F4A-4EAC-A642-6BEA5FE0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EA965-3545-4044-A311-100A876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5C95B4-C28C-4002-A1B7-AD3C04E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A6BE8-629D-42ED-BCD7-61DD10C1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1F7D1-17B8-4452-AE31-541E2257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54A40B-B768-4559-8829-CE29F06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AE8896-954F-4C96-BA92-0D177E1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FDA09-C2AC-4F2D-8F27-228ED63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985DA-3AD1-4B8B-A2B2-8195E5C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103DFE-5551-4933-86E1-B1AA432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CE943-27C1-470E-815B-E1D331C17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7E48E-88C1-4825-A267-4C303DBF2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D706D-3066-4EDE-9AF4-31A1A00C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E1B0-1E3C-4BEF-9685-EF0DE47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25EE-B9EF-489B-A472-04C0A42A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AF6A-5925-41B9-870C-D2846137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4C79-9CAD-4D71-AB55-6FFB719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A767E-AEA0-4CD9-9B88-898F32F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E7EE8-621D-4702-BBB3-E1C60610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983B-BBD3-454C-831B-57CA890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C7E2-1E15-4D90-8656-AF48A17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D7EA-FB1E-4D42-ADD5-38AD7D3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CB6D8-C4FC-4005-AEB2-7879FA308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93105-EA33-498E-8939-6FA1697D88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EE7CF-5D8A-416D-A6EE-D55BF26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BE70D-80FF-4C4E-BFDB-7AE9218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453FE-0DDB-42D6-B987-E9EC93AF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30959-688D-4137-B691-0C3AB84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73E3B-AB37-4C68-B2B1-51B89B49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E2086-214B-41D7-8F65-F7C4A5BE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94013-667B-43F8-B6F4-D122E2D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C57F79-15B5-49BB-A196-42282B4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E77177-B7D6-41A2-B23E-192D404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CF8AA-20BB-4741-A29B-B611F61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D562B-8F98-465E-A347-8A3627D44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5E5F7-0546-4EEA-8B24-704DC9E64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F9080-F414-4F57-BC12-5C1C480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769AD-910E-4E79-B6F9-0CEB87A8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A59E6-CCD7-43A7-BF7C-5FC1994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6CFD2-F8BC-40C2-B451-7285691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875B9-B763-43B1-825F-04A0EDF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42AA7-E061-4CDB-A6A9-6B0A877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0CF9C-4FC0-49EA-9CB6-F9D99A3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77917-1996-46DB-9D67-86DE4B29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72DA1-0003-4170-A9BF-0A98572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7391C-9145-416A-AE0C-38ADD10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46ADF-87B2-4BD0-9884-5CE53AEBE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16B73-FB23-44AB-B72D-256B4BCAA7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3D4FD-94F1-4C6B-8747-AA95F4C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56706-6B54-4337-AF20-8167399B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F388F-589C-4728-94FC-2B823055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58467-0139-4EF4-A1B1-F25799E9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82774-1FB6-492C-9A55-04FD3D30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CF7E9-0C43-4B1F-809B-4854229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8316-7144-45CA-8C9F-E5043C6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70FCF-B893-4DF6-8AD3-427BCE5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8A083-338A-4BE2-816E-D930BA3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4EF88-8E66-48C4-82A3-FA552EF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971ED-35A6-4B34-A391-0D4532B55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DBC03E-494C-40FE-97EF-5BB350C87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6A286A-1AEF-4F23-9036-61FFB9F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78EF09-4026-4453-8444-4816C57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6AD3BE-AD03-45D6-BB1F-4701300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31C223-6389-4664-A644-59D8A0F1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85351A-7BE7-4964-B82F-8B92616B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A71B37-9096-4627-B223-7F9D2142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64E1C2-F511-4FA6-8AF3-AC04152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FFFAA-3375-4E47-9399-DC20C8E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9F478C-5C29-4BE4-BAA5-F43E101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A94BF5-7853-4563-A664-52D6B6C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6650C-289E-480C-98ED-8A2554E044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DE78D-4E66-40F0-9BB4-0ED3DF44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0688D-F260-4908-B333-CFFF1587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FE17A-6437-4F86-B0AE-5BA3B30A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F8F94-1300-4E2F-ABFB-CF5074C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D9AA1-3340-4797-AD9B-A919765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E7872-4B2E-4850-B5B4-5BF97AA2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0DF94-DE87-46F0-BB74-11238446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7FE47-078A-41AB-B8A3-807E2F5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CD814-9BF8-4C53-8668-3969211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7D6BB-7F8C-418A-95A1-B4B8BEB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11F70-41C4-407F-8C10-48AF5835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4167A-E37A-42F7-A882-84EA514B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C524BF-3EF7-4635-9369-E932D22F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F7410A-C8DB-4EB2-B761-C827BACB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8649F5-5070-4663-9C3C-921BE358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DDAA80-DE52-4540-92C2-34CE5C8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3E3EE0-C793-4B50-BC83-D7356C3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E22762-F89B-40D8-9AAF-CD7BFE85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ACDDEA-7D4F-4085-8321-A0C3472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3F9D76-AC91-44ED-9BC8-313FE4F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EF3B50-C7E9-404F-A785-9B823CB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C9653D-779E-4475-A6FD-9760803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18909F-F3D4-4291-B6CA-DD37903D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325DF5-EB06-4201-9C9F-949EF3EA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029-4BA7-4CAD-A325-D487D397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1DA-32B8-47D1-96B3-6922AF10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E77-9659-4008-AED9-40CA9EF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7F6-C883-43DF-AF52-DE94B495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A5B-254C-4AAC-88C3-86AB8B5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4DD-782B-4E5E-908A-B7D96545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1CA-84BE-4C7A-BD62-3ED55F6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F0A-C09D-49A7-A001-763C724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B15-C57C-4ED4-9117-42999A8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DC2-E0B6-4BCA-AFBA-99A7F3B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5E3-7492-40A8-B373-E4161BE0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F43-1AB8-40F6-802A-89ED362B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7D4D-08B4-4A35-AF8E-363398FE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0333-EB89-41CD-9A44-6A7C1AB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422-84C0-428B-A458-15CAC01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5552-EA38-4665-BA55-D22AE369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A591-E0D4-41AC-A83D-2B8D367A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447-C392-4C2E-9AE2-8F5CD62F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736-CDF1-42CB-A864-0E1C95D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A5E-BD59-45F0-8402-8BCCD01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D4A1-F823-4287-BC39-131014F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746-1872-464E-99F0-CDFE018E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0C11-AB1C-40E3-8861-EC825550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B55-8D8D-416C-AFAE-91FE4AA4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68FD-24F3-4959-AF3F-40664AB8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A539-95B6-498D-B35A-0607F5A0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C285-2837-4D3A-822C-A1135634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1E55-0F9B-47C4-BF46-9B342F2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F1D8-4239-4CC5-A014-EFC94F72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7A63-0B97-4B5D-B3C7-0383A5D1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521C-B63B-4C84-9BC6-4B53680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6CF8-0290-4779-8C2B-E57D64C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2981-34DB-4A89-B375-BB8095E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D19C-3808-41A8-A084-697E561A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4752-4512-41E8-B36D-925E0ADA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32C7-E8B1-4A27-B79C-EB456C00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204E-AB6C-4479-8C92-2B9AAFC9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2B46-5C24-4E9C-B144-01DC366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A34E-87B4-4AA7-85E6-6C4B455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0079-7D5A-4565-86DB-FC02850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408A-E97F-437E-AC1F-FEFEBCF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5A02-B56C-4783-B480-49808D44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DF6D-7126-4481-9EB6-BEC29B4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07CF-F8EF-49E8-9C7B-5AA70D0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921A-F516-4188-84CB-88E6F94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CA0B-283D-46B0-AF93-868B051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AAE1-5C90-4B26-AF68-EEFA210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9B2EF-5AA7-4EF7-A5E6-265E943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3DB8-1CA1-44D8-AA06-CD0FC0AC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D885-4FAE-4DFC-866A-2C99A93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616E-7BE8-491C-B423-5F55828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21FD4-566C-4698-B95D-911C12B0A6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Slide-Master-Background---Title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676520" y="6545160"/>
            <a:ext cx="58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Arial"/>
                <a:ea typeface="新細明體"/>
              </a:rPr>
              <a:t>sales@digicert.com                 www.digicert.com                 +1 (801) 877-21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3"/>
          <a:stretch/>
        </p:blipFill>
        <p:spPr>
          <a:xfrm>
            <a:off x="1509840" y="5902200"/>
            <a:ext cx="6135480" cy="642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141560" y="632160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0A4B5-4015-4DD6-8770-DF74B225F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23BFA-7F65-49B4-9D4C-33AA16605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9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DE013-945F-4D0D-A91D-39DE55C24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C5752-9409-410E-B8B0-9306A81CD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27C01-5213-47A3-A1E1-96410836A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1A665-C95C-4EAE-A0ED-56BE6B3A5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62038-D2F3-4F45-8C26-9F0AFA340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91E81-C78C-4B61-A1EA-A9D0A9462A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FFA47-31F9-4C08-A2C9-B0216C847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10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2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861aa"/>
                </a:solidFill>
                <a:latin typeface="Calibri"/>
              </a:rPr>
              <a:t>Federated Identity Management Workshop - Tim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3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4A81A-08B4-4577-B997-41F37993DB85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AE103-6738-45C1-8AA3-D9A632C46B91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8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9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0DDB7-5D95-4D04-BFDE-F4E64019B148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298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13B0B-69FA-420F-B23A-C8C3B508D1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347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50A98-BCA9-4DF1-8162-4B3E215C01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 Transferral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&amp; IGTF All Hands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T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Ma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move out from a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2"/>
          <p:cNvSpPr/>
          <p:nvPr/>
        </p:nvSpPr>
        <p:spPr>
          <a:xfrm>
            <a:off x="71280" y="907920"/>
            <a:ext cx="89647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/Management Change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is running out it’s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I re-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licy change of the CA Host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ition of RA established before a national 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nimize the impact to Users and Gri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malize the procedures to CA, User/Host and 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some case, RA is more stable than CA, as RA is part of the user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 strategy to take advantage of multiple service providers (multiple CA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us Change of a Production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" y="1066680"/>
          <a:ext cx="8763120" cy="4875480"/>
        </p:xfrm>
        <a:graphic>
          <a:graphicData uri="http://schemas.openxmlformats.org/drawingml/2006/table">
            <a:tbl>
              <a:tblPr/>
              <a:tblGrid>
                <a:gridCol w="1295280"/>
                <a:gridCol w="1543320"/>
                <a:gridCol w="1542960"/>
                <a:gridCol w="1095480"/>
                <a:gridCol w="1095120"/>
                <a:gridCol w="2190960"/>
              </a:tblGrid>
              <a:tr h="762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ut of Service for som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ansition to another Instit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hutd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NOT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 Root Key and Facility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New 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w issuance is allo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/guid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transfer to another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possible: all have to re-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/Host C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going again ? Or a new cert could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exercised ? Or a new cert will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about having an RA serving multiple CA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formal procedure/guideline is available ? Anything could be abide by for the moment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gistration Practice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can be considered as a subordinate document to the 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should use the RFC 3647 Framework of 9 defined areas that mirrors the structure of a CP and/or CP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easy comparisons of the relative policy and practi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completeness of the material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pplicable areas of RFC 3647 for an RPS can be designated as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"/>
          <p:cNvSpPr/>
          <p:nvPr/>
        </p:nvSpPr>
        <p:spPr>
          <a:xfrm>
            <a:off x="0" y="0"/>
            <a:ext cx="541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f RPS is a good solution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0:41:55Z</dcterms:created>
  <dc:creator>David Groep</dc:creator>
  <dc:description/>
  <dc:language>en-US</dc:language>
  <cp:lastModifiedBy>Eric Yen</cp:lastModifiedBy>
  <dcterms:modified xsi:type="dcterms:W3CDTF">2012-05-08T08:43:51Z</dcterms:modified>
  <cp:revision>302</cp:revision>
  <dc:subject/>
  <dc:title>International Grid Trust Federation Session  GGF 18 Washington, DC, USA</dc:title>
</cp:coreProperties>
</file>