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A29D7-4661-4FF0-8C47-A0F8DC11F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6880C-D184-4381-A982-EE9C28A58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340C37-5B62-4A86-AB3D-F294715CB2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214BD9-4EE5-4AC6-BEE5-DF5A2BABBE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44584C-3915-4DF9-B088-A8A843E364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D02DB6-D9C0-4CC8-96CD-11CE651127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501857-CD98-4A10-925F-60D1EFB4CE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15BCF5-DD41-47E8-9E7F-C5033F5FF5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8AFA43-243E-4103-9D0F-9F8D052974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FD2ACE-3F14-485F-929D-6D6D09EB36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4CE78C-7F9E-4CEC-B788-5B3D92E030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E1C80D-CE4F-4AD0-BFC7-BF556A39FA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08F85-143B-487F-BD53-1B65A261A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5FA2E5-EC9C-44D9-ABF3-F595CCA5CE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943572-4765-4C40-8092-4B9B868F7D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B5D260-5AA2-4FF4-AAE1-08E97E1F0F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D78E1B-85BE-4877-BE2D-D7C494E4C8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D3E8A2-AB95-4AF0-9E8D-D54ED59DEE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9DEABF-C2FE-4177-B1BE-5D2E082AD1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DDA3D8-A460-4C95-A1C2-340573D720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DB43B1-C1FF-4E08-A06B-9E4EEBC5E5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41DA6E-01D4-43D6-B566-7F7E3EEDFD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298FED-3866-4754-AD79-EEA9F35C08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4A3F6-41E4-4001-9692-872E4E1E5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0BCE89-0696-4823-B7F4-BF3CC55DDD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583793-A5A2-47BF-9CA0-2EAAD1B3CC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C8EA79-0262-47CC-A662-CCA8A42A5C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F47971-A93E-4BD5-89F1-DCF6300B64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78464F-FE51-427B-AD1F-FCAF9A6FC4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AF0415-BE2B-48AA-B28D-7E1FCAFC54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6A1363-4930-41C1-B07F-FF819E1535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035E7B-E22B-49E4-B7E9-FD7A795146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AF91C1-9489-4BFC-AC82-830A625AAE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FD54AA-40A7-4413-BC18-54DF1D6B2E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B3504C-7A03-4DE8-A81D-08D11470FC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F9CFAB-B6E8-4BD9-9462-4E7B608294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963FFE-E4D1-4110-9DEA-CF80593A38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8522CC-1B0B-4D80-8134-851933AA3D7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8BC896-573C-4EEC-9D8A-022A386DCB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527246-2A26-4773-B3DB-BCB98C7EFA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8783F1-721B-4A06-838F-E2D91897B1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EB2178-6FCB-4A53-BDFC-5820D20914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608AAC-0363-49C8-952D-C3D37A3839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948038-6953-4941-8146-D6042A8C2F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118D4C-6CBB-4341-8532-93E5A7C7F0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1F2048-1819-4B72-B430-6DB07016FC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C29B2D-6F4C-4906-9A1B-BD68AE989B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E45C7A-D531-4936-9668-0223C1D69F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6C85EF0-88AC-43E3-9B1D-F9C61AA478D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835B95-995A-420F-84EE-C5524ACF0C6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B59361-F0BC-42A3-8214-EDCA5188AB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65CF50-0A29-4D5E-897F-AEA8B2F655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FA02B3-A76A-4BB8-AD16-DF1283E7DB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450223-66FF-466D-921D-26C4F90D19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9E3D1D-FA61-4901-8B7C-B7E178B684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C6393E-DEC2-4E05-A2C7-A236C91E44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8BCAFC-837B-4FED-A3A9-7CED965E43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31682B-1B7A-4C62-BAEE-223A7AF0E6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5919DE-386C-4AA2-A566-EA83BD88CD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8098AE-5132-4F86-B266-050BFD2478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B32F61-BA34-46A2-8A1F-3AC4AEE22B4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5BEDDDA-B43E-4DD7-8EFA-568AF12C67E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9C7F51-BD5A-47D6-8EE3-14E6C77800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411D78-0460-43E1-87A1-910DF1FB45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ADDA13-77DB-4CC3-8337-EA71957FFF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48A114-BEA6-498F-B232-F2DAF90414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D33C1D-50E6-4E99-804A-FADE9B535D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F307EA-28A7-4AA4-A23F-E2A673ED4D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1B3C56-11C5-4126-92DB-EB1BD30B09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2D875F-D959-4C4D-98C0-5635D4F33B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EC619E-EEF6-4842-B5A2-34BCD7B98D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CB5E7C-57E8-4AE5-9D6F-BE396F9981B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C277930-250B-4A52-ADC5-366C0DE6AEF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237F4B7-C23B-49B1-A727-37CB4250326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AC49D9E-DD63-44A4-B1BD-9266E3180B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023630C-9634-435A-A3C7-D4B40A9D1C9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615B275-2D6A-40F3-846D-9B97F8FD17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5D07499-1A51-43E3-ADAD-593301489C3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0CC54F-64E6-415C-9047-72083527C8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3B739D-51DF-41E4-9D5A-39E47E3C2D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BE881F-18AD-4175-B1B7-F94B57B29E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29C12C-E50B-455B-B69B-C98CBBE34A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442AFA-0197-43C1-990A-C8FC590D0B8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DCE2BA7-4B00-44C6-B083-C109FB856A4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E41D497-4692-48B6-B05B-68C983B38F8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F310861-80F9-4C88-9F6E-C746EA0D474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8C90D32-2975-4740-A977-30BE44264D8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2E18289-3FDE-427A-8939-FCDED81C010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6B75C6-B29D-46D5-AFB7-7FD3C0EE5A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BA508FC-ED65-4980-96FF-6668958094F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C916675-D0C0-4C9E-853B-E901BC821C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46DB6C-4280-4074-9A40-7E7C9F157F9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11182B0-658A-42D0-97B9-B25237922F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4E4081-ABAA-4F1E-9B35-BB56D397AA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17DD19-ED1E-47E3-B9BA-0C2FA047C6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794901C-1327-4F8D-9CD9-FE0B7C8C2CF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9DB99B6-600B-4DEC-AFF1-328268DCE75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0EF4D73-B85E-4791-9449-35DA2263844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8931D4F-6643-47A4-8929-376E9276D66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1F443D8-665F-4957-BA3B-EF67CA4BCA4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4D7B12D-4F56-4A1D-9368-A704A1CFB46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0472245-DEB3-4387-83C7-D4D2E39074F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B36C2B3-25CC-4587-96D0-75D5ACEB9F1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0EE049-AAA5-47C5-B6E2-DA40BB42E2D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74A01-2036-440B-B091-EE86DB2E9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1D2EECF-278C-4B30-96B4-5C0FC1372A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9570C17-A1CE-4F0B-8305-285712BA26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81B6F88-C00E-4813-98FE-E4AA68F19BF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C09E41F-205D-41F4-97D9-43AAA99240D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4F8710B-D1DB-41D2-8F55-1B3F07BB139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C4491B5-8956-4E68-9E62-68C893CC707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4E18F47-7C24-451E-99FA-D32AB93F8CF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1D2022D-3322-4976-B060-9C2F5E9401F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58D4847-01D6-4581-AB9D-C500F50333E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9073966-7522-4B6C-A5B5-A8A8A333D63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16FD7FA-609C-4B79-99B2-72CBFB018BF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24320C-467A-4DAF-8E86-D495A6D76A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F7CD4F4-A4B0-4513-9AD1-BA0F1E5849A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A224741-31BD-4488-8E3B-007FAC70F5C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A311E56-B48A-4AB8-9F04-8920EBCA773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B210D23-7F41-435B-8898-CA0B2EF3A12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0A57CD4-E7E6-4970-A7B3-00DA48D7DDB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83FFECA-B41F-4E96-8A0A-3457CDD7A55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1F4C789-3173-45A0-8E69-AE7A9FAF527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11EF389-5223-461A-B164-6ACBAA4903D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79CEA9C-D80B-4EE5-B30A-AD834347933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C33E56C-23B2-48EF-AE0C-56CF55AB1CB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D3E5FE0-5E99-4865-9FDE-5409A3985D1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37B154-AE12-4CFB-8AFB-F62A26A9CA2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2828B84-8CE3-47E8-A9D4-80AD1521D39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73D074F-9540-43E2-9591-61890BF2B5C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10F5323-B279-4398-8444-2B329869CC9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464CEC4-3E7A-4507-BC9D-B8E135554C9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9B0E010-F7BB-47D5-9301-C63A2009BD8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8A475DA-F4F2-46F1-8008-4F4FBDD7524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867042E-52C6-48BD-A823-1713E50C083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EFA9369-26F2-43FD-A762-7E608E069E2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D1654D6-736A-4E04-BE70-E601306B754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42F4719-1E9A-4945-A5CA-1972365D502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0419770-03A9-4650-9246-7864F948E6D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495AF11-45F7-40BB-A806-EED996F7FFD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9D51DC5-25E4-4F7C-9C44-C1832F0AABA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730AE21-D438-4144-855E-A9BB0FE5D15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358FC6A-BE9C-40C2-BD1C-B2C3499D302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5421F29-D447-4B3A-895A-A8B2BF844B7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61B38BD-C510-448D-BC54-DFACAF63961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916A76F-F942-4CA1-9784-78906082C2D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E9BABBD-4A23-4B73-BEE1-11C352B00B1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038D437-F013-4F3A-9056-9F45DD4C4C5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D54D10A-848E-442E-BEB7-E1B84384662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5E730A2-A797-4087-B970-C86937CA78E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5626A2E-2B04-4FE1-8D2F-2D030FE820B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56B5659-FACA-4FD8-80D5-00145644CA6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28F12DD-3523-455E-8ED0-6E41C623DD6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C266769-AE55-4902-9200-5B20095E274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EBA62EE-54ED-458A-968C-4E27F2D04E7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377D2FD-9BCC-4ACB-B988-D5E5BE14918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59D3045-2035-43F5-BFC7-BFAF150E695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C686055-4AC1-4060-8BD6-67E52A2F0F9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6797141-36D3-4C62-BF32-8A1DCA54BCF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05B16E6-C37F-469F-9D9D-180A0D26748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632D55D-0C0A-45C0-B1CF-627644644F3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B11BDFB-8CC2-4B94-8529-CCB79BD57C1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00FC7B9-AC75-466E-8AB2-07890D3F224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E0C7CA3-039F-47DA-9A04-B89316AB8EF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D8F3E8A-9A63-42AA-8847-CC82F11BC26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CC255F3-31EF-4662-A899-DB13BAEA66B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AF77029-6F41-4672-B2B2-5F0F7CEE444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A3AE91C-ADF0-4DEC-93F7-518434D9F48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E4D1298-1BCB-44C1-8E2F-67AD8D682F9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81AEE8C-B510-4B4F-90C8-C182A2C56D1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FF1E794-8478-479E-9BD0-DB6D780CED1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81D96A1-B8FA-49CB-B3E3-5F0F6379FB3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D5A1420-DFDD-401E-AF1E-E98A0145021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D5AF422-702C-4E98-B4D9-E7FFCC330B6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2494AE1-0F4C-43F7-B2D2-B7EA6220D55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F38A794-CA1D-4722-ADBA-69889B06930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44A2B61-09B2-4FE4-A834-FA60F651CCF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4145611-12DA-4F35-9DBD-53BAF47ABED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F3E6387-5A55-4F82-998A-93D632AD5A6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B3C859F-DE0A-4F2D-A408-8467382A2DB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00C470F-8424-4BA8-87F3-6F54A8F460A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FEAD1C6-41C4-4CE1-916F-A7D0AEEE5AA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FEF4A29-DC05-4C0C-8D8A-1C445AE27AF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5372718-584C-4186-B1CF-AD9ACAFE3D0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9BBFF22-1665-42DF-82B9-F90BBA44B50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D4EC72D-DC83-4AD6-AFBF-9138C73A89D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61B2820-DF74-4D56-AD0F-FF61F1CFEBF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8A0B8F0-33C4-4141-97AE-04525F11F49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BB73198-F43A-4BA3-925F-FC083D1391D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8161F0F-F9D6-4C37-9435-9C74F70F32C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B0E9C39-3834-429E-9B45-A10C852C12E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9446B47-814F-4277-A06E-F3179829A50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290ADF0-08FC-4942-8273-4D1E363546A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5C05E6C-0A4A-4F52-AEB3-758F34C1C56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39B0210-BB5C-465F-80EE-F0C063895C9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091E44B-3FAB-4098-99DC-18BD414538B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AAE13BA-64FF-42FC-A6B1-3E46DC39FBC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2AABBDA-12C9-406A-B3A7-A9F17284467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E5D601B-9246-41A1-9849-E79EA944BE2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323F8AD-83DC-4919-A691-0E298104800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F1CF02B-D67C-426A-86D8-D85DE48F5FE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2BD7F98-40C6-4343-94DB-9CA50179E8E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1C518AD-699A-471E-B67D-E122E27B973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02DA43F-D0D1-4969-83E9-46BEF1EE5E7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E96EA-E032-4558-8551-FC8755962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EF13E3C-0CDF-4D9F-9665-9CA9C8D57B1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42CA0-B82C-4402-A155-3DEFF2FB1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5C90D-5F82-4FC6-91EF-AD93A7540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201CF-60AC-4112-A980-593F3EDA4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63746-F8C6-4DA7-A22B-2B3EC54EC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89E70-D3B7-440B-A9BA-3C2FB7E37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05FD0-EBFC-4FB8-BB47-D4121BD35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E9ACE-9462-4D58-A3E8-D22D9DB7F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AF24B-DFB9-4823-A5B8-DD91BF8D4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E8E9C-2F01-4051-8127-25A3E1AC5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873D6-5C25-4BAF-9F01-DD30C8552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9BD4F-D0F7-4826-AC68-E75891D08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709CC-B0AB-4286-B722-B7D6E3C4C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93C56-B3A4-42DE-9A73-B9E80AB31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659605-F0B1-478C-A797-A615411142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CFE1A-7022-48B9-8391-29FD72D5C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EFF0EA-F672-4C89-A188-DC297F34C2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E3463F-727C-41FF-ABDC-1F7C15500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FD539B-DF96-42D5-BCA2-E42F8B5DDB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654237-2D3A-4CF2-A0DD-8C54D39A20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E3FA12-4B5B-41BD-866C-F9AA15C0EE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177FC-ED41-4DA1-9126-FA77FF8A8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C75E1-0DF4-4821-98C7-C13E9AA82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959B9F-6275-4F2A-AF6C-9E3A269B85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FFBF24-1308-41CA-B2AF-968E3795CC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A28B4F-F0B6-437F-8E1B-47DFB74B16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B7503-A4DA-4B46-BF79-417508157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D14E81-A619-469B-A665-81D9042B8E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0F3EAA-CB9C-467B-ABBD-EC7C0F11C2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8CA5B-7B14-473E-86D8-C575F2A9B5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B5A834-8715-4B50-A258-4B5CC99CB6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E302CF-EA9F-4457-A388-F8E0F1D97D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20E09C-AA70-49E4-9CED-74CDD82BF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FA9954-D96F-47C8-B19E-5DB564C6D3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4EB73-F731-41D2-8EA4-9DA5AAD8F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CD52F6-B38D-433F-BC87-11A5A9E20A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270F7-EC0B-4697-BB54-4BC56A8ED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8AC05-3D7A-4F12-AD10-F18E9812E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CB1249-7D53-458B-B836-A291F14978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6F33D8-AA7C-4076-90FF-037936629F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4C6421-A5A0-4996-9A62-63B2CB97B0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393CF7-81F3-4949-89C2-FABF53EDDF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33B6A2-9E3D-4747-B3DD-964792C610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0F2D19-17E7-4514-8722-BF738A5544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AC7038-A90E-4B68-A3DD-61FB1BCE0E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053FD5-99CA-4633-8942-1A3CBC5089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275712-CC9F-4B2A-8441-4C50B810AF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14ED20-D5FE-4399-9646-96FEA7395D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EB990-9C20-4A7C-ADDB-6702F04E9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94045D-3E5E-47F0-BC7A-5546CD67F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A02ADE-5C97-4E4F-8E24-F5BE8D72A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DBE80C-764D-4223-BB57-74ABBF67D2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FCDADD-E06A-4466-85F8-1ED376F3D5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0119BA-0739-450A-946D-132D635CC5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65CE37-D1DF-4765-B290-43B3CBEA9D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5D17B-0CAB-4380-8D9E-E5C42065A0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CAE636-EBB7-450F-A10A-1D6B3A065A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2E4AA0-3BDE-4320-BCDE-E7CEC675A4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3433F6-F1FB-468E-B74C-97FC9FA8DB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E7F8C-2922-4005-B50F-C4A6C91AF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B14A95-DE8B-49A3-8CAD-6839CB9763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739917-DAD4-486E-89E8-B7B2FFFB30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4B04AA-E216-41A4-BA12-EE538C02C9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F59E8-E0DE-4425-B189-46C894968D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DA3137-6115-442A-9C29-0359139905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D7680F-167F-4099-BB1E-9BE8AF4777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CCC1AA-9A33-47E7-8B8C-D2E9059D02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3F58DB-F777-4E47-B812-14C9157325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68B261-9DE7-474B-8709-4679580DB4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ABAFC5-8FA9-4E30-9A80-8989D3CFDF2E}"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A029-23B0-4316-A029-92F7D6A2EFEE}"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6" name="Round Diagonal Corner Rectangle 10"/>
          <p:cNvSpPr/>
          <p:nvPr/>
        </p:nvSpPr>
        <p:spPr>
          <a:xfrm>
            <a:off x="179280" y="44280"/>
            <a:ext cx="8785440" cy="576360"/>
          </a:xfrm>
          <a:custGeom>
            <a:avLst/>
            <a:gdLst>
              <a:gd name="textAreaLeft" fmla="*/ 28080 w 8785440"/>
              <a:gd name="textAreaRight" fmla="*/ 8757360 w 8785440"/>
              <a:gd name="textAreaTop" fmla="*/ 28080 h 576360"/>
              <a:gd name="textAreaBottom" fmla="*/ 548280 h 576360"/>
            </a:gdLst>
            <a:ahLst/>
            <a:rect l="textAreaLeft" t="textAreaTop" r="textAreaRight" b="textAreaBottom"/>
            <a:pathLst>
              <a:path w="8785225" h="576263">
                <a:moveTo>
                  <a:pt x="96046" y="0"/>
                </a:moveTo>
                <a:lnTo>
                  <a:pt x="8785225" y="0"/>
                </a:lnTo>
                <a:lnTo>
                  <a:pt x="8785225" y="480217"/>
                </a:lnTo>
                <a:lnTo>
                  <a:pt x="8785225" y="480217"/>
                </a:lnTo>
                <a:arcTo wR="96046" hR="96046" stAng="0" swAng="5400000"/>
                <a:lnTo>
                  <a:pt x="0" y="576263"/>
                </a:lnTo>
                <a:lnTo>
                  <a:pt x="0" y="96046"/>
                </a:lnTo>
                <a:lnTo>
                  <a:pt x="0" y="96046"/>
                </a:lnTo>
                <a:arcTo wR="96046" hR="96046"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370"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1"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1C22-F18F-4A8C-A823-987CB12C7F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411"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2"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ACB1-6857-4A1F-A176-B63765128D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45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D1BF-A26B-43FE-86EF-64182881367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493"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94"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A9C2-242D-45F5-A6DE-F46E9429D2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534" name="PlaceHolder 1"/>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35" name="PlaceHolder 2"/>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3"/>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E13E-49DA-48AA-8748-FF0D950B9D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74" name="Picture 4" descr="ArmeSFo_Logo"/>
          <p:cNvPicPr/>
          <p:nvPr/>
        </p:nvPicPr>
        <p:blipFill>
          <a:blip r:embed="rId2"/>
          <a:stretch/>
        </p:blipFill>
        <p:spPr>
          <a:xfrm>
            <a:off x="3828960" y="73080"/>
            <a:ext cx="1390680" cy="476280"/>
          </a:xfrm>
          <a:prstGeom prst="rect">
            <a:avLst/>
          </a:prstGeom>
          <a:ln w="0">
            <a:noFill/>
          </a:ln>
        </p:spPr>
      </p:pic>
      <p:sp>
        <p:nvSpPr>
          <p:cNvPr id="575"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576" name="PlaceHolder 1"/>
          <p:cNvSpPr>
            <a:spLocks noGrp="1"/>
          </p:cNvSpPr>
          <p:nvPr>
            <p:ph type="dt" idx="3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77" name="PlaceHolder 2"/>
          <p:cNvSpPr>
            <a:spLocks noGrp="1"/>
          </p:cNvSpPr>
          <p:nvPr>
            <p:ph type="ftr" idx="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3"/>
          <p:cNvSpPr>
            <a:spLocks noGrp="1"/>
          </p:cNvSpPr>
          <p:nvPr>
            <p:ph type="sldNum" idx="3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AD32-3E12-4127-81CF-21E966E8FF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6" name="Picture 4" descr="ArmeSFo_Logo"/>
          <p:cNvPicPr/>
          <p:nvPr/>
        </p:nvPicPr>
        <p:blipFill>
          <a:blip r:embed="rId2"/>
          <a:stretch/>
        </p:blipFill>
        <p:spPr>
          <a:xfrm>
            <a:off x="3828960" y="73080"/>
            <a:ext cx="1390680" cy="476280"/>
          </a:xfrm>
          <a:prstGeom prst="rect">
            <a:avLst/>
          </a:prstGeom>
          <a:ln w="0">
            <a:noFill/>
          </a:ln>
        </p:spPr>
      </p:pic>
      <p:sp>
        <p:nvSpPr>
          <p:cNvPr id="617"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618" name="PlaceHolder 1"/>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19" name="PlaceHolder 2"/>
          <p:cNvSpPr>
            <a:spLocks noGrp="1"/>
          </p:cNvSpPr>
          <p:nvPr>
            <p:ph type="ftr" idx="4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3"/>
          <p:cNvSpPr>
            <a:spLocks noGrp="1"/>
          </p:cNvSpPr>
          <p:nvPr>
            <p:ph type="sldNum" idx="4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F0E3-57AC-4AE7-AAFD-AE1183532B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8" name="Picture 4" descr="ArmeSFo_Logo"/>
          <p:cNvPicPr/>
          <p:nvPr/>
        </p:nvPicPr>
        <p:blipFill>
          <a:blip r:embed="rId2"/>
          <a:stretch/>
        </p:blipFill>
        <p:spPr>
          <a:xfrm>
            <a:off x="3828960" y="73080"/>
            <a:ext cx="1390680" cy="476280"/>
          </a:xfrm>
          <a:prstGeom prst="rect">
            <a:avLst/>
          </a:prstGeom>
          <a:ln w="0">
            <a:noFill/>
          </a:ln>
        </p:spPr>
      </p:pic>
      <p:sp>
        <p:nvSpPr>
          <p:cNvPr id="659"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660" name="PlaceHolder 1"/>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61" name="PlaceHolder 2"/>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3"/>
          <p:cNvSpPr>
            <a:spLocks noGrp="1"/>
          </p:cNvSpPr>
          <p:nvPr>
            <p:ph type="sldNum" idx="4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E64B-BB97-4122-B203-B07E2750850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6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2" name="Picture 4" descr="ArmeSFo_Logo"/>
          <p:cNvPicPr/>
          <p:nvPr/>
        </p:nvPicPr>
        <p:blipFill>
          <a:blip r:embed="rId2"/>
          <a:stretch/>
        </p:blipFill>
        <p:spPr>
          <a:xfrm>
            <a:off x="3828960" y="73080"/>
            <a:ext cx="1390680" cy="476280"/>
          </a:xfrm>
          <a:prstGeom prst="rect">
            <a:avLst/>
          </a:prstGeom>
          <a:ln w="0">
            <a:noFill/>
          </a:ln>
        </p:spPr>
      </p:pic>
      <p:sp>
        <p:nvSpPr>
          <p:cNvPr id="703"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704" name="PlaceHolder 1"/>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05" name="PlaceHolder 2"/>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3"/>
          <p:cNvSpPr>
            <a:spLocks noGrp="1"/>
          </p:cNvSpPr>
          <p:nvPr>
            <p:ph type="sldNum" idx="4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CF0C-1C34-4616-9752-6B0975754F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44" name="Picture 4" descr="ArmeSFo_Logo"/>
          <p:cNvPicPr/>
          <p:nvPr/>
        </p:nvPicPr>
        <p:blipFill>
          <a:blip r:embed="rId2"/>
          <a:stretch/>
        </p:blipFill>
        <p:spPr>
          <a:xfrm>
            <a:off x="3828960" y="73080"/>
            <a:ext cx="1390680" cy="476280"/>
          </a:xfrm>
          <a:prstGeom prst="rect">
            <a:avLst/>
          </a:prstGeom>
          <a:ln w="0">
            <a:noFill/>
          </a:ln>
        </p:spPr>
      </p:pic>
      <p:sp>
        <p:nvSpPr>
          <p:cNvPr id="745"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746" name="PlaceHolder 1"/>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47" name="PlaceHolder 2"/>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3"/>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C5A0-616F-40B3-B656-5A49A8CCF2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6" name="Picture 4" descr="ArmeSFo_Logo"/>
          <p:cNvPicPr/>
          <p:nvPr/>
        </p:nvPicPr>
        <p:blipFill>
          <a:blip r:embed="rId2"/>
          <a:stretch/>
        </p:blipFill>
        <p:spPr>
          <a:xfrm>
            <a:off x="3828960" y="73080"/>
            <a:ext cx="1390680" cy="476280"/>
          </a:xfrm>
          <a:prstGeom prst="rect">
            <a:avLst/>
          </a:prstGeom>
          <a:ln w="0">
            <a:noFill/>
          </a:ln>
        </p:spPr>
      </p:pic>
      <p:sp>
        <p:nvSpPr>
          <p:cNvPr id="787"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788"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89" name="PlaceHolder 2"/>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3"/>
          <p:cNvSpPr>
            <a:spLocks noGrp="1"/>
          </p:cNvSpPr>
          <p:nvPr>
            <p:ph type="sldNum" idx="5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85AB-2D24-40A4-B7AC-BE9D4A778B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8" name="Picture 4" descr="ArmeSFo_Logo"/>
          <p:cNvPicPr/>
          <p:nvPr/>
        </p:nvPicPr>
        <p:blipFill>
          <a:blip r:embed="rId2"/>
          <a:stretch/>
        </p:blipFill>
        <p:spPr>
          <a:xfrm>
            <a:off x="3828960" y="73080"/>
            <a:ext cx="1390680" cy="476280"/>
          </a:xfrm>
          <a:prstGeom prst="rect">
            <a:avLst/>
          </a:prstGeom>
          <a:ln w="0">
            <a:noFill/>
          </a:ln>
        </p:spPr>
      </p:pic>
      <p:sp>
        <p:nvSpPr>
          <p:cNvPr id="829"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830" name="PlaceHolder 1"/>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1" name="PlaceHolder 2"/>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D00F-E1E5-4A95-BA95-27FA93893C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70" name="Picture 4" descr="ArmeSFo_Logo"/>
          <p:cNvPicPr/>
          <p:nvPr/>
        </p:nvPicPr>
        <p:blipFill>
          <a:blip r:embed="rId2"/>
          <a:stretch/>
        </p:blipFill>
        <p:spPr>
          <a:xfrm>
            <a:off x="3828960" y="73080"/>
            <a:ext cx="1390680" cy="476280"/>
          </a:xfrm>
          <a:prstGeom prst="rect">
            <a:avLst/>
          </a:prstGeom>
          <a:ln w="0">
            <a:noFill/>
          </a:ln>
        </p:spPr>
      </p:pic>
      <p:sp>
        <p:nvSpPr>
          <p:cNvPr id="871"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872" name="PlaceHolder 1"/>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73" name="PlaceHolder 2"/>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PlaceHolder 3"/>
          <p:cNvSpPr>
            <a:spLocks noGrp="1"/>
          </p:cNvSpPr>
          <p:nvPr>
            <p:ph type="sldNum" idx="6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D257-6CEA-4A90-9C6D-85AF7E8B5D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12" name="Picture 4" descr="ArmeSFo_Logo"/>
          <p:cNvPicPr/>
          <p:nvPr/>
        </p:nvPicPr>
        <p:blipFill>
          <a:blip r:embed="rId2"/>
          <a:stretch/>
        </p:blipFill>
        <p:spPr>
          <a:xfrm>
            <a:off x="3828960" y="73080"/>
            <a:ext cx="1390680" cy="476280"/>
          </a:xfrm>
          <a:prstGeom prst="rect">
            <a:avLst/>
          </a:prstGeom>
          <a:ln w="0">
            <a:noFill/>
          </a:ln>
        </p:spPr>
      </p:pic>
      <p:sp>
        <p:nvSpPr>
          <p:cNvPr id="913"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914" name="PlaceHolder 1"/>
          <p:cNvSpPr>
            <a:spLocks noGrp="1"/>
          </p:cNvSpPr>
          <p:nvPr>
            <p:ph type="dt" idx="6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15" name="PlaceHolder 2"/>
          <p:cNvSpPr>
            <a:spLocks noGrp="1"/>
          </p:cNvSpPr>
          <p:nvPr>
            <p:ph type="ftr" idx="6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PlaceHolder 3"/>
          <p:cNvSpPr>
            <a:spLocks noGrp="1"/>
          </p:cNvSpPr>
          <p:nvPr>
            <p:ph type="sldNum" idx="6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DA75-09A3-4755-83D6-9E0BB9E58E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4" name="Picture 4" descr="ArmeSFo_Logo"/>
          <p:cNvPicPr/>
          <p:nvPr/>
        </p:nvPicPr>
        <p:blipFill>
          <a:blip r:embed="rId2"/>
          <a:stretch/>
        </p:blipFill>
        <p:spPr>
          <a:xfrm>
            <a:off x="3828960" y="73080"/>
            <a:ext cx="1390680" cy="476280"/>
          </a:xfrm>
          <a:prstGeom prst="rect">
            <a:avLst/>
          </a:prstGeom>
          <a:ln w="0">
            <a:noFill/>
          </a:ln>
        </p:spPr>
      </p:pic>
      <p:sp>
        <p:nvSpPr>
          <p:cNvPr id="955"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956" name="PlaceHolder 1"/>
          <p:cNvSpPr>
            <a:spLocks noGrp="1"/>
          </p:cNvSpPr>
          <p:nvPr>
            <p:ph type="dt" idx="6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57" name="PlaceHolder 2"/>
          <p:cNvSpPr>
            <a:spLocks noGrp="1"/>
          </p:cNvSpPr>
          <p:nvPr>
            <p:ph type="ftr" idx="6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PlaceHolder 3"/>
          <p:cNvSpPr>
            <a:spLocks noGrp="1"/>
          </p:cNvSpPr>
          <p:nvPr>
            <p:ph type="sldNum" idx="6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B3C5-E469-4098-86D2-E1559F890A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6" name="Picture 4" descr="ArmeSFo_Logo"/>
          <p:cNvPicPr/>
          <p:nvPr/>
        </p:nvPicPr>
        <p:blipFill>
          <a:blip r:embed="rId2"/>
          <a:stretch/>
        </p:blipFill>
        <p:spPr>
          <a:xfrm>
            <a:off x="3828960" y="73080"/>
            <a:ext cx="1390680" cy="476280"/>
          </a:xfrm>
          <a:prstGeom prst="rect">
            <a:avLst/>
          </a:prstGeom>
          <a:ln w="0">
            <a:noFill/>
          </a:ln>
        </p:spPr>
      </p:pic>
      <p:sp>
        <p:nvSpPr>
          <p:cNvPr id="997"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998" name="PlaceHolder 1"/>
          <p:cNvSpPr>
            <a:spLocks noGrp="1"/>
          </p:cNvSpPr>
          <p:nvPr>
            <p:ph type="dt" idx="6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99" name="PlaceHolder 2"/>
          <p:cNvSpPr>
            <a:spLocks noGrp="1"/>
          </p:cNvSpPr>
          <p:nvPr>
            <p:ph type="ftr" idx="6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PlaceHolder 3"/>
          <p:cNvSpPr>
            <a:spLocks noGrp="1"/>
          </p:cNvSpPr>
          <p:nvPr>
            <p:ph type="sldNum" idx="6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B75D-5E8A-4465-BB1E-9D434FE4906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4" descr="ArmeSFo_Logo"/>
          <p:cNvPicPr/>
          <p:nvPr/>
        </p:nvPicPr>
        <p:blipFill>
          <a:blip r:embed="rId2"/>
          <a:stretch/>
        </p:blipFill>
        <p:spPr>
          <a:xfrm>
            <a:off x="3828960" y="73080"/>
            <a:ext cx="1390680" cy="476280"/>
          </a:xfrm>
          <a:prstGeom prst="rect">
            <a:avLst/>
          </a:prstGeom>
          <a:ln w="0">
            <a:noFill/>
          </a:ln>
        </p:spPr>
      </p:pic>
      <p:sp>
        <p:nvSpPr>
          <p:cNvPr id="83"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121" name="Round Diagonal Corner Rectangle 10"/>
          <p:cNvSpPr/>
          <p:nvPr/>
        </p:nvSpPr>
        <p:spPr>
          <a:xfrm>
            <a:off x="179280" y="44280"/>
            <a:ext cx="8785440" cy="576360"/>
          </a:xfrm>
          <a:custGeom>
            <a:avLst/>
            <a:gdLst>
              <a:gd name="textAreaLeft" fmla="*/ 28080 w 8785440"/>
              <a:gd name="textAreaRight" fmla="*/ 8757360 w 8785440"/>
              <a:gd name="textAreaTop" fmla="*/ 28080 h 576360"/>
              <a:gd name="textAreaBottom" fmla="*/ 548280 h 576360"/>
            </a:gdLst>
            <a:ahLst/>
            <a:rect l="textAreaLeft" t="textAreaTop" r="textAreaRight" b="textAreaBottom"/>
            <a:pathLst>
              <a:path w="8785225" h="576263">
                <a:moveTo>
                  <a:pt x="96046" y="0"/>
                </a:moveTo>
                <a:lnTo>
                  <a:pt x="8785225" y="0"/>
                </a:lnTo>
                <a:lnTo>
                  <a:pt x="8785225" y="480217"/>
                </a:lnTo>
                <a:lnTo>
                  <a:pt x="8785225" y="480217"/>
                </a:lnTo>
                <a:arcTo wR="96046" hR="96046" stAng="0" swAng="5400000"/>
                <a:lnTo>
                  <a:pt x="0" y="576263"/>
                </a:lnTo>
                <a:lnTo>
                  <a:pt x="0" y="96046"/>
                </a:lnTo>
                <a:lnTo>
                  <a:pt x="0" y="96046"/>
                </a:lnTo>
                <a:arcTo wR="96046" hR="96046"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72A3-D375-40EC-B8CE-9575A42F7381}"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165"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6"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9828-B793-4BA9-B8E7-44B6116212B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206"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7"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2458-3E5D-432D-8AE9-5263861273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247"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8"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3B38-8368-452E-B7CC-EA64932EE3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288"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9"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214B-5F0D-4052-8292-7D648BE8D0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32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30"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12890-980C-48DD-AFE7-0443B7BF1D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0" y="2421000"/>
            <a:ext cx="9144000" cy="65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rmeSFo CA update</a:t>
            </a:r>
            <a:br>
              <a:rPr sz="4400"/>
            </a:br>
            <a:endParaRPr b="0" lang="en-US" sz="4400" spc="-1" strike="noStrike">
              <a:solidFill>
                <a:srgbClr val="000000"/>
              </a:solidFill>
              <a:latin typeface="Calibri"/>
            </a:endParaRPr>
          </a:p>
        </p:txBody>
      </p:sp>
      <p:sp>
        <p:nvSpPr>
          <p:cNvPr id="1038" name="PlaceHolder 2"/>
          <p:cNvSpPr>
            <a:spLocks noGrp="1"/>
          </p:cNvSpPr>
          <p:nvPr>
            <p:ph type="subTitle"/>
          </p:nvPr>
        </p:nvSpPr>
        <p:spPr>
          <a:xfrm>
            <a:off x="1371600" y="3885840"/>
            <a:ext cx="6400800" cy="119844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alibri"/>
              </a:rPr>
              <a:t>Armenuhi Abramyan, Narine Manukyan</a:t>
            </a:r>
            <a:endParaRPr b="0" lang="en-US" sz="28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eada"/>
                </a:solidFill>
                <a:latin typeface="Calibri"/>
              </a:rPr>
              <a:t>aabramya@escience.am, nmanukya@escience.am</a:t>
            </a:r>
            <a:endParaRPr b="0" lang="en-US" sz="1800" spc="-1" strike="noStrike">
              <a:solidFill>
                <a:srgbClr val="000000"/>
              </a:solidFill>
              <a:latin typeface="Calibri"/>
            </a:endParaRPr>
          </a:p>
        </p:txBody>
      </p:sp>
      <p:pic>
        <p:nvPicPr>
          <p:cNvPr id="1039" name="Picture 4" descr="ArmeSFo_Logo"/>
          <p:cNvPicPr/>
          <p:nvPr/>
        </p:nvPicPr>
        <p:blipFill>
          <a:blip r:embed="rId1"/>
          <a:stretch/>
        </p:blipFill>
        <p:spPr>
          <a:xfrm>
            <a:off x="3828960" y="73080"/>
            <a:ext cx="1390680" cy="476280"/>
          </a:xfrm>
          <a:prstGeom prst="rect">
            <a:avLst/>
          </a:prstGeom>
          <a:ln w="0">
            <a:noFill/>
          </a:ln>
        </p:spPr>
      </p:pic>
      <p:sp>
        <p:nvSpPr>
          <p:cNvPr id="1040" name="Rectangle 4"/>
          <p:cNvSpPr/>
          <p:nvPr/>
        </p:nvSpPr>
        <p:spPr>
          <a:xfrm>
            <a:off x="2232000" y="76500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lide Number Placeholder 2"/>
          <p:cNvSpPr/>
          <p:nvPr/>
        </p:nvSpPr>
        <p:spPr>
          <a:xfrm>
            <a:off x="8271000" y="6437160"/>
            <a:ext cx="761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48EA-8B19-402A-9448-344102C6670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70" name="TextBox 6"/>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Educational programme</a:t>
            </a:r>
            <a:endParaRPr b="0" lang="en-US" sz="3600" spc="-1" strike="noStrike">
              <a:solidFill>
                <a:srgbClr val="000000"/>
              </a:solidFill>
              <a:latin typeface="Arial"/>
            </a:endParaRPr>
          </a:p>
        </p:txBody>
      </p:sp>
      <p:sp>
        <p:nvSpPr>
          <p:cNvPr id="1071" name="Rectangle 3"/>
          <p:cNvSpPr/>
          <p:nvPr/>
        </p:nvSpPr>
        <p:spPr>
          <a:xfrm>
            <a:off x="285840" y="1428840"/>
            <a:ext cx="8358120" cy="3904920"/>
          </a:xfrm>
          <a:prstGeom prst="rect">
            <a:avLst/>
          </a:prstGeom>
          <a:noFill/>
          <a:ln w="0">
            <a:noFill/>
          </a:ln>
        </p:spPr>
        <p:style>
          <a:lnRef idx="0"/>
          <a:fillRef idx="0"/>
          <a:effectRef idx="0"/>
          <a:fontRef idx="minor"/>
        </p:style>
        <p:txBody>
          <a:bodyPr lIns="90000" rIns="90000" tIns="46800" bIns="46800" anchor="t">
            <a:spAutoFit/>
          </a:bodyPr>
          <a:p>
            <a:pPr marL="343080" indent="-228600" algn="just">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alibri"/>
                <a:ea typeface="Arial"/>
              </a:rPr>
              <a:t>An educational web portal </a:t>
            </a:r>
            <a:r>
              <a:rPr b="1" i="1" lang="en-US" sz="2000" spc="-1" strike="noStrike" u="sng">
                <a:solidFill>
                  <a:srgbClr val="ff3300"/>
                </a:solidFill>
                <a:uFillTx/>
                <a:latin typeface="Calibri"/>
                <a:ea typeface="Arial"/>
              </a:rPr>
              <a:t>WhyPKI</a:t>
            </a:r>
            <a:r>
              <a:rPr b="1" lang="en-US" sz="2000" spc="-1" strike="noStrike">
                <a:solidFill>
                  <a:srgbClr val="000000"/>
                </a:solidFill>
                <a:latin typeface="Calibri"/>
                <a:ea typeface="Arial"/>
              </a:rPr>
              <a:t> </a:t>
            </a:r>
            <a:r>
              <a:rPr b="1" lang="en-US" sz="2000" spc="-1" strike="noStrike">
                <a:solidFill>
                  <a:srgbClr val="008000"/>
                </a:solidFill>
                <a:latin typeface="Calibri"/>
                <a:ea typeface="Arial"/>
              </a:rPr>
              <a:t>dedicated to the security in cyberspace has been created </a:t>
            </a:r>
            <a:r>
              <a:rPr b="0" lang="en-US" sz="2000" spc="-1" strike="noStrike">
                <a:solidFill>
                  <a:srgbClr val="000000"/>
                </a:solidFill>
                <a:latin typeface="Calibri"/>
                <a:ea typeface="Arial"/>
              </a:rPr>
              <a:t>(http://www.escience.am/whypki/). </a:t>
            </a:r>
            <a:r>
              <a:rPr b="1" lang="en-US" sz="2000" spc="-1" strike="noStrike">
                <a:solidFill>
                  <a:srgbClr val="008000"/>
                </a:solidFill>
                <a:latin typeface="Calibri"/>
                <a:ea typeface="Arial"/>
              </a:rPr>
              <a:t>The portal is bilingual, in Armenian and English, which is important for the development of the Armenian cybersecurity vocabulary</a:t>
            </a:r>
            <a:endParaRPr b="0" lang="en-US" sz="2000" spc="-1" strike="noStrike">
              <a:solidFill>
                <a:srgbClr val="000000"/>
              </a:solidFill>
              <a:latin typeface="Arial"/>
            </a:endParaRPr>
          </a:p>
          <a:p>
            <a:pPr marL="34308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28600" algn="just">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Arial"/>
              </a:rPr>
              <a:t>An educational CA, </a:t>
            </a:r>
            <a:r>
              <a:rPr b="1" i="1" lang="en-US" sz="2000" spc="-1" strike="noStrike" u="sng">
                <a:solidFill>
                  <a:srgbClr val="ff3300"/>
                </a:solidFill>
                <a:uFillTx/>
                <a:latin typeface="Calibri"/>
                <a:ea typeface="Arial"/>
              </a:rPr>
              <a:t>ToyCA</a:t>
            </a:r>
            <a:r>
              <a:rPr b="1" lang="en-US" sz="2000" spc="-1" strike="noStrike">
                <a:solidFill>
                  <a:srgbClr val="1f497d"/>
                </a:solidFill>
                <a:latin typeface="Calibri"/>
                <a:ea typeface="Arial"/>
              </a:rPr>
              <a:t>, providing certificates for any requestor has been created</a:t>
            </a:r>
            <a:endParaRPr b="0" lang="en-US" sz="2000" spc="-1" strike="noStrike">
              <a:solidFill>
                <a:srgbClr val="000000"/>
              </a:solidFill>
              <a:latin typeface="Arial"/>
            </a:endParaRPr>
          </a:p>
          <a:p>
            <a:pPr marL="34308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he </a:t>
            </a:r>
            <a:r>
              <a:rPr b="1" i="1" lang="en-US" sz="2000" spc="-1" strike="noStrike" u="sng">
                <a:solidFill>
                  <a:srgbClr val="ff3300"/>
                </a:solidFill>
                <a:uFillTx/>
                <a:latin typeface="Calibri"/>
                <a:ea typeface="Arial"/>
              </a:rPr>
              <a:t>WhyPKI</a:t>
            </a:r>
            <a:r>
              <a:rPr b="1" lang="ru-RU" sz="2000" spc="-1" strike="noStrike">
                <a:solidFill>
                  <a:srgbClr val="000000"/>
                </a:solidFill>
                <a:latin typeface="Calibri"/>
                <a:ea typeface="Arial"/>
              </a:rPr>
              <a:t> </a:t>
            </a:r>
            <a:r>
              <a:rPr b="1" lang="en-US" sz="2000" spc="-1" strike="noStrike">
                <a:solidFill>
                  <a:srgbClr val="000000"/>
                </a:solidFill>
                <a:latin typeface="Calibri"/>
                <a:ea typeface="Arial"/>
              </a:rPr>
              <a:t>portal provides for </a:t>
            </a:r>
            <a:r>
              <a:rPr b="1" i="1" lang="en-US" sz="2000" spc="-1" strike="noStrike" u="sng">
                <a:solidFill>
                  <a:srgbClr val="ff3300"/>
                </a:solidFill>
                <a:uFillTx/>
                <a:latin typeface="Calibri"/>
                <a:ea typeface="Arial"/>
              </a:rPr>
              <a:t>ToyCA</a:t>
            </a:r>
            <a:r>
              <a:rPr b="1" lang="en-US" sz="2000" spc="-1" strike="noStrike">
                <a:solidFill>
                  <a:srgbClr val="000000"/>
                </a:solidFill>
                <a:latin typeface="Calibri"/>
                <a:ea typeface="Arial"/>
              </a:rPr>
              <a:t> an interface for generation of private keys and certificate requests (http://www.escience.am/whypki/?q=node/135)</a:t>
            </a:r>
            <a:endParaRPr b="0" lang="en-US" sz="2000" spc="-1" strike="noStrike">
              <a:solidFill>
                <a:srgbClr val="000000"/>
              </a:solidFill>
              <a:latin typeface="Arial"/>
            </a:endParaRPr>
          </a:p>
          <a:p>
            <a:pPr marL="34308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Bachelor student has been actively involved in the creation of </a:t>
            </a:r>
            <a:r>
              <a:rPr b="1" i="1" lang="en-US" sz="2000" spc="-1" strike="noStrike" u="sng">
                <a:solidFill>
                  <a:srgbClr val="ff3300"/>
                </a:solidFill>
                <a:uFillTx/>
                <a:latin typeface="Calibri"/>
                <a:ea typeface="Arial"/>
              </a:rPr>
              <a:t>WhyPKI</a:t>
            </a:r>
            <a:r>
              <a:rPr b="1" lang="en-US" sz="2000" spc="-1" strike="noStrike">
                <a:solidFill>
                  <a:srgbClr val="000000"/>
                </a:solidFill>
                <a:latin typeface="Calibri"/>
                <a:ea typeface="Arial"/>
              </a:rPr>
              <a:t> </a:t>
            </a:r>
            <a:r>
              <a:rPr b="0" lang="en-US" sz="2000" spc="-1" strike="noStrike">
                <a:solidFill>
                  <a:srgbClr val="000000"/>
                </a:solidFill>
                <a:latin typeface="Calibri"/>
                <a:ea typeface="Arial"/>
              </a:rPr>
              <a:t>and </a:t>
            </a:r>
            <a:r>
              <a:rPr b="1" i="1" lang="en-US" sz="2000" spc="-1" strike="noStrike" u="sng">
                <a:solidFill>
                  <a:srgbClr val="ff3300"/>
                </a:solidFill>
                <a:uFillTx/>
                <a:latin typeface="Calibri"/>
                <a:ea typeface="Arial"/>
              </a:rPr>
              <a:t>Toy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Slide Number Placeholder 2"/>
          <p:cNvSpPr/>
          <p:nvPr/>
        </p:nvSpPr>
        <p:spPr>
          <a:xfrm>
            <a:off x="8211960" y="6400800"/>
            <a:ext cx="824040" cy="341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003C-868C-4C08-9F6D-442F3A2F818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73" name="TextBox 4"/>
          <p:cNvSpPr/>
          <p:nvPr/>
        </p:nvSpPr>
        <p:spPr>
          <a:xfrm>
            <a:off x="285840" y="1214280"/>
            <a:ext cx="8665920" cy="4115880"/>
          </a:xfrm>
          <a:prstGeom prst="rect">
            <a:avLst/>
          </a:prstGeom>
          <a:noFill/>
          <a:ln w="0">
            <a:noFill/>
          </a:ln>
        </p:spPr>
        <p:style>
          <a:lnRef idx="0"/>
          <a:fillRef idx="0"/>
          <a:effectRef idx="0"/>
          <a:fontRef idx="minor"/>
        </p:style>
        <p:txBody>
          <a:bodyPr lIns="90000" rIns="90000" tIns="46800" bIns="46800" anchor="t">
            <a:spAutoFit/>
          </a:bodyPr>
          <a:p>
            <a:pPr indent="291960">
              <a:lnSpc>
                <a:spcPct val="15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Transition to the issuance of SHA-2 based certs and preparation of appropriate user explanatory documents (by January 1, 2013);</a:t>
            </a:r>
            <a:endParaRPr b="0" lang="en-US" sz="1800" spc="-1" strike="noStrike">
              <a:solidFill>
                <a:srgbClr val="000000"/>
              </a:solidFill>
              <a:latin typeface="Arial"/>
            </a:endParaRPr>
          </a:p>
          <a:p>
            <a:pPr indent="291960">
              <a:lnSpc>
                <a:spcPct val="15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291960">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Deployment of a production OCSP responder on ArmeSFo CA server (b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January 1, 2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1960">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Enabling IPv6 for the end-point of CRL and OCSP responder;</a:t>
            </a:r>
            <a:endParaRPr b="0" lang="en-US" sz="1800" spc="-1" strike="noStrike">
              <a:solidFill>
                <a:srgbClr val="000000"/>
              </a:solidFill>
              <a:latin typeface="Arial"/>
            </a:endParaRPr>
          </a:p>
          <a:p>
            <a:pPr indent="291960">
              <a:lnSpc>
                <a:spcPct val="15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291960">
              <a:lnSpc>
                <a:spcPct val="150000"/>
              </a:lnSpc>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Arial"/>
              </a:rPr>
              <a:t>Generation of a new 4096-bit ArmeSFo CA private key;</a:t>
            </a:r>
            <a:endParaRPr b="0" lang="en-US" sz="1800" spc="-1" strike="noStrike">
              <a:solidFill>
                <a:srgbClr val="000000"/>
              </a:solidFill>
              <a:latin typeface="Arial"/>
            </a:endParaRPr>
          </a:p>
          <a:p>
            <a:pPr indent="291960">
              <a:lnSpc>
                <a:spcPct val="150000"/>
              </a:lnSpc>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291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ance of new version of the CP/CPS;</a:t>
            </a:r>
            <a:endParaRPr b="0" lang="en-US" sz="1800" spc="-1" strike="noStrike">
              <a:solidFill>
                <a:srgbClr val="000000"/>
              </a:solidFill>
              <a:latin typeface="Arial"/>
            </a:endParaRPr>
          </a:p>
          <a:p>
            <a:pPr indent="291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29196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Preparation of the new instructions for ArmeSFo CA operators, RAs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subscribers compatible with new CP/CPS.</a:t>
            </a:r>
            <a:endParaRPr b="0" lang="en-US" sz="1800" spc="-1" strike="noStrike">
              <a:solidFill>
                <a:srgbClr val="000000"/>
              </a:solidFill>
              <a:latin typeface="Arial"/>
            </a:endParaRPr>
          </a:p>
        </p:txBody>
      </p:sp>
      <p:sp>
        <p:nvSpPr>
          <p:cNvPr id="1074" name="TextBox 4"/>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Next ste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2857680" y="3143160"/>
            <a:ext cx="3063600" cy="665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THANK YOU!</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BE34-EDED-4B5B-AA0D-61BB1F869C1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42" name="TextBox 5"/>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About Narine Manukyan</a:t>
            </a:r>
            <a:endParaRPr b="0" lang="en-US" sz="3600" spc="-1" strike="noStrike">
              <a:solidFill>
                <a:srgbClr val="000000"/>
              </a:solidFill>
              <a:latin typeface="Arial"/>
            </a:endParaRPr>
          </a:p>
        </p:txBody>
      </p:sp>
      <p:sp>
        <p:nvSpPr>
          <p:cNvPr id="1043" name="Rectangle 6"/>
          <p:cNvSpPr/>
          <p:nvPr/>
        </p:nvSpPr>
        <p:spPr>
          <a:xfrm>
            <a:off x="642960" y="1643040"/>
            <a:ext cx="8064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This presentation was planned to be presented by Narine Manuky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However, after a bicycle accident, happened ten days ago at CERN, she was strongly advised by physicians not to travel for some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lide Number Placeholder 4"/>
          <p:cNvSpPr/>
          <p:nvPr/>
        </p:nvSpPr>
        <p:spPr>
          <a:xfrm>
            <a:off x="8256600" y="6410160"/>
            <a:ext cx="7621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07BC-FA8D-4506-9314-7690F58274A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45" name="TextBox 6"/>
          <p:cNvSpPr/>
          <p:nvPr/>
        </p:nvSpPr>
        <p:spPr>
          <a:xfrm>
            <a:off x="611280" y="1628640"/>
            <a:ext cx="7389720" cy="3751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Updates after January 2010, last presentation of ArmeSFo CA to EUGridPMA (in  Dublin)</a:t>
            </a:r>
            <a:endParaRPr b="0" lang="en-US" sz="2000" spc="-1" strike="noStrike">
              <a:solidFill>
                <a:srgbClr val="000000"/>
              </a:solidFill>
              <a:latin typeface="Arial"/>
            </a:endParaRPr>
          </a:p>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Status of self- and external audits</a:t>
            </a:r>
            <a:endParaRPr b="0" lang="en-US" sz="2000" spc="-1" strike="noStrike">
              <a:solidFill>
                <a:srgbClr val="000000"/>
              </a:solidFill>
              <a:latin typeface="Arial"/>
            </a:endParaRPr>
          </a:p>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OCSP  responder implementation</a:t>
            </a:r>
            <a:endParaRPr b="0" lang="en-US" sz="2000" spc="-1" strike="noStrike">
              <a:solidFill>
                <a:srgbClr val="000000"/>
              </a:solidFill>
              <a:latin typeface="Arial"/>
            </a:endParaRPr>
          </a:p>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SHA-2 based certificate profile</a:t>
            </a:r>
            <a:endParaRPr b="0" lang="en-US" sz="2000" spc="-1" strike="noStrike">
              <a:solidFill>
                <a:srgbClr val="000000"/>
              </a:solidFill>
              <a:latin typeface="Arial"/>
            </a:endParaRPr>
          </a:p>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Educational programme of ArmeSFo CA</a:t>
            </a:r>
            <a:endParaRPr b="0" lang="en-US" sz="2000" spc="-1" strike="noStrike">
              <a:solidFill>
                <a:srgbClr val="000000"/>
              </a:solidFill>
              <a:latin typeface="Arial"/>
            </a:endParaRPr>
          </a:p>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Next steps</a:t>
            </a:r>
            <a:endParaRPr b="0" lang="en-US" sz="2000" spc="-1" strike="noStrike">
              <a:solidFill>
                <a:srgbClr val="000000"/>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TextBox 4"/>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Cont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Slide Number Placeholder 2"/>
          <p:cNvSpPr/>
          <p:nvPr/>
        </p:nvSpPr>
        <p:spPr>
          <a:xfrm>
            <a:off x="8271000" y="6437160"/>
            <a:ext cx="761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7889-93C3-48C8-938D-28CAF205A1E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48" name="TextBox 4"/>
          <p:cNvSpPr/>
          <p:nvPr/>
        </p:nvSpPr>
        <p:spPr>
          <a:xfrm>
            <a:off x="235080" y="1198440"/>
            <a:ext cx="8729640" cy="3179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Calibri"/>
                <a:ea typeface="Arial"/>
              </a:rPr>
              <a:t>The actual personnel of  ArmeSFo CA:</a:t>
            </a:r>
            <a:endParaRPr b="0" lang="en-US" sz="2400" spc="-1" strike="noStrike">
              <a:solidFill>
                <a:srgbClr val="000000"/>
              </a:solidFill>
              <a:latin typeface="Arial"/>
            </a:endParaRPr>
          </a:p>
          <a:p>
            <a:pPr>
              <a:lnSpc>
                <a:spcPct val="150000"/>
              </a:lnSpc>
              <a:buClr>
                <a:srgbClr val="bf1ba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buClr>
                <a:srgbClr val="bf1ba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f1bab"/>
                </a:solidFill>
                <a:latin typeface="Calibri"/>
                <a:ea typeface="Arial"/>
              </a:rPr>
              <a:t>Ara Grigoryan </a:t>
            </a:r>
            <a:r>
              <a:rPr b="0" i="1" lang="en-US" sz="2000" spc="-1" strike="noStrike">
                <a:solidFill>
                  <a:srgbClr val="bf1bab"/>
                </a:solidFill>
                <a:latin typeface="Arial"/>
                <a:ea typeface="Arial"/>
              </a:rPr>
              <a:t>–</a:t>
            </a:r>
            <a:r>
              <a:rPr b="0" i="1" lang="en-US" sz="2000" spc="-1" strike="noStrike">
                <a:solidFill>
                  <a:srgbClr val="bf1bab"/>
                </a:solidFill>
                <a:latin typeface="Calibri"/>
                <a:ea typeface="Arial"/>
              </a:rPr>
              <a:t> manager</a:t>
            </a:r>
            <a:endParaRPr b="0" lang="en-US" sz="2000" spc="-1" strike="noStrike">
              <a:solidFill>
                <a:srgbClr val="000000"/>
              </a:solidFill>
              <a:latin typeface="Arial"/>
            </a:endParaRPr>
          </a:p>
          <a:p>
            <a:pPr>
              <a:lnSpc>
                <a:spcPct val="15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Calibri"/>
                <a:ea typeface="Arial"/>
              </a:rPr>
              <a:t>Arsen Hayrapetyan </a:t>
            </a:r>
            <a:r>
              <a:rPr b="0" i="1" lang="en-US" sz="2000" spc="-1" strike="noStrike">
                <a:solidFill>
                  <a:srgbClr val="008000"/>
                </a:solidFill>
                <a:latin typeface="Calibri"/>
                <a:ea typeface="Arial"/>
              </a:rPr>
              <a:t>– alternate manager</a:t>
            </a:r>
            <a:endParaRPr b="0" lang="en-US" sz="2000" spc="-1" strike="noStrike">
              <a:solidFill>
                <a:srgbClr val="000000"/>
              </a:solidFill>
              <a:latin typeface="Arial"/>
            </a:endParaRPr>
          </a:p>
          <a:p>
            <a:pPr>
              <a:lnSpc>
                <a:spcPct val="15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Calibri"/>
                <a:ea typeface="Arial"/>
              </a:rPr>
              <a:t>Narine Manukyan </a:t>
            </a:r>
            <a:r>
              <a:rPr b="0" i="1" lang="en-US" sz="2000" spc="-1" strike="noStrike">
                <a:solidFill>
                  <a:srgbClr val="008000"/>
                </a:solidFill>
                <a:latin typeface="Calibri"/>
                <a:ea typeface="Arial"/>
              </a:rPr>
              <a:t>– senior operator</a:t>
            </a:r>
            <a:endParaRPr b="0" lang="en-US" sz="2000" spc="-1" strike="noStrike">
              <a:solidFill>
                <a:srgbClr val="000000"/>
              </a:solidFill>
              <a:latin typeface="Arial"/>
            </a:endParaRPr>
          </a:p>
          <a:p>
            <a:pPr>
              <a:lnSpc>
                <a:spcPct val="150000"/>
              </a:lnSpc>
              <a:buClr>
                <a:srgbClr val="bf1ba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f1bab"/>
                </a:solidFill>
                <a:latin typeface="Calibri"/>
                <a:ea typeface="Arial"/>
              </a:rPr>
              <a:t>Armenuhi Abramyan </a:t>
            </a:r>
            <a:r>
              <a:rPr b="0" i="1" lang="en-US" sz="2000" spc="-1" strike="noStrike">
                <a:solidFill>
                  <a:srgbClr val="bf1bab"/>
                </a:solidFill>
                <a:latin typeface="Calibri"/>
                <a:ea typeface="Arial"/>
              </a:rPr>
              <a:t>– operator</a:t>
            </a:r>
            <a:endParaRPr b="0" lang="en-US" sz="2000" spc="-1" strike="noStrike">
              <a:solidFill>
                <a:srgbClr val="000000"/>
              </a:solidFill>
              <a:latin typeface="Arial"/>
            </a:endParaRPr>
          </a:p>
          <a:p>
            <a:pPr>
              <a:lnSpc>
                <a:spcPct val="150000"/>
              </a:lnSpc>
              <a:buClr>
                <a:srgbClr val="bf1ba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f1bab"/>
                </a:solidFill>
                <a:latin typeface="Calibri"/>
                <a:ea typeface="Arial"/>
              </a:rPr>
              <a:t>Vardanush Papikyan </a:t>
            </a:r>
            <a:r>
              <a:rPr b="0" i="1" lang="en-US" sz="2000" spc="-1" strike="noStrike">
                <a:solidFill>
                  <a:srgbClr val="bf1bab"/>
                </a:solidFill>
                <a:latin typeface="Calibri"/>
                <a:ea typeface="Arial"/>
              </a:rPr>
              <a:t>– operator</a:t>
            </a:r>
            <a:endParaRPr b="0" lang="en-US" sz="2000" spc="-1" strike="noStrike">
              <a:solidFill>
                <a:srgbClr val="000000"/>
              </a:solidFill>
              <a:latin typeface="Arial"/>
            </a:endParaRPr>
          </a:p>
        </p:txBody>
      </p:sp>
      <p:sp>
        <p:nvSpPr>
          <p:cNvPr id="1049" name="TextBox 5"/>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Updates: ArmeSFo CA personnel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Slide Number Placeholder 2"/>
          <p:cNvSpPr/>
          <p:nvPr/>
        </p:nvSpPr>
        <p:spPr>
          <a:xfrm>
            <a:off x="8271000" y="6437160"/>
            <a:ext cx="761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3408-0EDC-40EA-BDFC-8B8FF685269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51" name="TextBox 6"/>
          <p:cNvSpPr/>
          <p:nvPr/>
        </p:nvSpPr>
        <p:spPr>
          <a:xfrm>
            <a:off x="179280" y="1214280"/>
            <a:ext cx="8640720" cy="25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ugust 2007 ArmesFo CA established first RA unit for the users working in any structure of National Academy of Sciences of the Republic of Armenia (NAS RA), the largest in Armenia network of scientific institutions – </a:t>
            </a:r>
            <a:r>
              <a:rPr b="1" lang="en-US" sz="2000" spc="-1" strike="noStrike" u="sng">
                <a:solidFill>
                  <a:srgbClr val="bf1bab"/>
                </a:solidFill>
                <a:uFillTx/>
                <a:latin typeface="Calibri"/>
              </a:rPr>
              <a:t>RA of ArmeSFo CA in NAS RA</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alibri"/>
              </a:rPr>
              <a:t>In October 2010 ArmeSFo CA established second RA unit for the users working in the other Armenian organizations – </a:t>
            </a:r>
            <a:r>
              <a:rPr b="1" lang="en-US" sz="2000" spc="-1" strike="noStrike" u="sng">
                <a:solidFill>
                  <a:srgbClr val="bf1bab"/>
                </a:solidFill>
                <a:uFillTx/>
                <a:latin typeface="Calibri"/>
              </a:rPr>
              <a:t>RA of ArmeSFo CA in ArmeSFo</a:t>
            </a:r>
            <a:endParaRPr b="0" lang="en-US" sz="2000" spc="-1" strike="noStrike">
              <a:solidFill>
                <a:srgbClr val="000000"/>
              </a:solidFill>
              <a:latin typeface="Arial"/>
            </a:endParaRPr>
          </a:p>
        </p:txBody>
      </p:sp>
      <p:sp>
        <p:nvSpPr>
          <p:cNvPr id="1052" name="TextBox 7"/>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Updates: New RA and new instructions</a:t>
            </a:r>
            <a:endParaRPr b="0" lang="en-US" sz="3600" spc="-1" strike="noStrike">
              <a:solidFill>
                <a:srgbClr val="000000"/>
              </a:solidFill>
              <a:latin typeface="Arial"/>
            </a:endParaRPr>
          </a:p>
        </p:txBody>
      </p:sp>
      <p:sp>
        <p:nvSpPr>
          <p:cNvPr id="1053" name="TextBox 8"/>
          <p:cNvSpPr/>
          <p:nvPr/>
        </p:nvSpPr>
        <p:spPr>
          <a:xfrm>
            <a:off x="1143000" y="4857840"/>
            <a:ext cx="600084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rmeSFo CA does not fulfill anymore the duties of RA.</a:t>
            </a:r>
            <a:endParaRPr b="0" lang="en-US" sz="1800" spc="-1" strike="noStrike">
              <a:solidFill>
                <a:srgbClr val="000000"/>
              </a:solidFill>
              <a:latin typeface="Arial"/>
            </a:endParaRPr>
          </a:p>
        </p:txBody>
      </p:sp>
      <p:sp>
        <p:nvSpPr>
          <p:cNvPr id="1054" name="TextBox 9"/>
          <p:cNvSpPr/>
          <p:nvPr/>
        </p:nvSpPr>
        <p:spPr>
          <a:xfrm>
            <a:off x="285840" y="3857760"/>
            <a:ext cx="86407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ach RA, detailed certificate request instructions for subscribers have bee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blish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534960" y="1213920"/>
            <a:ext cx="8609040" cy="2643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cc"/>
                </a:solidFill>
                <a:uFillTx/>
                <a:latin typeface="Calibri"/>
                <a:ea typeface="Arial"/>
              </a:rPr>
              <a:t>Major</a:t>
            </a:r>
            <a:r>
              <a:rPr b="1" i="1" lang="en-US" sz="2000" spc="-1" strike="noStrike">
                <a:solidFill>
                  <a:srgbClr val="0000cc"/>
                </a:solidFill>
                <a:latin typeface="Calibri"/>
                <a:ea typeface="Arial"/>
              </a:rPr>
              <a:t> changes concern  a very detailed specification of:</a:t>
            </a:r>
            <a:endParaRPr b="0" lang="en-US" sz="2000" spc="-1" strike="noStrike">
              <a:solidFill>
                <a:srgbClr val="000000"/>
              </a:solidFill>
              <a:latin typeface="Calibri"/>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Calibri"/>
              </a:rPr>
              <a:t>RA obligations;</a:t>
            </a:r>
            <a:endParaRPr b="0" lang="en-US" sz="2000" spc="-1" strike="noStrike">
              <a:solidFill>
                <a:srgbClr val="000000"/>
              </a:solidFill>
              <a:latin typeface="Calibri"/>
            </a:endParaRPr>
          </a:p>
          <a:p>
            <a:pPr marL="343080" indent="-343080">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Calibri"/>
              </a:rPr>
              <a:t>Subscriber obligations;</a:t>
            </a:r>
            <a:endParaRPr b="0" lang="en-US" sz="2000" spc="-1" strike="noStrike">
              <a:solidFill>
                <a:srgbClr val="000000"/>
              </a:solidFill>
              <a:latin typeface="Calibri"/>
            </a:endParaRPr>
          </a:p>
          <a:p>
            <a:pPr marL="343080" indent="-343080">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Calibri"/>
              </a:rPr>
              <a:t>Re-keing procedure;</a:t>
            </a:r>
            <a:endParaRPr b="0" lang="en-US" sz="2000" spc="-1" strike="noStrike">
              <a:solidFill>
                <a:srgbClr val="000000"/>
              </a:solidFill>
              <a:latin typeface="Calibri"/>
            </a:endParaRPr>
          </a:p>
          <a:p>
            <a:pPr marL="343080" indent="-343080">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Calibri"/>
              </a:rPr>
              <a:t>Revocation request  procedu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Calibri"/>
                <a:ea typeface="Arial"/>
              </a:rPr>
              <a:t>These changes reflect the experience of our work with Armenian RAs and subscribers.</a:t>
            </a:r>
            <a:endParaRPr b="0" lang="en-US" sz="2000" spc="-1" strike="noStrike">
              <a:solidFill>
                <a:srgbClr val="000000"/>
              </a:solidFill>
              <a:latin typeface="Calibri"/>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6" name="Slide Number Placeholder 5"/>
          <p:cNvSpPr/>
          <p:nvPr/>
        </p:nvSpPr>
        <p:spPr>
          <a:xfrm>
            <a:off x="8253360" y="6421320"/>
            <a:ext cx="7621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2E485-6387-4CAE-B932-C088A6EB69E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57" name="TextBox 7"/>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Updates: Next version of CP/CPS </a:t>
            </a:r>
            <a:endParaRPr b="0" lang="en-US" sz="3600" spc="-1" strike="noStrike">
              <a:solidFill>
                <a:srgbClr val="000000"/>
              </a:solidFill>
              <a:latin typeface="Arial"/>
            </a:endParaRPr>
          </a:p>
        </p:txBody>
      </p:sp>
      <p:sp>
        <p:nvSpPr>
          <p:cNvPr id="1058" name="TextBox 5"/>
          <p:cNvSpPr/>
          <p:nvPr/>
        </p:nvSpPr>
        <p:spPr>
          <a:xfrm>
            <a:off x="571680" y="4162320"/>
            <a:ext cx="7429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w CP/CPS is ready, however its publication is pending mainly because of a necessity to prepare and publish simultaneously the corresponding detailed instructions for ArmeSFo CA operators, RAs and subscrib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Slide Number Placeholder 2"/>
          <p:cNvSpPr/>
          <p:nvPr/>
        </p:nvSpPr>
        <p:spPr>
          <a:xfrm>
            <a:off x="8346960" y="6448320"/>
            <a:ext cx="7621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E008-F929-43A3-839D-E5E3A8F80D0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60" name="TextBox 4"/>
          <p:cNvSpPr/>
          <p:nvPr/>
        </p:nvSpPr>
        <p:spPr>
          <a:xfrm>
            <a:off x="500040" y="857160"/>
            <a:ext cx="8286840" cy="506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c00000"/>
                </a:solidFill>
                <a:latin typeface="Calibri"/>
              </a:rPr>
              <a:t>ArmeSFo CA self-audit was done back in December 2007 following to audit guidelines version 1.0-b4 </a:t>
            </a:r>
            <a:r>
              <a:rPr b="0" lang="en-US" sz="1800" spc="-1" strike="noStrike">
                <a:solidFill>
                  <a:srgbClr val="000000"/>
                </a:solidFill>
                <a:latin typeface="Calibri"/>
              </a:rPr>
              <a:t>(</a:t>
            </a:r>
            <a:r>
              <a:rPr b="0" lang="en-US" sz="1600" spc="-1" strike="noStrike">
                <a:solidFill>
                  <a:srgbClr val="000000"/>
                </a:solidFill>
                <a:latin typeface="Calibri"/>
              </a:rPr>
              <a:t>https://forge.gridforum.org/sf/go/doc4858</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b050"/>
                </a:solidFill>
                <a:latin typeface="Calibri"/>
              </a:rPr>
              <a:t>The results were presented at 12th EUGridPMA meeting in Amsterdam in January 2008 </a:t>
            </a:r>
            <a:r>
              <a:rPr b="0" lang="en-US" sz="1800" spc="-1" strike="noStrike">
                <a:solidFill>
                  <a:srgbClr val="000000"/>
                </a:solidFill>
                <a:latin typeface="Calibri"/>
              </a:rPr>
              <a:t>(</a:t>
            </a:r>
            <a:r>
              <a:rPr b="0" lang="en-US" sz="1600" spc="-1" strike="noStrike">
                <a:solidFill>
                  <a:srgbClr val="000000"/>
                </a:solidFill>
                <a:latin typeface="Calibri"/>
              </a:rPr>
              <a:t>https://www.eugridpma.org/agenda/archive-a073/ArmeSFo_CA_updates_and_self-audit.ppt</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In 2008 EUGridPMA appointed David O'Callaghan as a reviewer of ArmeSFo CA audit res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9e7800"/>
                </a:solidFill>
                <a:latin typeface="Calibri"/>
              </a:rPr>
              <a:t>In June 2009, the self-audit results were discussed in length with Jens Jensen who visited Armenia. Before the visit, it was agreed with David Groep that Jens would be a co-reviewer for the self-aud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Comments and suggestions by Jens have been taken into account and Arsen Hayrapetyan presented a status update at 18th EUGridPMA meeting in Dublin in January 2010 via videolink </a:t>
            </a:r>
            <a:r>
              <a:rPr b="0" lang="en-US" sz="1800" spc="-1" strike="noStrike">
                <a:solidFill>
                  <a:srgbClr val="7030a0"/>
                </a:solidFill>
                <a:latin typeface="Calibri"/>
              </a:rPr>
              <a:t>(</a:t>
            </a:r>
            <a:r>
              <a:rPr b="0" lang="en-US" sz="1000" spc="-1" strike="noStrike">
                <a:solidFill>
                  <a:srgbClr val="7030a0"/>
                </a:solidFill>
                <a:latin typeface="Calibri"/>
              </a:rPr>
              <a:t>http://agenda.nikhef.nl/getFile.py/access?contribId=9&amp;resId=1&amp;materialId=slides&amp;confId=914</a:t>
            </a:r>
            <a:r>
              <a:rPr b="0" lang="en-US" sz="1800" spc="-1" strike="noStrike">
                <a:solidFill>
                  <a:srgbClr val="7030a0"/>
                </a:solidFill>
                <a:latin typeface="Calibri"/>
              </a:rPr>
              <a:t>). </a:t>
            </a:r>
            <a:r>
              <a:rPr b="1" lang="en-US" sz="1800" spc="-1" strike="noStrike">
                <a:solidFill>
                  <a:srgbClr val="7030a0"/>
                </a:solidFill>
                <a:latin typeface="Calibri"/>
              </a:rPr>
              <a:t>Jens  commented on the self-audit after the talk and gave (orally) a (positive) short summary of his review.</a:t>
            </a:r>
            <a:endParaRPr b="0" lang="en-US" sz="1800" spc="-1" strike="noStrike">
              <a:solidFill>
                <a:srgbClr val="000000"/>
              </a:solidFill>
              <a:latin typeface="Arial"/>
            </a:endParaRPr>
          </a:p>
        </p:txBody>
      </p:sp>
      <p:sp>
        <p:nvSpPr>
          <p:cNvPr id="1061" name="TextBox 17"/>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Status of self- and external audi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Slide Number Placeholder 2"/>
          <p:cNvSpPr/>
          <p:nvPr/>
        </p:nvSpPr>
        <p:spPr>
          <a:xfrm>
            <a:off x="8273880" y="6377040"/>
            <a:ext cx="76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A197-945F-4DE3-BEF7-F795EE0B0F2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63" name="Text Box 5"/>
          <p:cNvSpPr/>
          <p:nvPr/>
        </p:nvSpPr>
        <p:spPr>
          <a:xfrm>
            <a:off x="108000" y="1143000"/>
            <a:ext cx="8785080" cy="393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 the CA’s openssl.cnf new section is ad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 v3_OCSP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basicConstraints = CA:FALSE</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keyUsage = nonRepudiation, digitalSignature, keyEnciphermen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extendedKeyUsage = OCSPSign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The following extension</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authorityInfoAccess</a:t>
            </a:r>
            <a:r>
              <a:rPr b="1" i="1" lang="en-US" sz="1600" spc="-1" strike="noStrike">
                <a:solidFill>
                  <a:srgbClr val="000099"/>
                </a:solidFill>
                <a:latin typeface="Courier New"/>
              </a:rPr>
              <a:t> </a:t>
            </a:r>
            <a:r>
              <a:rPr b="1" i="1" lang="ru-RU" sz="1600" spc="-1" strike="noStrike">
                <a:solidFill>
                  <a:srgbClr val="000099"/>
                </a:solidFill>
                <a:latin typeface="Courier New"/>
              </a:rPr>
              <a:t>=</a:t>
            </a:r>
            <a:r>
              <a:rPr b="1" i="1" lang="en-US" sz="1600" spc="-1" strike="noStrike">
                <a:solidFill>
                  <a:srgbClr val="000099"/>
                </a:solidFill>
                <a:latin typeface="Courier New"/>
              </a:rPr>
              <a:t> </a:t>
            </a:r>
            <a:r>
              <a:rPr b="1" i="1" lang="ru-RU" sz="1600" spc="-1" strike="noStrike">
                <a:solidFill>
                  <a:srgbClr val="000099"/>
                </a:solidFill>
                <a:latin typeface="Courier New"/>
              </a:rPr>
              <a:t>OCSP;URI:http://armgrid3.yerphi.am:8888</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s added to the sections</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 usr_cert ]</a:t>
            </a:r>
            <a:r>
              <a:rPr b="1" i="1" lang="en-US" sz="1600" spc="-1" strike="noStrike">
                <a:solidFill>
                  <a:srgbClr val="000099"/>
                </a:solidFill>
                <a:latin typeface="Courier New"/>
              </a:rPr>
              <a:t>,</a:t>
            </a:r>
            <a:r>
              <a:rPr b="1" i="1" lang="ru-RU" sz="1600" spc="-1" strike="noStrike">
                <a:solidFill>
                  <a:srgbClr val="000099"/>
                </a:solidFill>
                <a:latin typeface="Courier New"/>
              </a:rPr>
              <a:t>[ srv_cert ]</a:t>
            </a:r>
            <a:r>
              <a:rPr b="1" i="1" lang="en-US" sz="1600" spc="-1" strike="noStrike">
                <a:solidFill>
                  <a:srgbClr val="000099"/>
                </a:solidFill>
                <a:latin typeface="Courier New"/>
              </a:rPr>
              <a:t>,</a:t>
            </a:r>
            <a:r>
              <a:rPr b="1" i="1" lang="ru-RU" sz="1600" spc="-1" strike="noStrike">
                <a:solidFill>
                  <a:srgbClr val="000099"/>
                </a:solidFill>
                <a:latin typeface="Courier New"/>
              </a:rPr>
              <a:t>[ service_cert</a:t>
            </a:r>
            <a:r>
              <a:rPr b="1" i="1" lang="ru-RU" sz="1600" spc="-1" strike="noStrike">
                <a:solidFill>
                  <a:srgbClr val="000099"/>
                </a:solidFill>
                <a:latin typeface="Arial"/>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504d"/>
                </a:solidFill>
                <a:uFillTx/>
                <a:latin typeface="Arial"/>
              </a:rPr>
              <a:t>One has the following extension in EE certificates</a:t>
            </a:r>
            <a:r>
              <a:rPr b="0" lang="en-US" sz="1800" spc="-1" strike="noStrike">
                <a:solidFill>
                  <a:srgbClr val="c0504d"/>
                </a:solidFill>
                <a:latin typeface="Arial"/>
              </a:rPr>
              <a:t>:</a:t>
            </a:r>
            <a:r>
              <a:rPr b="0" lang="ru-RU" sz="1800" spc="-1" strike="noStrike">
                <a:solidFill>
                  <a:srgbClr val="c0504d"/>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Authority Information Access:</a:t>
            </a:r>
            <a:br>
              <a:rPr sz="1600"/>
            </a:br>
            <a:r>
              <a:rPr b="1" i="1" lang="ru-RU" sz="1600" spc="-1" strike="noStrike">
                <a:solidFill>
                  <a:srgbClr val="000099"/>
                </a:solidFill>
                <a:latin typeface="Courier New"/>
              </a:rPr>
              <a:t>            </a:t>
            </a:r>
            <a:r>
              <a:rPr b="1" i="1" lang="ru-RU" sz="1800" spc="-1" strike="noStrike">
                <a:solidFill>
                  <a:srgbClr val="000099"/>
                </a:solidFill>
                <a:latin typeface="Courier New"/>
              </a:rPr>
              <a:t>OCSP - URI:http://armgrid3.yerphi.am:8888</a:t>
            </a:r>
            <a:r>
              <a:rPr b="1" i="1" lang="ru-RU" sz="1800" spc="-1" strike="noStrike">
                <a:solidFill>
                  <a:srgbClr val="000099"/>
                </a:solidFill>
                <a:latin typeface="Arial"/>
              </a:rPr>
              <a:t> </a:t>
            </a:r>
            <a:endParaRPr b="0" lang="en-US" sz="1800" spc="-1" strike="noStrike">
              <a:solidFill>
                <a:srgbClr val="000000"/>
              </a:solidFill>
              <a:latin typeface="Arial"/>
            </a:endParaRPr>
          </a:p>
        </p:txBody>
      </p:sp>
      <p:sp>
        <p:nvSpPr>
          <p:cNvPr id="1064" name="TextBox 4"/>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OCSP Configu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6360" y="6308640"/>
            <a:ext cx="8712000" cy="54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Slide Number Placeholder 2"/>
          <p:cNvSpPr/>
          <p:nvPr/>
        </p:nvSpPr>
        <p:spPr>
          <a:xfrm>
            <a:off x="8273880" y="6377040"/>
            <a:ext cx="76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DBF4-98AD-4F99-B32F-6568C248530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67" name="TextBox 5"/>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Test certificate with SHA256 and OCSP</a:t>
            </a:r>
            <a:endParaRPr b="0" lang="en-US" sz="3600" spc="-1" strike="noStrike">
              <a:solidFill>
                <a:srgbClr val="000000"/>
              </a:solidFill>
              <a:latin typeface="Arial"/>
            </a:endParaRPr>
          </a:p>
        </p:txBody>
      </p:sp>
      <p:sp>
        <p:nvSpPr>
          <p:cNvPr id="1068" name="Vertical Scroll 6"/>
          <p:cNvSpPr/>
          <p:nvPr/>
        </p:nvSpPr>
        <p:spPr>
          <a:xfrm>
            <a:off x="1571760" y="642960"/>
            <a:ext cx="5979960" cy="6035760"/>
          </a:xfrm>
          <a:prstGeom prst="verticalScroll">
            <a:avLst>
              <a:gd name="adj" fmla="val 2805"/>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ersion: 3 (0x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erial Number: 181 (0xb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ignature Algorithm</a:t>
            </a:r>
            <a:r>
              <a:rPr b="1" lang="en-US" sz="1400" spc="-1" strike="noStrike">
                <a:solidFill>
                  <a:srgbClr val="c00000"/>
                </a:solidFill>
                <a:latin typeface="Calibri"/>
              </a:rPr>
              <a:t>: </a:t>
            </a:r>
            <a:r>
              <a:rPr b="1" lang="en-US" sz="1600" spc="-1" strike="noStrike">
                <a:solidFill>
                  <a:srgbClr val="c00000"/>
                </a:solidFill>
                <a:latin typeface="Calibri"/>
              </a:rPr>
              <a:t>sha256WithRSAEncry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ssuer: C=AM, O=ArmeSFo, CN=ArmeSFo C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Validit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Not Before: Jun 14 12:17:43 2012 GM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Not After : Jun 14 12:17:43 2013 GM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ubject: C=AM, O=ArmeSFo, O=YerPhI, OU=Experimental Division, CN=Hakob Hakobya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ubject Public Key Inf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ublic Key Algorithm: rsaEncry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RSA Public Key: (1024 bi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Modulus (1024 bi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Exponent: 65537 (0x1000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extensi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Basic Constraints: critica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A:FALS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Key Usage: critica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Digital Signature, Key Encipherment, Data Encipher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Extended Key Usag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LS Web Client Authentication, E-mail Protec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Subject Alternative Nam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email:hakob@gmail.co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Certificate Polic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olicy: 1.3.6.1.4.1.17306.8.1.0.7</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olicy: 1.2.840.113612.5.2.2.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CRL Distribution Point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URI:http://armesfoca-crl.fzk.de/crl.pe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            </a:t>
            </a:r>
            <a:r>
              <a:rPr b="1" lang="en-US" sz="1600" spc="-1" strike="noStrike">
                <a:solidFill>
                  <a:srgbClr val="002060"/>
                </a:solidFill>
                <a:latin typeface="Calibri"/>
              </a:rPr>
              <a:t>Authority Information Acc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rPr>
              <a:t>                </a:t>
            </a:r>
            <a:r>
              <a:rPr b="1" lang="en-US" sz="1600" spc="-1" strike="noStrike">
                <a:solidFill>
                  <a:srgbClr val="002060"/>
                </a:solidFill>
                <a:latin typeface="Calibri"/>
              </a:rPr>
              <a:t>OCSP - URI:http://armgrid3.yerphi.am:888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ignature Algorithm: sha256WithRSAEncry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5T05:26:32Z</dcterms:created>
  <dc:creator>User</dc:creator>
  <dc:description/>
  <dc:language>en-US</dc:language>
  <cp:lastModifiedBy>AMIN</cp:lastModifiedBy>
  <dcterms:modified xsi:type="dcterms:W3CDTF">2012-09-11T05:55:19Z</dcterms:modified>
  <cp:revision>256</cp:revision>
  <dc:subject/>
  <dc:title>ArmeSFo CA update (including self-audit)</dc:title>
</cp:coreProperties>
</file>