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0B8-F21F-4854-BE48-576A69C0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CEA-57D4-4D2C-AD06-1FFD07D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49-8033-4033-9672-270D9E8A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C1F-E359-4EC6-AE5A-DED9DEF5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FB8-7D7C-4E24-BE3B-8C03FF9F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22C-5A6D-4947-9E9F-923105E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5BF-4F1E-4943-84BB-DC5C6955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49F-7857-4DB1-A10C-C736EBE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F4D-5F51-4F3C-8016-7254B16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226-19BA-4AFC-9F4C-F60C01B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1CF-1D82-4044-BD18-BB39066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AA4-672C-4E94-AD36-1C32C7A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5B97-7317-4AA1-9691-9A83C04B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KGrid CA Self-Audi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838080" y="371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eel-ur-Rehm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soor Sheik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F57-18D1-4997-A9B2-26BDC856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maintain the archive of these records in an auditable form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 RA does not maintain such records in auditable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452-193F-4A40-9D74-AC1D8608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CA system completely off-line or one-line which uses FIPS 140-2 level 3 capable HSM operated in FIPS 140-2 level 3 mode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machine is completely off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efore, We do not have H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0DB-9025-41DE-A53E-01095BD8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on-line CA provide a log of issued certificates and a signed revocation list? Is the log tamper-protect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server is not an online mach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6CF-8DBB-4980-8DE7-F3D0A474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new EE certificates signed by a new cryptographic data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, new certificates are signed by new cryptographic 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old but still valid certificate available if there are still valid certificates signed by the old private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, as the transition period is not due yet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, old certificates and old key is not valid any m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69D-0F66-45C1-AE24-1B8FB5B8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is the re-new process describ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do not have a renewal policy for certificates as PK-GRID CA does not renew certificates rather it only reke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19320" y="2666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Suggestions are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923-AC08-47FF-A897-C2046A49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EB7-E493-4456-9978-C54C92E1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ief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K-Grid CA was ﬁrst presented and accredited dur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uGridPMA meeting (held in September 2004) at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 updates unt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hine specs, kernel version, openss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ecure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vely restrictive access privileges among multiple physica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4D13-BBC5-4E17-9D19-04E9DCC1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udi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guidelines used: GFD.125 (dated: March 31,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olicy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: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18B-4BD8-45C1-98E4-92FB8333F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a CRL issued at least 7 days before expiration (for off-line) or 3 days before expiration (for on-line)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missed it a couple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2C97-5B92-4D0E-BE59-20062BEA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repository must be run at least on a best-effort basis, with an intended availability of 24x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(CA item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had few un-announced down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AFB-49D5-415E-98F2-A29A2F459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ver the entire lifetime of the CA it must not be linked to any other ent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does the CA guarantee this requirement?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RA item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guarantee is not explicitly mentioned in the CP/C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2A4-E820-4047-97ED-09B6646C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”: 1/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CA should perform operational audits of the CA/RA staff at least once per yea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4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has not been practiced regular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4B7D-FFD0-46C1-9890-E02C3B832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CA or RA have documented evidence on retaining the same identity over time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need to have a documented evid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n retaining the same identity over ti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AE9C-E7C8-42A2-B035-FCF596CE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record and archive all requests and confirmation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6:26:38Z</dcterms:created>
  <dc:creator>NCP</dc:creator>
  <dc:description/>
  <dc:language>en-US</dc:language>
  <cp:lastModifiedBy>Mansoor-ul-Islam</cp:lastModifiedBy>
  <dcterms:modified xsi:type="dcterms:W3CDTF">2012-09-11T07:54:52Z</dcterms:modified>
  <cp:revision>73</cp:revision>
  <dc:subject/>
  <dc:title>PKGrid CA self Audit</dc:title>
</cp:coreProperties>
</file>