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36751C7-BA6B-4C81-B00C-8896D5607C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C97A8EE-AC3B-48E0-89C6-E0110BF830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01734BE6-9DB0-4522-AE40-4EF5EBA77B6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4F33CD5-6B71-4E60-9240-2E54588B970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E457BAB2-EF35-4CAB-B378-195D97260EC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F3E2760-43C0-4005-BB7B-67C43CA958A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8D35CC12-D02B-4572-A7DC-3BC57379148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81E4C67A-D473-4EC0-892B-F5AF18345E8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E711D42A-938D-4D1A-840B-B1A3BC41167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CF09B249-AACE-40C0-A5DF-EE7E9EA6C77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4FF4FB7-3A9A-4D83-A12E-31B870FA207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DD387478-38EB-4293-BD40-2625D1366BE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481E3234-4AD5-4429-AFF6-630F41D1B03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6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SHA-2 statement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10-12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yon, FR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HA-2 conclusions from Ly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recommendation is that CAs will not issue general availability SHA-2 certs before </a:t>
            </a:r>
            <a:r>
              <a:rPr b="1" lang="en-US" sz="1600" spc="-1" strike="noStrike">
                <a:solidFill>
                  <a:srgbClr val="000066"/>
                </a:solidFill>
                <a:latin typeface="Lucida Sans"/>
              </a:rPr>
              <a:t>1 August 2013 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[RP datum point]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SHA-1 is broken, revocation and transition will be immediate as inspired by the categorization in the HASHRAT document (seconds to few months)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scheduled end of life for SHA-1 EECs is 1 September 2014, meaning that SHA-1 EECs SHOULD have a validUntil date no later than that date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there are CAs with EECs having a later date, the primary mitigation of the risk in case SHA-1 is broken will be removal of said CA from the IGTF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CAs SHOULD have SHA-2 issuing capability by October 1</a:t>
            </a:r>
            <a:r>
              <a:rPr b="0" lang="en-US" sz="1600" spc="-1" strike="noStrike" baseline="30000">
                <a:solidFill>
                  <a:srgbClr val="000066"/>
                </a:solidFill>
                <a:latin typeface="Lucida Sans"/>
              </a:rPr>
              <a:t>st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 201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o need to move any existing CA self-signed root certs to SHA-2 if we rely only on the distributed metadata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nce intermediate CAs are distributed but the distribution may be superseded by dynamic CA chains (subject to the namespace constraints) … SHOULD be SHA-2 after 31 March 2014, and if SHA-1 it MUST be revoked and re-issued if and when SHA-1 is broken (like for EECs).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Once broken, the new intermediates will be distributed or both the intermediates and root removed from the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ew CA certs generated after April 2014 SHOULD be SHA-512 from, noting that existing (self-signed) CA certs MAY be SHA-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SHA-256 and SHA-512, and not 224 nor 384. Each CA MAY pick its own varian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CRLs on the default CDP SHOULD be SHA-1 until at least 1 September 2014. CAs MAY start distributing SHA-2 based CRLs after that date, and MAY have SHA-2 based CRLs available on alternate CDPs after 1 October 2012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If same subject is signed twice (once SHA-1 once SHA-2) must use different cert serial numbers. Same is true of CRLs with same data. Must be different sequence number. 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Breakage of the SHA-1 algorithm in a way that allows trivial generation of plaintexts with a specific hash necessitates removal of SHA-1 algo support. This is a software vulnerability issue outside of our scope and SHOULD be dealt with using regular vulnerability mechanisms of the RPs. It then WILL necessitate SHA-2 based root certs as well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The ‘end-of-life’ SHA-2 migration recommendation does not apply to certificates with a short life time (for SLCS CAs) until at least 1 September 2014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is recommendation does not address attribute authori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CSP will continue to use SHA-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9-10T15:41:24Z</dcterms:modified>
  <cp:revision>603</cp:revision>
  <dc:subject/>
  <dc:title>European Grid Policy Management Authority</dc:title>
</cp:coreProperties>
</file>