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213b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9779-CB5B-4210-BB2C-6DC28876714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BEF2-B314-4DDC-BB58-A4D38BD4203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 that “a new host cert would need to be propagated to all users” (CA cert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 Illinois has no plans to support IPv6 – would have to find an external provider to host if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AGPMA have a procedure to test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help with OpenCA OCSP responder set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512 and 256 now – no support planned for 384/224 vari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run OCSP as needed over last 8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 capable but not on IPv6 supported network, CRL available via IPv6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7920-A3B0-4780-BA5A-261BAE6D813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75DF-0DDD-4960-B0AB-52C53CD67F6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92CC-C273-41B1-BAC4-E52904CCA80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7517-0E55-4149-8A9C-166080B3DF1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1D86-67B4-4932-B27B-D3D8409FE10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7E80-A84A-4E08-8142-943BC58D7FD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2F55-6F72-472F-98F6-EF55F30AF0F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BB95-E380-4014-BE1D-60A1B0A8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13A9-40E7-4E44-945B-A9EE3DF3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4C61-673A-4407-97E7-864C5135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22C3-1709-4D82-AC9C-69BC37E5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8F57-1242-40D4-A8B6-420D0D6B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9803-8C93-4A78-A1E4-65DC5E6F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1CB6-7F0C-42FC-BB57-3950F240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FEDB-B133-42CC-A0A6-3B5153EB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ED7B-89D6-4D26-9DC5-1A80A648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8C64-DF01-4BC4-9E40-2A905A16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AD78-501A-453D-AFBF-B16397BA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9929-12E0-44E9-8D0E-F7C30B38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213b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>
            <a:off x="1187280" y="981000"/>
            <a:ext cx="669780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5026-CB6F-4186-9860-C5D5DFB0CAE0}" type="slidenum">
              <a:rPr b="1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TAGPMA-med"/>
          <p:cNvPicPr/>
          <p:nvPr/>
        </p:nvPicPr>
        <p:blipFill>
          <a:blip r:embed="rId2"/>
          <a:stretch/>
        </p:blipFill>
        <p:spPr>
          <a:xfrm>
            <a:off x="324000" y="260280"/>
            <a:ext cx="2011320" cy="1371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213b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A2C9-E93A-49EA-8EE9-DF052BF1DBF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dsimmel@psc.edu" TargetMode="External"/><Relationship Id="rId2" Type="http://schemas.openxmlformats.org/officeDocument/2006/relationships/hyperlink" Target="mailto:Scott@DigiCert.com" TargetMode="External"/><Relationship Id="rId3" Type="http://schemas.openxmlformats.org/officeDocument/2006/relationships/hyperlink" Target="mailto:astolk@ula.ve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gtf.net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2923920"/>
            <a:ext cx="55450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09213b"/>
                </a:solidFill>
                <a:latin typeface="Impact"/>
              </a:rPr>
              <a:t>TAGPMA Update</a:t>
            </a:r>
            <a:br>
              <a:rPr sz="3200"/>
            </a:br>
            <a:r>
              <a:rPr b="0" lang="en-GB" sz="2800" spc="-1" strike="noStrike">
                <a:solidFill>
                  <a:srgbClr val="0000ff"/>
                </a:solidFill>
                <a:latin typeface="Impact"/>
              </a:rPr>
              <a:t>Derek Simmel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ff"/>
                </a:solidFill>
                <a:latin typeface="Impact"/>
              </a:rPr>
              <a:t>presented by Dave Kelsey</a:t>
            </a:r>
            <a:br>
              <a:rPr sz="2800"/>
            </a:br>
            <a:endParaRPr b="0" lang="en-US" sz="28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0560" y="4941720"/>
            <a:ext cx="8713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26</a:t>
            </a:r>
            <a:r>
              <a:rPr b="0" lang="en-GB" sz="2800" spc="-1" strike="noStrike" baseline="30000">
                <a:solidFill>
                  <a:srgbClr val="008000"/>
                </a:solidFill>
                <a:latin typeface="Impact"/>
              </a:rPr>
              <a:t>th</a:t>
            </a: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 EUGridPMA Meeting</a:t>
            </a:r>
            <a:br>
              <a:rPr sz="2800"/>
            </a:b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Lyon, F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Impact"/>
              </a:rPr>
              <a:t>September 10-12, 20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4572000" y="765000"/>
            <a:ext cx="3527280" cy="1287000"/>
            <a:chOff x="4572000" y="765000"/>
            <a:chExt cx="3527280" cy="1287000"/>
          </a:xfrm>
        </p:grpSpPr>
        <p:sp>
          <p:nvSpPr>
            <p:cNvPr id="93" name="WordArt 5"/>
            <p:cNvSpPr txBox="1"/>
            <p:nvPr/>
          </p:nvSpPr>
          <p:spPr>
            <a:xfrm>
              <a:off x="4626000" y="7650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4" name="Text Box 6"/>
            <p:cNvSpPr/>
            <p:nvPr/>
          </p:nvSpPr>
          <p:spPr>
            <a:xfrm>
              <a:off x="4572000" y="14094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SHA-2, OCSP, IPv6 Survey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a58"/>
                </a:solidFill>
                <a:latin typeface="Verdana"/>
              </a:rPr>
              <a:t>TAGPMA Authentication Providers were aske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447840">
              <a:spcBef>
                <a:spcPts val="550"/>
              </a:spcBef>
              <a:buClr>
                <a:srgbClr val="244a5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44a58"/>
                </a:solidFill>
                <a:latin typeface="Verdana"/>
              </a:rPr>
              <a:t>SHA2 (SHA-512/384/256/224): When will your CA be able to generate/sign using a SHA2 (as opposed to SHA-1)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447840">
              <a:spcBef>
                <a:spcPts val="550"/>
              </a:spcBef>
              <a:buClr>
                <a:srgbClr val="244a5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447840">
              <a:spcBef>
                <a:spcPts val="550"/>
              </a:spcBef>
              <a:buClr>
                <a:srgbClr val="244a5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44a58"/>
                </a:solidFill>
                <a:latin typeface="Verdana"/>
              </a:rPr>
              <a:t>OCSP: When will your CA be able to provide an OCSP (Online Certificate Status Protocol) servic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447840">
              <a:spcBef>
                <a:spcPts val="550"/>
              </a:spcBef>
              <a:buClr>
                <a:srgbClr val="244a5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447840">
              <a:spcBef>
                <a:spcPts val="550"/>
              </a:spcBef>
              <a:buClr>
                <a:srgbClr val="244a5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44a58"/>
                </a:solidFill>
                <a:latin typeface="Verdana"/>
              </a:rPr>
              <a:t>IPv6: When will your CA's online services (e.g., CRL download server, OCSP service, CA website) be accessible via IPv6 network addressing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SHA-2, OCSP, IPv6 Survey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44480" y="1197000"/>
          <a:ext cx="7655040" cy="5203800"/>
        </p:xfrm>
        <a:graphic>
          <a:graphicData uri="http://schemas.openxmlformats.org/drawingml/2006/table">
            <a:tbl>
              <a:tblPr/>
              <a:tblGrid>
                <a:gridCol w="1914480"/>
                <a:gridCol w="1913040"/>
                <a:gridCol w="1913040"/>
                <a:gridCol w="1914480"/>
              </a:tblGrid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/CA Op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A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CS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Pv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ULAGr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30 Sep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30 Sep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31 Dec 2012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P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ady 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ady 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U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30 Sep 2012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15 Sep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SD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ady 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&lt;1 month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F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ady now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/Dec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LBN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01 Dec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ady 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C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ady 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Ci-Log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default 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DigiC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ady 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in service 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UNL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testing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plan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v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LACGr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31 Dec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 (ye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BrGr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31 Dec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 (ye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GridCan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ady 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planned(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Oct 2012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DOEGri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ady now(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in service(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ady now(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SHA-2, OCSP, IPv6 Survey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a58"/>
                </a:solidFill>
                <a:latin typeface="Verdana"/>
              </a:rPr>
              <a:t>Survey not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46360" indent="-454320">
              <a:spcBef>
                <a:spcPts val="1001"/>
              </a:spcBef>
              <a:buClr>
                <a:srgbClr val="244a58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Concern that “a new host cert would need to be propagated to all users” (CA cert?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6360" indent="-454320">
              <a:spcBef>
                <a:spcPts val="1001"/>
              </a:spcBef>
              <a:buClr>
                <a:srgbClr val="244a58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U Illinois has no plans to support IPv6 – would have to find an external provider to host if nee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6360" indent="-454320">
              <a:spcBef>
                <a:spcPts val="1001"/>
              </a:spcBef>
              <a:buClr>
                <a:srgbClr val="244a58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Does TAGPMA have a procedure to test thi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6360" indent="-454320">
              <a:spcBef>
                <a:spcPts val="1001"/>
              </a:spcBef>
              <a:buClr>
                <a:srgbClr val="244a58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Need help with OpenCA OCSP responder setu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6360" indent="-454320">
              <a:spcBef>
                <a:spcPts val="1001"/>
              </a:spcBef>
              <a:buClr>
                <a:srgbClr val="244a58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testing 512 and 256 now – no support planned for 384/224 vari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6360" indent="-454320">
              <a:spcBef>
                <a:spcPts val="1001"/>
              </a:spcBef>
              <a:buClr>
                <a:srgbClr val="244a58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have run OCSP as needed over last 8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6360" indent="-454320">
              <a:spcBef>
                <a:spcPts val="1001"/>
              </a:spcBef>
              <a:buClr>
                <a:srgbClr val="244a58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CA capable but not on IPv6 supported network, CRL available via IPv6 n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6360" indent="-45432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SHA-2, OCSP, IPv6 Survey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a58"/>
                </a:solidFill>
                <a:latin typeface="Verdana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44a58"/>
                </a:solidFill>
                <a:latin typeface="Verdana"/>
              </a:rPr>
              <a:t>Most TAGPMA CAs are prepared to enable SHA-2 signatures with their infrastructures by December 201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44a58"/>
                </a:solidFill>
                <a:latin typeface="Verdana"/>
              </a:rPr>
              <a:t>Not all plan to support SHA-384 and SHA-22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001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Are these necessar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001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Why not just pick one, e.g., SHA-512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44a58"/>
                </a:solidFill>
                <a:latin typeface="Verdana"/>
              </a:rPr>
              <a:t>Only one TAGPMA CA provides OCSP service now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001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others have no demand for it from their R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44a58"/>
                </a:solidFill>
                <a:latin typeface="Verdana"/>
              </a:rPr>
              <a:t>About half of the TAGPMA CAs have no current plans to support IPv6 (yet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Leadership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Current Offic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Chair: 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Derek Simmel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 (PS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Verdana"/>
                <a:hlinkClick r:id="rId1"/>
              </a:rPr>
              <a:t>dsimmel@psc.ed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Vice Chair: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Scott Rea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 (DigiCert + REB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Verdana"/>
                <a:hlinkClick r:id="rId2"/>
              </a:rPr>
              <a:t>Scott@DigiCer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Secretary: 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Ale Stolk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 (ULAGri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Verdana"/>
                <a:hlinkClick r:id="rId3"/>
              </a:rPr>
              <a:t>astolk@ula.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Membership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87280" y="1125360"/>
          <a:ext cx="7066080" cy="5389920"/>
        </p:xfrm>
        <a:graphic>
          <a:graphicData uri="http://schemas.openxmlformats.org/drawingml/2006/table">
            <a:tbl>
              <a:tblPr/>
              <a:tblGrid>
                <a:gridCol w="1667160"/>
                <a:gridCol w="1655640"/>
                <a:gridCol w="2158920"/>
                <a:gridCol w="158436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e2751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e2751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present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e2751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/R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e2751d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giC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ke Hel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id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ger Imp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BDS AN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gio Liett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ve Bea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Basn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R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reyas Chol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ctor Hazlew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rek Simme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U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ndra Jaqu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D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Saka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AM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to Huiman Carrasc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haniel Mendoz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8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LA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ejandra Stol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ncisco Martine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AN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res Holgu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L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ula Veno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rwin Gain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B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an Sil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LC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witzer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ve Kels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SE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Marstell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DETYS / UT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n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rube Urri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dCLA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le/L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uis A. Núñe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26 Members from North, Central and South Ame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Covering Canada, US, Mexico, Venezuela, Chile, Peru, Argentina, Brazil, Colombia and Panam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giSela project has end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23 IGTF Accredited 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13 Classic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DigiCert(2) – US, TACC - US, UFF BrGrid &amp; UFF LACGrid - Brazil, ANSPGrid – Brazil, UNLPGrid - Argentina, REUNA – Chile, ULAGrid – Venezuela, GridCanada, UNAM – Mexico, UNIANDES - Colombia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DOE Grid accredited by EUGridP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7 SL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NCSA x 3, FermiLabs, NERSC, PSC, NICS UTK - 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3 M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NCSA - US, CILogin - US and TACC - 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TACC CAs to be retired (Date TB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3 CA accreditations in-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1 Classic pending (SENAMHI – Peru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2 MICS pending (SDSC, NCAR – U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8 Relying Par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(FNAL, OSG, XSEDE, THEgrid, LCG, REBCA, CIDETYS/UTP, redCLAR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NIH and SURAGrid retired their membershi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CIDETYS/UTP (Panama) is a new RP member as of September, 20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redCLARA (based in Chile but covering several Latin American Countries) is a new RP member as of September, 20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mmunication Infrastructure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IGTF Website 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Verdana"/>
                <a:hlinkClick r:id="rId1"/>
              </a:rPr>
              <a:t>http://www.igtf.n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TAGPMA Website http://www.tagpma.or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Hosts static, public information &amp; profi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Verdana"/>
              </a:rPr>
              <a:t>Overhaul overdue </a:t>
            </a:r>
            <a:r>
              <a:rPr b="0" lang="en-US" sz="1800" spc="-1" strike="noStrike">
                <a:solidFill>
                  <a:srgbClr val="244a58"/>
                </a:solidFill>
                <a:latin typeface="Wingdings"/>
                <a:ea typeface="Wingdings"/>
              </a:rPr>
              <a:t>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TAGPMA twiki </a:t>
            </a:r>
            <a:r>
              <a:rPr b="0" lang="en-GB" sz="1800" spc="-1" strike="noStrike">
                <a:solidFill>
                  <a:srgbClr val="244a58"/>
                </a:solidFill>
                <a:latin typeface="Verdana"/>
              </a:rPr>
              <a:t>http(s)://tagpma.es.net/wiki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hosts in-process TAGPMA documents, notes, tutorials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Contains agenda and minutes from monthly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Mailing lis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tagpma-general, tagpma-privat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Mailing lists have been moved over to Google Apps for Education, also enabling Calendar, Docs &amp; Si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E-mail any issues direct to the Chair (dsimmel@psc.edu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ummary of News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Verdana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3 CAs (SENAMHI, SDSC and NCAR) are still in process for accredi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CIDETYS/UTP Panama made a presentation at TAGPMA 16 and was voted in as a new RP memb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redCLARA made a presentation at TAGPMA 16 and was voted in as a new RP memb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XSEDE is developing a new HLCA (to be hosted by NCS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May permit consolidation of some XSEDE member C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XSEDE Service Providers would become RAs for the XSEDE C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Membership Revie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NIH and SURAGrid have resigned their membershi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TACC plans to retire its CA(s) and retire its membership so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ummary of News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686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Verdana"/>
              </a:rPr>
              <a:t>Most Recent F2F Meeting: TAGPMA 16 at Panama City, Pan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August 29-30, 201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Details can be found her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indico.rnp.br/conferenceDisplay.py?confId=14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Hosted with the CLCAR conference August 27-31, 2012 at the Technological University of Panama (Universidad Tecnológica de Panamá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CLCAR (Conferencia Latinoamericana de Computación de Alto Rendiment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Latin American Conference on High Performance Compu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See www.clcar.org for detai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Derek, Scott R. and Ale submitted a paper, “</a:t>
            </a:r>
            <a:r>
              <a:rPr b="0" i="1" lang="en-US" sz="1600" spc="-1" strike="noStrike">
                <a:solidFill>
                  <a:srgbClr val="244a58"/>
                </a:solidFill>
                <a:latin typeface="Verdana"/>
              </a:rPr>
              <a:t>An Introduction to The Americas Grid Policy Management Authority (TAGPMA) and the International Grid Trust Federation (IGTF)</a:t>
            </a: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” which was accepted for publication and a presentation: http://www.tagpma.org/files/CLCAR-Paper15-Simmel-Rae-Stolk.pd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Conference Calls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Regular Video Conference Calls are now 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Monthly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, at 12noon Eastern on the 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2nd Wednesday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 of each month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Next one will be September 12, 20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44a58"/>
                </a:solidFill>
                <a:latin typeface="Verdana"/>
              </a:rPr>
              <a:t>Video arrangements: EVO – look for TAGP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44a58"/>
                </a:solidFill>
                <a:latin typeface="Verdana"/>
              </a:rPr>
              <a:t>Call for agenda items goes out ~1 week before the next c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44a58"/>
                </a:solidFill>
                <a:latin typeface="Verdana"/>
              </a:rPr>
              <a:t>The agenda is usually posted on tagpma-general e-mail list no later than 1 day before th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44a58"/>
                </a:solidFill>
                <a:latin typeface="Verdana"/>
              </a:rPr>
              <a:t>We welcome all IGTF members and prospective TAGPMA members to attend our TAGPMA meeting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Scott Rea</dc:creator>
  <dc:description/>
  <dc:language>en-US</dc:language>
  <cp:lastModifiedBy>Derek Simmel</cp:lastModifiedBy>
  <cp:lastPrinted>2012-08-29T08:25:06Z</cp:lastPrinted>
  <dcterms:modified xsi:type="dcterms:W3CDTF">2012-09-09T20:53:25Z</dcterms:modified>
  <cp:revision>179</cp:revision>
  <dc:subject>F2F12 Lubbock TX</dc:subject>
  <dc:title>TAGPMA Update</dc:title>
</cp:coreProperties>
</file>