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8465E62-BF2D-4371-B235-66E8CA0CD0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12D1057-1C3A-4CD1-ABF4-A8646A9126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6BD53B4-B222-4C28-A1EC-ADB75D1200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FCE89A1C-0CBA-4055-9EE6-5C26D8EDA42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94D5463-350E-4DEB-B61B-B37A582C9F2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1CC9D20-C8CE-4554-922D-C1DD1FD2EDF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1D0F26F-C16A-4F34-A4C5-43BFD13AD43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19A0EC69-DFCB-41AA-B1FC-7BB40B2AEEE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B875C8E3-4B3E-43B5-B813-4EA8C01DB08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C39BB24-7967-41B0-B123-9D4F041BDDE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B24C5AF0-74AD-486D-B9E8-3FD40EAFE8C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E184E040-BE93-4953-91AD-CD712263E70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E493B1F3-10DB-4302-8C1E-38C8A90C740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OCSP Guideline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hy OCSP for Grid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hould be less error-prone than fetch-crl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hen supported in softwa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nce many fetch-crl issues come from site config trou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CRL downloads are also a ‘DoS’ against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ives support for dynamicly-inserted sub-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 advance knowledge needed of all CRL CD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hen used in conjunction with new namespac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hould enable dynamic sub-CA suppor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s more timely than CR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ched 6-24 hours, which is ‘reasonable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in many cases (web!) CRL is not retrieved at all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OCSP styl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ull-blown real time OCSP (RFC2560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vides protection against replay attac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sing nonce supplied by cli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computed and signed in real-ti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Lots of inbound data so needs HTTP POS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Light-weight OCSP (RFC5019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im is to be cachable (and stapleable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er HTTP GE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-nonces (in reply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cheable, with HTTP headers set according to respons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es not contain dynamic data, so can be replaye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(and thus needs short ‘life time’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Light-weight OCS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FC5019 leaves some deployment options ope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ices can be ‘good’ or ‘bad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has to decide on how to generate respons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stakes by CA in settings can easily lead to DDo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stakes by RPs in settings can easily lead to DDo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mplementatio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xed quality, many implementation miss out on spec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me minor (uses GET even for large requests), or major (always use POST, so response cannot be cached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‘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tapling’ RFC 6066 is not widely supporte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emingly apache and nginx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ven standard OCSP not fully supported by Griddy MW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but it acively worked on, and our guidance appreciat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act on CA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now, it adds network load to the C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nce we do not expect CRL retrieval to stop immediate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t least one OCSP request will be sent for each service ac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OCSP load is related to the ‘popularity’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e (subscriber base) of the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ow ‘active’ the subscribers a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CSP request/response is relatively sma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t that many by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a lot of reques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CSP is a critical service (use a HA setup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gressing with OCS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uidance for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me Cas (DigiCert, TCS/Comodo) already have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ew others are almost ready, with RFC5019 or 2560, e.g.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SNE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a lot are waiting – would profit from guidance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cenarios, software tool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uidance for RPs and develop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‘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per’ OCSP clients and RFC5019 not really the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file on ‘expected responses’ helps a lot for cod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actical examples to help interpret RFC5019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cenarios to make sure RPs don’t DoS us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OGF CAOPS-WG &amp; IGTF Docu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 two docu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CAs: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file of RFC5019 and expected response cont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uggestions (pre-computed, no/simple VA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ftware hints for good HTTP head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RPs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ftware development guidance on app-level cach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all-back to CR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ane cache time defaul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guidance on (squid) caching servic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2T18:53:38Z</dcterms:modified>
  <cp:revision>610</cp:revision>
  <dc:subject/>
  <dc:title>European Grid Policy Management Authority</dc:title>
</cp:coreProperties>
</file>