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B8E2836-9109-42BD-B769-C7AF4AC3338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D151B21-4E1E-4DCE-9A07-B641FC9AF2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216A22F3-252A-4684-9032-3F9D6AD5D06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C0934870-8583-4596-ADF0-68AF2CA3FAA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27DE4EF4-C930-4A4C-BC8F-41B19B16253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29BDA07F-9BB0-4638-BE2F-3EF89E80C2A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3508DB6B-3ECD-4DCB-BFFB-5D85450DA36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496CA4B4-660F-4E69-AB2A-E4F788E56BA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308F934D-3DC2-4574-BC00-9FC8A00C2BA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DD7C7B54-68A4-433D-B61B-FEE70B40CB0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30C05CD7-29E1-4936-9CF4-C432E5BD4F0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C3A35184-8140-4269-9521-CF8580C0271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9CB8C187-7AC7-47D0-AE76-1D9584FA0E7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Self-Audit statu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4-16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Rome, Italy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Pending audit results &amp; review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838080" y="1295280"/>
          <a:ext cx="8040960" cy="4449960"/>
        </p:xfrm>
        <a:graphic>
          <a:graphicData uri="http://schemas.openxmlformats.org/drawingml/2006/table">
            <a:tbl>
              <a:tblPr/>
              <a:tblGrid>
                <a:gridCol w="2679840"/>
                <a:gridCol w="2681280"/>
                <a:gridCol w="2679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elf-au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vie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altic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aveK, Oleksan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rmeS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Jens, +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PK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avidG, +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EE-Grid Catc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dgars, David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Y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hijs, Sha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Jean-Christophe, +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rsula, David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G.AC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dgars, Bo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MAR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mir, David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Ke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9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Willy, Alex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el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1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Reimer, On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Upcoming self audi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838080" y="1231920"/>
          <a:ext cx="8040960" cy="4449600"/>
        </p:xfrm>
        <a:graphic>
          <a:graphicData uri="http://schemas.openxmlformats.org/drawingml/2006/table">
            <a:tbl>
              <a:tblPr/>
              <a:tblGrid>
                <a:gridCol w="2679840"/>
                <a:gridCol w="2681280"/>
                <a:gridCol w="2679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vie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lovak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o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MD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omorr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IIF/Hungar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omorr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ordu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ext meeting (‘IIRC’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pkIRIS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IP-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ustrian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IP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Renater/Grid-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EG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t 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PL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ES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RAN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ES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RAN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1-10T14:44:12Z</dcterms:modified>
  <cp:revision>606</cp:revision>
  <dc:subject/>
  <dc:title>European Grid Policy Management Authority</dc:title>
</cp:coreProperties>
</file>