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8075E3B-C396-436D-BB79-74A2E99973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A467C40-E2C4-4EDF-A687-239230EDF7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1DF1CECC-12D5-4004-93B7-0A48DC6FBE9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DF64956D-1E0C-4165-869E-B48B50933B4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7673AD91-910F-4591-ADFE-ECDB6C6C5F6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4507507-E055-4547-ACC4-15842694191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C9A8371-75B4-488D-881E-756E62A3B2D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625211D4-705C-4B59-BA35-C881B38E9B5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D01F0ED6-DDFC-4E96-8DED-AE6ADEFA546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FC9428FB-8FB8-4916-BF39-070410548BB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91BB523A-D3ED-4B96-AF6A-14091E80175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C5EDE20-52F7-4CCC-B971-966EF458CA3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923086A3-9E4F-4EE2-AE0B-395AA6F9673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7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Milan Sova"/>
          <p:cNvPicPr/>
          <p:nvPr/>
        </p:nvPicPr>
        <p:blipFill>
          <a:blip r:embed="rId2"/>
          <a:stretch/>
        </p:blipFill>
        <p:spPr>
          <a:xfrm>
            <a:off x="2994120" y="1055520"/>
            <a:ext cx="3155760" cy="474696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4"/>
          <p:cNvSpPr/>
          <p:nvPr/>
        </p:nvSpPr>
        <p:spPr>
          <a:xfrm>
            <a:off x="309600" y="533520"/>
            <a:ext cx="86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lan S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09600" y="5802480"/>
            <a:ext cx="86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962-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H:\Home\davidg\EUGridPMA\Meetings\2013-01-Rome\P1030545-small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1"/>
          <p:cNvSpPr/>
          <p:nvPr/>
        </p:nvSpPr>
        <p:spPr>
          <a:xfrm>
            <a:off x="299880" y="5502240"/>
            <a:ext cx="86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ttp://milansovacesnet.wordpress.com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3" descr="H:\Home\davidg\EUGridPMA\Meetings\2013-01-Rome\IMG_0974-cropped-small.jpg"/>
          <p:cNvPicPr/>
          <p:nvPr/>
        </p:nvPicPr>
        <p:blipFill>
          <a:blip r:embed="rId2"/>
          <a:stretch/>
        </p:blipFill>
        <p:spPr>
          <a:xfrm>
            <a:off x="1349280" y="685800"/>
            <a:ext cx="642312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952560" y="1419120"/>
            <a:ext cx="80913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GARR and Roberto Cecchini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464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AR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3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  https://webconf.vc.dfn.de/r17159825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dyo desktop client has basic screen shar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990000"/>
                </a:solidFill>
                <a:latin typeface="Lucida Sans"/>
              </a:rPr>
              <a:t>http://vidyoportal.cern.ch/flex.html?roomdirect.html&amp;key=hJyvnjcRuVLC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952560" y="1419120"/>
            <a:ext cx="80913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923760" y="1509840"/>
            <a:ext cx="797904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817560" y="1182600"/>
            <a:ext cx="790092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Upcoming ev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8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Kyiv, UA, May 13-15, 2013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7: March 11-13, Charlottesville, VA, 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SGC &amp; APGridPMA: March 22, Taipei, TW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9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eptember 9-11, Bucharest, 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0T14:25:13Z</dcterms:modified>
  <cp:revision>603</cp:revision>
  <dc:subject/>
  <dc:title>European Grid Policy Management Authority</dc:title>
</cp:coreProperties>
</file>