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65034-7E43-4C87-9D91-16DD06C27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D8CF4-AD17-4C0F-99DD-72490D4C7C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2BA40-B367-4DA8-A89F-B1DE954C942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1BF46-67A6-47AC-A86E-26A5E6D73F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290F6-04F1-48CE-B731-C0D115F5DC5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6FC2-9E86-4ACD-99D6-4B4A8A8DA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EA38-1467-4742-AD72-920940B5C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2AED-9749-424E-BEF5-CD49536A2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9453-9DC3-4AD4-A80F-90290163D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7BAD-B0CB-4ED8-AA06-548E67BEE0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6100E-BA78-4452-BC5F-B8DA759EF4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815A4-5444-4B11-8B40-82A1971727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0821-4362-4D3C-9E9F-1855AD6FF8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C810-A98B-4A4C-89B6-2104CFD584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188F9-DF9D-435F-B25E-C38175C3C8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B6567-6708-4423-854F-6873B6ED73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ABAD-F8F5-4480-B8AD-831CD3411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4A930-8115-416A-BF70-A4A9F5BE23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CE81-52B7-4306-BF68-27B798598B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D462-2151-4711-9984-9477A77660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9C9E4-A8D5-49F0-8DBA-84288F6120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8271F-A296-407F-A694-46BAF6252D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AF0B-B149-4985-8351-04AFCE503E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AD1B-9C2E-4FFE-8CEB-5DCDED37E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B60E-95ED-474A-A8C0-62E8FDD43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8AE0-E53A-4DEA-815A-A6BE49458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5FA1-735D-49B1-8772-BBA9C35E6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D23A-93B2-4193-9EB7-A9E27E8C2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4B82-266A-4A3C-848F-D25E3E887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40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DC7E1-D449-4DF4-BE46-F7E5C4431E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7"/>
          <p:cNvGrpSpPr/>
          <p:nvPr/>
        </p:nvGrpSpPr>
        <p:grpSpPr>
          <a:xfrm>
            <a:off x="5403960" y="214200"/>
            <a:ext cx="3527280" cy="1287000"/>
            <a:chOff x="5403960" y="214200"/>
            <a:chExt cx="3527280" cy="1287000"/>
          </a:xfrm>
        </p:grpSpPr>
        <p:sp>
          <p:nvSpPr>
            <p:cNvPr id="42" name="WordArt 5"/>
            <p:cNvSpPr txBox="1"/>
            <p:nvPr/>
          </p:nvSpPr>
          <p:spPr>
            <a:xfrm>
              <a:off x="5457960" y="2142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6"/>
            <p:cNvSpPr/>
            <p:nvPr/>
          </p:nvSpPr>
          <p:spPr>
            <a:xfrm>
              <a:off x="5403960" y="8586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40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45B48-308C-4386-B3B9-FBB9E1FDA5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dsimmel@psc.edu" TargetMode="External"/><Relationship Id="rId2" Type="http://schemas.openxmlformats.org/officeDocument/2006/relationships/hyperlink" Target="mailto:Scott@DigiCert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rek Simm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27</a:t>
            </a:r>
            <a:r>
              <a:rPr b="0" lang="en-GB" sz="2600" spc="-1" strike="noStrike" baseline="30000">
                <a:solidFill>
                  <a:srgbClr val="008000"/>
                </a:solidFill>
                <a:latin typeface="Calibri"/>
              </a:rPr>
              <a:t>th</a:t>
            </a: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 EUGridPMA Meeting</a:t>
            </a:r>
            <a:br>
              <a:rPr sz="2600"/>
            </a:b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Rome, Ita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January 14-16, 20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SHA-2 Deployment Timeline discussion</a:t>
            </a:r>
            <a:endParaRPr b="0" lang="en-US" sz="3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AGPMA members voted and did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NOT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pprove the SHA-2 timeline as described in David Groep’s e-mail of September 10, 2012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n alternate SHA-2 deployment timeline, addressing TAGPMA concerns, has been developed and is available for review at</a:t>
            </a:r>
            <a:br>
              <a:rPr sz="3200"/>
            </a:b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tagpma.es.net/wiki/bin/view/Main/SHA2Timeline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 and questions are welcome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D1D4C-4D81-4007-A677-918173483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Leadership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urrent TAGPMA Membership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mmunication Infrastructure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Conference Call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7 &amp; 18 (IGTF All Hands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HA-2 Deployment Timeline discussion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ACA1B-C841-4C7D-97B1-B7E7ADC2E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hair: Derek Simmel (PSC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immel@psc.edu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Vice Chair: Scott Rea (DigiCert + REBCA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cott@DigiCert.com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retary: Ale Stolk (ULAGrid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stolk@ula.ve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E546F-0DFE-4D50-BF3A-7095E733D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39680" y="1117440"/>
          <a:ext cx="7066080" cy="5389560"/>
        </p:xfrm>
        <a:graphic>
          <a:graphicData uri="http://schemas.openxmlformats.org/drawingml/2006/table">
            <a:tbl>
              <a:tblPr/>
              <a:tblGrid>
                <a:gridCol w="1665360"/>
                <a:gridCol w="1656000"/>
                <a:gridCol w="2160360"/>
                <a:gridCol w="1584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8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an S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26 Members from North, Central and South America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overing Canada, US, Mexico, Venezuela, Chile, Peru, Argentina, Brazil, Colombia and Panama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21 IGTF Accredited CA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12 Classic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igiCert(2) – US, UFF BrGrid &amp; UFF LACGrid - Brazil, ANSPGrid – Brazil, UNLPGrid - Argentina, REUNA – Chile, ULAGrid – Venezuela, GridCanada, UNAM – Mexico, UNIANDES - Colombia. 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OE Grid accredited by EUGridPMA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7 SLC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CSA x 3, FermiLabs, NERSC, PSC, NICS UTK - U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 MIC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CSA – US and CILogon – U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4FC30-E3E0-417E-8CF9-EBE55CD7C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TACC retired their membership in TAGPMA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CAs should be removed from IGTF &amp; TACAR distributions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4 CA accreditations in-proces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 Classic pending (SENAMHI – Peru, InCommon – US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 MICS pending (SDSC, NCAR – US)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8 Relying Partie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(FNAL, OSG, XSEDE, THEgrid, LCG, REBCA, CIDETYS/UTP, redCLARA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New member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Common voted in as new prospective AP member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OGF has expressed interest in membership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7A166-9C10-4C91-85A2-1C4A3215D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Hosts static, public information &amp; profile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Overhaul still way overdue </a:t>
            </a:r>
            <a:r>
              <a:rPr b="0" lang="en-US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hosts in-process TAGPMA documents, notes, tutorials etc.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ontains agenda and minutes from monthly meeting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iling lists have been moved over to Google Apps for Education, also enabling Calendar, Docs &amp; Site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-mail any issues direct to the Chair (dsimmel@psc.edu)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D62AD-455D-4F95-A14B-C3D92F354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Regular Video Conference Calls are now Monthly, at 12noon Eastern (US) time on the 2nd Wednesday of each month. 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Next call will be February 13, 2013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Video arrangements: RedCLARA VC Espresso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Request for agenda items goes out ~1 week before the next cal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agenda is usually posted on tagpma-general e-mail list no later than 1 day before the meeting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5F7D5-7C2B-41C8-A4EC-9B94C29E3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17 &amp; 18 (IGTF All Hands)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AGPMA 17 – Colorado – May 9-10, 2013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osted by the National Center for Atmospheric Research (NCAR, USA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Link to registration page will be posted shortly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AGPMA 18 – Argentin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ates TBD soon in October ~ November 2013 timeframe - stay tuned for a doodle poll link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8 will be the next IGTF All Hands meeting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753EC-0255-4949-AD2D-1F103FBF6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3-01-14T06:34:15Z</cp:lastPrinted>
  <dcterms:modified xsi:type="dcterms:W3CDTF">2013-01-14T06:34:40Z</dcterms:modified>
  <cp:revision>11</cp:revision>
  <dc:subject/>
  <dc:title>PowerPoint Presentation</dc:title>
</cp:coreProperties>
</file>