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3.jpeg" ContentType="image/jpeg"/>
  <Override PartName="/ppt/media/image15.png" ContentType="image/pn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18D-E346-46F2-96DB-D27E3D2A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143-9FFC-424E-BC04-A6E9652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D06-0CC5-4B3C-ACA6-3DAA1BA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E57-4635-4A62-B2F0-D9E5F668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A0BB-3448-4565-9F7D-AECF75EC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3C5-CE85-4842-8C4A-FE2B414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766-0011-40BD-BC60-94BD5E1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A1FB-0A7B-4517-853E-3B67141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80E-4433-43A4-B593-F81587F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CC61-9F3F-489F-A86A-82FB7AD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DDD0-AA9C-458A-9A06-DDF32E3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354E-568B-4C6D-8266-5F8A11B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F769-1B87-44EE-B6C6-3B6E5E4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39C8-249A-4D26-84F6-58E95D8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439-AB61-406C-AE91-C64C406F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698E-6419-40E2-8AD4-8264D19B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A1B7-4881-4617-B8A9-4BE943A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20F-3809-4D47-97EC-AFAED8EB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80C5-CEDF-45A5-8A15-30CA1DD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2AAC-61A9-439C-83E3-69DD5B28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CEDF-7241-4CEF-9C28-26E716A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9836-F0BA-4EDC-9A88-6D66025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6B2A-8206-43AB-8836-676CDA6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3C8A-8CF8-4989-B38B-68DCBED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F85B-9D4A-4F5A-936E-E758390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4F6E-D401-4D3A-9BAC-6293FF3E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92A7-1AC6-4EF9-8A42-3C00086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2E79-AF43-417F-9341-4C02F04E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099-E2FD-4F38-A16B-3FD78A43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5321-4631-492F-AB7D-1E2E111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3192-65AA-43A5-863B-02A1416B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E0D7-FCE3-4DD4-A9F6-33D73C6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A588-C2EE-4B9C-AB52-ECE09AC8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1F06-A422-401C-B666-E24420D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46C3-1ACD-4003-B964-9486BBE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13B8-0EBA-444F-8CE5-C5B355D6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F2340-051A-4F1F-8A76-DFF99C2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F52D-DD2C-484D-BC76-37400A6E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65DF-6B53-4317-B545-5CC7C76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071-A7FF-472A-AFBE-C34A5ED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4469-82E7-4AFC-8B51-73E042C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622E-7702-4F26-8C9A-BCCD76D3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9CA6-338C-4631-9451-F0EB09F3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DD9A-18DA-45B0-83EB-3968DD08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65639-B6C1-4386-95D4-7996EAAC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2ED3-6549-4F11-A2C4-52C376AA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E18D-D171-41EF-98D0-5242D0F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429D-81BE-402C-AF07-60AC611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5452-3FAD-4E6F-A835-63158911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C7E0-97B7-439A-8DFA-E537724C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A53-7C8C-4785-9C2A-2A2BD35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6BAC-6ED0-43E4-9659-20EF8CC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3683-C94B-4DD7-8CE7-38742F9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7C40-4F68-4540-AF20-C37122A9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4F54-B747-40FA-9078-5A80F442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C106-26B5-454E-8A60-57216B1E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BA6-349F-4EC5-BD6B-8C9E117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660-ADF0-46C6-869C-5486298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C8D-E56B-455F-9225-7C422BE5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9F9-5F85-4B61-92B7-9AFB38E2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DBE1EF9E-5271-4727-A2D6-91C2C29630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0EA1C56D-554A-4A61-B0F7-41C4C633F1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940E2BD7-A671-4254-998D-E5AC111118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6328551D-B65F-446B-8487-486018C5E8B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15356224-E33A-4E00-9322-ED7877F8653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6CB58E9A-2AF3-48D7-B33D-BFED6C72C9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6629-E65A-4278-B2C2-A83BE2736AA3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A119A170-7431-45AD-9E8A-AB6024F6E69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9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066-2841-4037-BAD3-DE35A6D45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1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72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12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935-0002-49FC-913F-637F910995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7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14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4EAD-1303-4D16-A65C-24382A191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808-E96C-4E40-9719-6A8C0EC38A6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7662559-742E-43E9-9454-CC5BC2136F7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513A618C-5CAD-47AF-B7F4-700769A4CC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A9F4DB2E-36EE-4C29-86FD-D6D55110661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3C096FDA-D89A-4F0B-8F02-A7FEFF160A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E80DE2B3-0907-405C-8A3A-D2FAA60BA7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1149A7FA-7722-4C96-BE22-C801EC23B4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sara, and EGI.eu O-E-15 and EGI-InSPIRE NA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529272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H:\Home\davidg\Template\Logos\EGI-logo-large01.wmf"/>
          <p:cNvPicPr/>
          <p:nvPr/>
        </p:nvPicPr>
        <p:blipFill>
          <a:blip r:embed="rId2"/>
          <a:stretch/>
        </p:blipFill>
        <p:spPr>
          <a:xfrm>
            <a:off x="6551640" y="5950080"/>
            <a:ext cx="1116000" cy="6267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H:\Home\davidg\EUGridPMA\IGTF\IGTF-logos\IGTF-logo-full.wmf"/>
          <p:cNvPicPr/>
          <p:nvPr/>
        </p:nvPicPr>
        <p:blipFill>
          <a:blip r:embed="rId3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3" descr="H:\Home\davidg\EUGridPMA\Meetings\2013-04-TAGPMA-Boulder\8F587723-C9D8-48EF-8C07-EE3053C0EF70[5].png"/>
          <p:cNvPicPr/>
          <p:nvPr/>
        </p:nvPicPr>
        <p:blipFill>
          <a:blip r:embed="rId4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07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1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7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LIVE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quirements to fulfil – mainly for RPs!</a:t>
            </a:r>
            <a:endParaRPr b="1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Date Placeholder 2"/>
          <p:cNvSpPr/>
          <p:nvPr/>
        </p:nvSpPr>
        <p:spPr>
          <a:xfrm>
            <a:off x="61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7"/>
          <p:cNvGrpSpPr/>
          <p:nvPr/>
        </p:nvGrpSpPr>
        <p:grpSpPr>
          <a:xfrm>
            <a:off x="468360" y="4011480"/>
            <a:ext cx="4390920" cy="2071800"/>
            <a:chOff x="468360" y="4011480"/>
            <a:chExt cx="4390920" cy="2071800"/>
          </a:xfrm>
        </p:grpSpPr>
        <p:pic>
          <p:nvPicPr>
            <p:cNvPr id="837" name="Picture 2" descr=""/>
            <p:cNvPicPr/>
            <p:nvPr/>
          </p:nvPicPr>
          <p:blipFill>
            <a:blip r:embed="rId1"/>
            <a:stretch/>
          </p:blipFill>
          <p:spPr>
            <a:xfrm>
              <a:off x="2843640" y="4155480"/>
              <a:ext cx="169776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9"/>
            <p:cNvSpPr/>
            <p:nvPr/>
          </p:nvSpPr>
          <p:spPr>
            <a:xfrm>
              <a:off x="468360" y="4011480"/>
              <a:ext cx="4390920" cy="20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Incident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ng-term* trace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dependent from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hort-lived 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st be revoc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e with other informatio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ning and containment hand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0"/>
          <p:cNvGrpSpPr/>
          <p:nvPr/>
        </p:nvGrpSpPr>
        <p:grpSpPr>
          <a:xfrm>
            <a:off x="250920" y="1093680"/>
            <a:ext cx="4249800" cy="2102760"/>
            <a:chOff x="250920" y="1093680"/>
            <a:chExt cx="4249800" cy="2102760"/>
          </a:xfrm>
        </p:grpSpPr>
        <p:sp>
          <p:nvSpPr>
            <p:cNvPr id="840" name="TextBox 11"/>
            <p:cNvSpPr/>
            <p:nvPr/>
          </p:nvSpPr>
          <p:spPr>
            <a:xfrm>
              <a:off x="250920" y="1093680"/>
              <a:ext cx="4249800" cy="21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ivacy and data 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ortant ‘unalienabl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ight’ for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ion of PII amon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ice providers could allow profi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change of PII often fraught with iss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1" name="Picture 3" descr=""/>
            <p:cNvPicPr/>
            <p:nvPr/>
          </p:nvPicPr>
          <p:blipFill>
            <a:blip r:embed="rId2"/>
            <a:stretch/>
          </p:blipFill>
          <p:spPr>
            <a:xfrm>
              <a:off x="3203640" y="1165680"/>
              <a:ext cx="115308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13"/>
          <p:cNvGrpSpPr/>
          <p:nvPr/>
        </p:nvGrpSpPr>
        <p:grpSpPr>
          <a:xfrm>
            <a:off x="5148360" y="2143080"/>
            <a:ext cx="3781440" cy="1616040"/>
            <a:chOff x="5148360" y="2143080"/>
            <a:chExt cx="3781440" cy="1616040"/>
          </a:xfrm>
        </p:grpSpPr>
        <p:pic>
          <p:nvPicPr>
            <p:cNvPr id="843" name="Picture 4" descr=""/>
            <p:cNvPicPr/>
            <p:nvPr/>
          </p:nvPicPr>
          <p:blipFill>
            <a:blip r:embed="rId3"/>
            <a:stretch/>
          </p:blipFill>
          <p:spPr>
            <a:xfrm>
              <a:off x="7129440" y="2287080"/>
              <a:ext cx="1730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TextBox 15"/>
            <p:cNvSpPr/>
            <p:nvPr/>
          </p:nvSpPr>
          <p:spPr>
            <a:xfrm>
              <a:off x="5148360" y="2143080"/>
              <a:ext cx="3781440" cy="16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Measurement and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blication metr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age metering, 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uditing and compliance 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Box 16"/>
          <p:cNvSpPr/>
          <p:nvPr/>
        </p:nvSpPr>
        <p:spPr>
          <a:xfrm>
            <a:off x="5003640" y="4349880"/>
            <a:ext cx="41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dentity lives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n a policy ecosystem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to protect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GB" sz="2000" spc="-1" strike="noStrike">
                <a:solidFill>
                  <a:srgbClr val="c00000"/>
                </a:solidFill>
                <a:latin typeface="Arial"/>
              </a:rPr>
              <a:t>commensurate to their risk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7"/>
          <p:cNvGrpSpPr/>
          <p:nvPr/>
        </p:nvGrpSpPr>
        <p:grpSpPr>
          <a:xfrm>
            <a:off x="4859280" y="1093680"/>
            <a:ext cx="4064040" cy="855000"/>
            <a:chOff x="4859280" y="1093680"/>
            <a:chExt cx="4064040" cy="855000"/>
          </a:xfrm>
        </p:grpSpPr>
        <p:sp>
          <p:nvSpPr>
            <p:cNvPr id="847" name="TextBox 18"/>
            <p:cNvSpPr/>
            <p:nvPr/>
          </p:nvSpPr>
          <p:spPr>
            <a:xfrm>
              <a:off x="4859280" y="1093680"/>
              <a:ext cx="4064040" cy="8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ess Control Attribute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ique bi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ver re-as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3" descr=""/>
            <p:cNvPicPr/>
            <p:nvPr/>
          </p:nvPicPr>
          <p:blipFill>
            <a:blip r:embed="rId4"/>
            <a:stretch/>
          </p:blipFill>
          <p:spPr>
            <a:xfrm>
              <a:off x="8504640" y="1412640"/>
              <a:ext cx="315720" cy="52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TextBox 21"/>
          <p:cNvSpPr/>
          <p:nvPr/>
        </p:nvSpPr>
        <p:spPr>
          <a:xfrm>
            <a:off x="581040" y="3305160"/>
            <a:ext cx="406224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Regulato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ed to know who you let in before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8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78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79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82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83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84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85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1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5-07T15:26:06Z</dcterms:modified>
  <cp:revision>244</cp:revision>
  <dc:subject/>
  <dc:title>Slide 1</dc:title>
</cp:coreProperties>
</file>