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44960-69F0-4FDD-878D-565912328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4589C-F268-49E9-AAED-534AE50715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D58B8-513D-4300-8F84-30C1FA5226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7E8F7-9F02-4205-9383-B4FAE835DD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01968-442D-4B75-BEA6-2C6AE77FBD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2039-3E8F-4964-9AAC-A54FBE9B2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CA05-2A2D-4D1B-8DA5-D88C24852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5A74-FCC9-4411-B6BD-C21CB821E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62A7-B9D3-4750-9E5E-1123B55E0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E6FC-0B32-45B5-8E4B-65BF6F1D42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7E45-B708-4134-BDA6-43F966943E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6FC5-1E78-4D7D-8B6D-787C265D89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10EF-2024-4016-B29F-7227913849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6338-B55B-4E0E-8CAF-1D0B182D8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89DB-460C-46A0-BD12-161B56530D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EC6A-FD5C-4A83-982F-CA9978D15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3C9B-F440-44E6-9A6C-79A88D1F9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B24B-F805-444E-9954-D9908963C8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8D3D-505F-4315-8F44-351F3F1970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9CDD-2C1E-42CF-8E2E-BC50325D62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0331-0158-4739-B227-4CC4834D4F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CC83-B9D4-400A-91A1-A2D9D88D7E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5790-6631-4D7A-BB28-8E711B62E3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93FB-D356-4564-94B4-AD89A7B04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7FBC-ADE2-4EA7-BC73-BA6B23D1B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628A-8CF0-441E-B593-E14D43AFB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6698-024F-4011-8244-33799305C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0429-2F7C-4769-91B5-70B0DB240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5294-11D8-4781-A77F-8184C59F5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3B10B-7D95-4919-BE6A-386614AF1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CDEAD-3A67-4B6E-9AC1-08885CC22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(with few mods by David Kelsey)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AP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Taipei, Taiw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rch 22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B058A-D9A3-4B33-8662-CF8226F82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09A6D-86A8-427B-A1C0-237DC8552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89140-A6F7-40D1-AFC6-9F8FA11A9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60418-9295-47F1-8F3A-40A375491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CA (Comodo for low-cost host cer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A2907-C9A4-40FB-8EDA-ABC274040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C9B25-88E1-40AA-B655-3AFB75950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April 10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D9FA3-20E7-4EFD-8EB5-D3FE2A614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– Colorado – May 6-8, 2013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CI meeting also taking place (7-8 May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Link to registration page is now open at </a:t>
            </a: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http://indico.rnp.br/conferenceDisplay.py?ovw=True&amp;confId=161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ECD15-CF14-4AE3-B79D-2831B7B1F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3-21T14:23:38Z</dcterms:modified>
  <cp:revision>15</cp:revision>
  <dc:subject/>
  <dc:title>PowerPoint Presentation</dc:title>
</cp:coreProperties>
</file>