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3AB1C06-D230-45E5-BF4D-2A89C8011A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869EC13-F041-4AA5-BB26-63CE729045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70DBED6-FF33-402D-97DA-97FEF16044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01B6ED4-9502-431D-9163-9A1C3ABA5C2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302A29C-7928-43D9-B609-DF44877DF4A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298CA26-E40E-4F08-A39E-C8AF05DB365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7D41548C-CD02-4BF4-9BBC-EFC46076235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1919347-E027-42AE-9A45-FF86F157459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B005C6B-FCF6-4B16-B659-F4501D5F161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2C7B564-B535-4A5E-BFC8-549CCEB68E0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43C809B-0AC3-4590-9800-379AF2A50BE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0E87CE3-8C0E-4C2C-BE3B-1700022325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2A87958-7E22-4F8C-9855-DCAAEC6F40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C15722D-8C14-47F7-BA04-31245E0032B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8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13-15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yiv, Ukraine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NTUU KPI and the UGrid CA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830160" y="1074600"/>
            <a:ext cx="76471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1</a:t>
            </a:r>
            <a:r>
              <a:rPr b="0" lang="en-GB" sz="2400" spc="-1" strike="noStrike" baseline="30000">
                <a:solidFill>
                  <a:srgbClr val="990000"/>
                </a:solidFill>
                <a:latin typeface="Lucida Sans"/>
              </a:rPr>
              <a:t>st</a:t>
            </a: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 week of November: IGTF All Hands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a Plata, A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5-09T01:53:08Z</dcterms:modified>
  <cp:revision>607</cp:revision>
  <dc:subject/>
  <dc:title>European Grid Policy Management Authority</dc:title>
</cp:coreProperties>
</file>