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0.png" ContentType="image/png"/>
  <Override PartName="/ppt/media/image12.png" ContentType="image/png"/>
  <Override PartName="/ppt/media/image11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png" ContentType="image/png"/>
  <Override PartName="/ppt/media/image9.wmf" ContentType="image/x-wmf"/>
  <Override PartName="/ppt/media/image14.png" ContentType="image/png"/>
  <Override PartName="/ppt/media/image6.png" ContentType="image/png"/>
  <Override PartName="/ppt/media/image7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26F8-B18D-469B-9455-405931D5B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AC95-DC6C-45A4-A1F6-546FC092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FEC2-B676-46A0-8A86-220A7AD8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D829-E672-4160-B350-8F47790AA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8C92-EF95-47F9-978B-3D660064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1473-AA6B-464B-B4A9-D791953E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129D-174F-42BD-88C6-37036FB1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CEFE-2E1E-450E-9801-D7658E07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BE63-7D04-475A-ADB6-4C0CD1CA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DC78-4C90-44C0-8C1F-1335E074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262A-F5EF-4947-A38F-D9670597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CE09-C9C4-47EE-8006-EE044BE6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9800-F922-4399-B621-1968ADED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B8D4-1608-41FA-8A83-41BE4515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BFAD-FC19-4B59-8ED7-41E103C4A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5E51-D1A4-40D6-AACB-0ED235A4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D0D92-1EB7-4991-8C03-111869F66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CA44-787E-4CC6-AC17-01510530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96AE0-F1CA-4CAA-8E69-C13109D0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6810E-19A9-451E-B8F9-4DBEC9A3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EE892-ACFC-48E5-AD4A-578F9DB0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982DD-7754-400A-A3EC-D1FA3043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306E4-FEEB-49DC-AEB8-4381778D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9657A-5DC7-4236-8E2D-A9E1050E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8311D-530B-4544-8649-BA5760EF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72247-2207-4C4C-BEF8-7940CE81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CED00-31C8-4B54-909E-D9B8F890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192D6-EAB6-4F75-A789-3BAA6FEB1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BBDF-7110-4FE5-B788-6914BB75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2268D-3AF4-4CAC-969B-13E0BAFA5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DF203-2B40-44EC-9AFD-90E75631F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2DC16-864D-41E2-A393-59F61286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8C9EF-CC75-4524-8CDA-F8ECD1CD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506FC-E9EB-4E9C-A56E-5CD80DA4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F81C9-836D-4F69-9676-442B4FC1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9CA30-B8EA-4168-BDF8-6DCC7A33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78E60-7343-480D-809F-274CB0AF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3A950-23CD-44B0-B10A-1419CECD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9788E-FCA6-44AA-B04A-2A96B5E5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FFE8-2CC7-4DD0-8A90-08C2BC23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CE8F7-BE22-4766-9D5A-91FF338F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28E6C-D739-4139-B342-5A0F84745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51CBC-B217-4ED6-9324-40381F67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18C0-C688-4B2E-BC4D-06A51045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9443-2B73-4E23-8905-70F58195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EAAB-5D00-411D-8082-2C278196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2FBC-CF86-4BAD-89A1-7B9E7ACA2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31CB-50D7-4CBA-81F3-5D4CFE143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42580B77-68CF-4333-A96C-496B3E0CCF4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2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C6210A0B-EA4D-4D40-AB4D-2BCA72B97E0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6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44DFB36B-154F-46A9-B28C-92E3B33B4C2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7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1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46FD9DE7-3BDD-4401-96E7-15B968A7ED9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6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6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091C5DAC-ED0A-418B-8587-2AC8D47FB02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6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60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61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7F3F6031-63CE-4E15-95FC-87EA9A69598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1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grpSp>
        <p:nvGrpSpPr>
          <p:cNvPr id="616" name="Group 21"/>
          <p:cNvGrpSpPr/>
          <p:nvPr/>
        </p:nvGrpSpPr>
        <p:grpSpPr>
          <a:xfrm>
            <a:off x="0" y="0"/>
            <a:ext cx="9215280" cy="1081080"/>
            <a:chOff x="0" y="0"/>
            <a:chExt cx="9215280" cy="1081080"/>
          </a:xfrm>
        </p:grpSpPr>
        <p:sp>
          <p:nvSpPr>
            <p:cNvPr id="617" name="Rectangle 13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8" name="Picture 14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734840" cy="9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Rectangle 15"/>
            <p:cNvSpPr/>
            <p:nvPr/>
          </p:nvSpPr>
          <p:spPr>
            <a:xfrm>
              <a:off x="1619280" y="0"/>
              <a:ext cx="1800000" cy="97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6"/>
            <p:cNvSpPr/>
            <p:nvPr/>
          </p:nvSpPr>
          <p:spPr>
            <a:xfrm>
              <a:off x="1619280" y="0"/>
              <a:ext cx="1800000" cy="97956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12"/>
            <p:cNvSpPr/>
            <p:nvPr/>
          </p:nvSpPr>
          <p:spPr>
            <a:xfrm>
              <a:off x="2050920" y="503280"/>
              <a:ext cx="71643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  <a:ea typeface="SimSun"/>
                </a:rPr>
                <a:t>EGI (IGTF Liaison Function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13-04-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owards differentiated collaborative Lo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6"/>
          </p:nvPr>
        </p:nvSpPr>
        <p:spPr>
          <a:xfrm>
            <a:off x="69750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BCAB-568E-4497-8417-4ED4BC85C820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Group 12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sp>
          <p:nvSpPr>
            <p:cNvPr id="665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6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35200" cy="9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Rectangle 6"/>
            <p:cNvSpPr/>
            <p:nvPr/>
          </p:nvSpPr>
          <p:spPr>
            <a:xfrm>
              <a:off x="1619280" y="0"/>
              <a:ext cx="1800000" cy="97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7"/>
            <p:cNvSpPr/>
            <p:nvPr/>
          </p:nvSpPr>
          <p:spPr>
            <a:xfrm>
              <a:off x="1619280" y="0"/>
              <a:ext cx="1800000" cy="97992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www.egi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EGI-InSPIRE RI-2613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1" descr=""/>
          <p:cNvPicPr/>
          <p:nvPr/>
        </p:nvPicPr>
        <p:blipFill>
          <a:blip r:embed="rId3"/>
          <a:stretch/>
        </p:blipFill>
        <p:spPr>
          <a:xfrm>
            <a:off x="0" y="685800"/>
            <a:ext cx="1447920" cy="579420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Group 21"/>
          <p:cNvGrpSpPr/>
          <p:nvPr/>
        </p:nvGrpSpPr>
        <p:grpSpPr>
          <a:xfrm>
            <a:off x="0" y="0"/>
            <a:ext cx="9215280" cy="1081080"/>
            <a:chOff x="0" y="0"/>
            <a:chExt cx="9215280" cy="1081080"/>
          </a:xfrm>
        </p:grpSpPr>
        <p:sp>
          <p:nvSpPr>
            <p:cNvPr id="674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5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734840" cy="9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Rectangle 6"/>
            <p:cNvSpPr/>
            <p:nvPr/>
          </p:nvSpPr>
          <p:spPr>
            <a:xfrm>
              <a:off x="1619280" y="0"/>
              <a:ext cx="1800000" cy="97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7"/>
            <p:cNvSpPr/>
            <p:nvPr/>
          </p:nvSpPr>
          <p:spPr>
            <a:xfrm>
              <a:off x="1619280" y="0"/>
              <a:ext cx="1800000" cy="97956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12"/>
            <p:cNvSpPr/>
            <p:nvPr/>
          </p:nvSpPr>
          <p:spPr>
            <a:xfrm>
              <a:off x="1258560" y="0"/>
              <a:ext cx="79567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  <a:ea typeface="SimSun"/>
                </a:rPr>
                <a:t>EGI.eu</a:t>
              </a:r>
              <a:br>
                <a:rPr sz="3200"/>
              </a:b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  <a:ea typeface="SimSun"/>
                </a:rPr>
                <a:t>European Grid Infrastructu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9" name="Picture 3" descr=""/>
          <p:cNvPicPr/>
          <p:nvPr/>
        </p:nvPicPr>
        <p:blipFill>
          <a:blip r:embed="rId5"/>
          <a:stretch/>
        </p:blipFill>
        <p:spPr>
          <a:xfrm>
            <a:off x="8244000" y="5713560"/>
            <a:ext cx="780840" cy="5238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"/>
          <p:cNvPicPr/>
          <p:nvPr/>
        </p:nvPicPr>
        <p:blipFill>
          <a:blip r:embed="rId6"/>
          <a:stretch/>
        </p:blipFill>
        <p:spPr>
          <a:xfrm>
            <a:off x="6516720" y="5640480"/>
            <a:ext cx="1447920" cy="588960"/>
          </a:xfrm>
          <a:prstGeom prst="rect">
            <a:avLst/>
          </a:prstGeom>
          <a:ln w="0">
            <a:noFill/>
          </a:ln>
        </p:spPr>
      </p:pic>
      <p:sp>
        <p:nvSpPr>
          <p:cNvPr id="681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www.egi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EGI-InSPIRE RI-2613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124000" y="115560"/>
            <a:ext cx="6840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7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8"/>
          </p:nvPr>
        </p:nvSpPr>
        <p:spPr>
          <a:xfrm>
            <a:off x="3124080" y="6524640"/>
            <a:ext cx="28958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9"/>
          </p:nvPr>
        </p:nvSpPr>
        <p:spPr>
          <a:xfrm>
            <a:off x="69750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3F1F-3732-496A-9478-1225303DBBA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Group 12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sp>
          <p:nvSpPr>
            <p:cNvPr id="726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7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35200" cy="9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Rectangle 6"/>
            <p:cNvSpPr/>
            <p:nvPr/>
          </p:nvSpPr>
          <p:spPr>
            <a:xfrm>
              <a:off x="1619280" y="0"/>
              <a:ext cx="1800000" cy="97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7"/>
            <p:cNvSpPr/>
            <p:nvPr/>
          </p:nvSpPr>
          <p:spPr>
            <a:xfrm>
              <a:off x="1619280" y="0"/>
              <a:ext cx="1800000" cy="97992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www.egi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EGI-InSPIRE RI-2613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124000" y="115560"/>
            <a:ext cx="6840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dt" idx="10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ftr" idx="11"/>
          </p:nvPr>
        </p:nvSpPr>
        <p:spPr>
          <a:xfrm>
            <a:off x="3124080" y="6524640"/>
            <a:ext cx="28958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sldNum" idx="12"/>
          </p:nvPr>
        </p:nvSpPr>
        <p:spPr>
          <a:xfrm>
            <a:off x="7020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AB72-6D9F-4FB9-817E-0C4814E9D5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2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sp>
          <p:nvSpPr>
            <p:cNvPr id="49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35200" cy="9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Rectangle 6"/>
            <p:cNvSpPr/>
            <p:nvPr/>
          </p:nvSpPr>
          <p:spPr>
            <a:xfrm>
              <a:off x="1619280" y="0"/>
              <a:ext cx="1800000" cy="97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7"/>
            <p:cNvSpPr/>
            <p:nvPr/>
          </p:nvSpPr>
          <p:spPr>
            <a:xfrm>
              <a:off x="1619280" y="0"/>
              <a:ext cx="1800000" cy="97992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24000" y="115560"/>
            <a:ext cx="6840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1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2"/>
          </p:nvPr>
        </p:nvSpPr>
        <p:spPr>
          <a:xfrm>
            <a:off x="3124080" y="6524640"/>
            <a:ext cx="28958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3"/>
          </p:nvPr>
        </p:nvSpPr>
        <p:spPr>
          <a:xfrm>
            <a:off x="7020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BF99-BE8C-4746-98E1-98F062F571F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www.egi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EGI-InSPIRE RI-2613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3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FDFEA1A7-00DF-4D76-BBB8-D52A451CF73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8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5333EF7A-E74A-468D-B325-EB5F7E5D230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3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975F8250-F98A-4181-92A1-94DBACD59BB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8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B836D821-105B-485F-BDDB-9DE95E467C3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6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2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B38B6AEA-BD5A-4BD4-B3EE-C2ED5C84873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3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3" name="Straight Connector 12"/>
          <p:cNvSpPr/>
          <p:nvPr/>
        </p:nvSpPr>
        <p:spPr>
          <a:xfrm>
            <a:off x="250920" y="0"/>
            <a:ext cx="0" cy="685800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4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7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4D46C4C1-F7E1-4FEC-899A-6B704A245DA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321768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Arial"/>
              </a:rPr>
              <a:t>IOTA AP</a:t>
            </a:r>
            <a:br>
              <a:rPr sz="4000"/>
            </a:b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Arial"/>
              </a:rPr>
              <a:t>Towards Differentiated </a:t>
            </a:r>
            <a:br>
              <a:rPr sz="4000"/>
            </a:b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Arial"/>
              </a:rPr>
              <a:t>Identity Assurance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4" name="TextBox 1"/>
          <p:cNvSpPr/>
          <p:nvPr/>
        </p:nvSpPr>
        <p:spPr>
          <a:xfrm>
            <a:off x="108000" y="595008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vid Groep, Nikhef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ed by the Netherlands e-Infrastructure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SURFs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8" descr="H:\Home\davidg\Template\Logos\NIKHEF.wmf"/>
          <p:cNvPicPr/>
          <p:nvPr/>
        </p:nvPicPr>
        <p:blipFill>
          <a:blip r:embed="rId1"/>
          <a:stretch/>
        </p:blipFill>
        <p:spPr>
          <a:xfrm>
            <a:off x="6265800" y="5985000"/>
            <a:ext cx="1258920" cy="55548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12" descr="H:\Home\davidg\EUGridPMA\IGTF\IGTF-logos\IGTF-logo-full.wmf"/>
          <p:cNvPicPr/>
          <p:nvPr/>
        </p:nvPicPr>
        <p:blipFill>
          <a:blip r:embed="rId2"/>
          <a:stretch/>
        </p:blipFill>
        <p:spPr>
          <a:xfrm>
            <a:off x="7713720" y="57240"/>
            <a:ext cx="1338120" cy="61920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13" descr="H:\Home\davidg\EUGridPMA\Meetings\2013-04-TAGPMA-Boulder\8F587723-C9D8-48EF-8C07-EE3053C0EF70[5].png"/>
          <p:cNvPicPr/>
          <p:nvPr/>
        </p:nvPicPr>
        <p:blipFill>
          <a:blip r:embed="rId3"/>
          <a:stretch/>
        </p:blipFill>
        <p:spPr>
          <a:xfrm>
            <a:off x="7667640" y="6024600"/>
            <a:ext cx="1276200" cy="476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Technical trust remain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611280" y="14130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loosing technical trust would make 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any authentication infrastructure useless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so integrity of the 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issuer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 has to be retained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just like for the AA Operations Guidelin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imilar to the classic, mics and slcs profil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both issuing system and ID management secur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retention of records for incident respons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Arial"/>
              </a:rPr>
              <a:t>When contracting back-end (university) IdPs</a:t>
            </a:r>
            <a:br>
              <a:rPr sz="2800"/>
            </a:b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Arial"/>
              </a:rPr>
              <a:t>the requirements must apply to them as well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Arial"/>
              </a:rPr>
              <a:t>LIGHT-WEIGHT IDENTITY VETTING ENVIRONMENT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The Profil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TextBox 5"/>
          <p:cNvSpPr/>
          <p:nvPr/>
        </p:nvSpPr>
        <p:spPr>
          <a:xfrm rot="19619400">
            <a:off x="1428120" y="2327040"/>
            <a:ext cx="724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400" spc="-1" strike="noStrike">
                <a:solidFill>
                  <a:srgbClr val="a5a5e9"/>
                </a:solidFill>
                <a:latin typeface="Arial"/>
              </a:rPr>
              <a:t>DRAFT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LIVE AP Identity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611280" y="1125000"/>
            <a:ext cx="8075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Persistency of name bind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any single subject name in a credential must be linked with one and only one entity for the whole lifetime of the servic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Nam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name elements […] sufficient to uniquely identify individua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sourced from ‘reasonable’ system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real name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or pseudonym with compensatory controls: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only in conjunction w/verified name element allowing </a:t>
            </a:r>
            <a:br>
              <a:rPr sz="2000"/>
            </a:b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contact to subject -- and the pseudonymity should be ‘obvious’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Re-issuance, renewal and re-key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authority should keep enough data to re-vet use of nam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Tracability requiremen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at issuance tim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 the authority should identify user, and that relationship should be documented and verifiabl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840" name="Picture 2" descr="H:\Home\davidg\EUGridPMA\eugridpma-color-small.png"/>
          <p:cNvPicPr/>
          <p:nvPr/>
        </p:nvPicPr>
        <p:blipFill>
          <a:blip r:embed="rId1"/>
          <a:stretch/>
        </p:blipFill>
        <p:spPr>
          <a:xfrm>
            <a:off x="7956720" y="334800"/>
            <a:ext cx="952200" cy="40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Box 7"/>
          <p:cNvSpPr/>
          <p:nvPr/>
        </p:nvSpPr>
        <p:spPr>
          <a:xfrm rot="19619400">
            <a:off x="1428120" y="2327040"/>
            <a:ext cx="724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400" spc="-1" strike="noStrike">
                <a:solidFill>
                  <a:srgbClr val="a5a5e9"/>
                </a:solidFill>
                <a:latin typeface="Arial"/>
              </a:rPr>
              <a:t>DRAFT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LIVE AP Technical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We expect a secure, on-line CA system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Long-term commitment, security controls and trained personne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With FIPS140-2 level 3 or equivalent HDM controlling ke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2+ tier system on monitored controlled network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revocation capable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so at least better than ssh ;-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Documented, transparent, policy and practic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ncluding provisions for auditing by peer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"/>
                <a:ea typeface="Arial"/>
              </a:rPr>
              <a:t>Some requirements propagate back to upstream IdPs!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redentials in common recognisable forma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nitially X.509v3 certificates, but profile is mostly generic!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844" name="Picture 2" descr="H:\Home\davidg\EUGridPMA\eugridpma-color-small.png"/>
          <p:cNvPicPr/>
          <p:nvPr/>
        </p:nvPicPr>
        <p:blipFill>
          <a:blip r:embed="rId1"/>
          <a:stretch/>
        </p:blipFill>
        <p:spPr>
          <a:xfrm>
            <a:off x="7956720" y="334800"/>
            <a:ext cx="952200" cy="40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http://wiki.eugridpma.org/Main/LiveAPSecuredInfra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846" name="Picture 2" descr=""/>
          <p:cNvPicPr/>
          <p:nvPr/>
        </p:nvPicPr>
        <p:blipFill>
          <a:blip r:embed="rId1"/>
          <a:stretch/>
        </p:blipFill>
        <p:spPr>
          <a:xfrm>
            <a:off x="0" y="1163520"/>
            <a:ext cx="9144000" cy="4719600"/>
          </a:xfrm>
          <a:prstGeom prst="rect">
            <a:avLst/>
          </a:prstGeom>
          <a:ln w="0">
            <a:noFill/>
          </a:ln>
        </p:spPr>
      </p:pic>
      <p:sp>
        <p:nvSpPr>
          <p:cNvPr id="847" name="TextBox 3"/>
          <p:cNvSpPr/>
          <p:nvPr/>
        </p:nvSpPr>
        <p:spPr>
          <a:xfrm rot="19619400">
            <a:off x="1409400" y="2334240"/>
            <a:ext cx="72439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400" spc="-1" strike="noStrike">
                <a:solidFill>
                  <a:srgbClr val="7878de"/>
                </a:solidFill>
                <a:latin typeface="Arial"/>
              </a:rPr>
              <a:t>DRAFT</a:t>
            </a:r>
            <a:br>
              <a:rPr sz="14400"/>
            </a:br>
            <a:r>
              <a:rPr b="0" lang="en-GB" sz="4400" spc="-1" strike="noStrike">
                <a:solidFill>
                  <a:srgbClr val="7878de"/>
                </a:solidFill>
                <a:latin typeface="Arial"/>
              </a:rPr>
              <a:t>will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New Authentication Profil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he AP currently being drafted on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ttps://wiki.eugridpma.org/Main/LiveAPSecuredInfr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atisfy RP requirements (PRACE, XSEDE) –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nd aim to get SARoNGS and CI Logon Basic included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Many things to be decided!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eed for HSM FIPS 140-2 level 3 or 2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What audit requirements needed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Real or pseudonymous naming? Robots or not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Distribution would be through separate ‘bundle’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ext to ‘classic’, ‘mics’, ‘slcs’, and ‘experimental’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ote there never was an ‘all’ bundle for this very reason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RPs will have to make an 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explicit choice</a:t>
            </a: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 to accept thi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850" name="Picture 2" descr="H:\Home\davidg\EUGridPMA\IGTF\IGTF-logos\IGTF-logo-mini.wmf"/>
          <p:cNvPicPr/>
          <p:nvPr/>
        </p:nvPicPr>
        <p:blipFill>
          <a:blip r:embed="rId1"/>
          <a:stretch/>
        </p:blipFill>
        <p:spPr>
          <a:xfrm>
            <a:off x="8101080" y="369720"/>
            <a:ext cx="736560" cy="389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Outlin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Introduction and retro-active rational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Assurance level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GTF ‘common criteria’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Current AP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Towards collaborative differentiated LoA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Distributing elements of trust decision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Use cases for the LiveAP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IOTA AP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Light-weight Identity Vetting Environment: towards LoA 1+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Limitations of a ‘IOTA AP’ and new LoA level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0" name="Date Placeholder 3"/>
          <p:cNvSpPr/>
          <p:nvPr/>
        </p:nvSpPr>
        <p:spPr>
          <a:xfrm>
            <a:off x="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Footer Placeholder 4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Redistributing responsibiliti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3" name="Date Placeholder 3"/>
          <p:cNvSpPr/>
          <p:nvPr/>
        </p:nvSpPr>
        <p:spPr>
          <a:xfrm>
            <a:off x="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ooter Placeholder 4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6"/>
          <p:cNvSpPr/>
          <p:nvPr/>
        </p:nvSpPr>
        <p:spPr>
          <a:xfrm>
            <a:off x="108000" y="1093680"/>
            <a:ext cx="4680000" cy="241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Subject (ID)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ffectiv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LoA is re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given actions, resources, and acceptable residual risk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ired ID assurance is a g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n shift ‘line’ in identity trust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7"/>
          <p:cNvSpPr/>
          <p:nvPr/>
        </p:nvSpPr>
        <p:spPr>
          <a:xfrm>
            <a:off x="4932360" y="2313000"/>
            <a:ext cx="3959280" cy="210600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Action (app)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constraint actions can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er need for identity L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J)SPG 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VO Portal policy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d just that: 4 levels of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8"/>
          <p:cNvSpPr/>
          <p:nvPr/>
        </p:nvSpPr>
        <p:spPr>
          <a:xfrm>
            <a:off x="684360" y="4581360"/>
            <a:ext cx="8207280" cy="1496160"/>
          </a:xfrm>
          <a:prstGeom prst="rect">
            <a:avLst/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Resource (value)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access to wireless network does not pose huge risks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can live with a lower identity LoA (eduro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Picture 2" descr="H:\Home\davidg\EUGridPMA\IGTF\IGTF-logos\IGTF-logo-mini.wmf"/>
          <p:cNvPicPr/>
          <p:nvPr/>
        </p:nvPicPr>
        <p:blipFill>
          <a:blip r:embed="rId1"/>
          <a:stretch/>
        </p:blipFill>
        <p:spPr>
          <a:xfrm>
            <a:off x="3832200" y="1190520"/>
            <a:ext cx="593640" cy="312840"/>
          </a:xfrm>
          <a:prstGeom prst="rect">
            <a:avLst/>
          </a:prstGeom>
          <a:ln w="0">
            <a:noFill/>
          </a:ln>
        </p:spPr>
      </p:pic>
      <p:sp>
        <p:nvSpPr>
          <p:cNvPr id="789" name="TextBox 16"/>
          <p:cNvSpPr/>
          <p:nvPr/>
        </p:nvSpPr>
        <p:spPr>
          <a:xfrm>
            <a:off x="5148360" y="1093680"/>
            <a:ext cx="374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policy ecosy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c00000"/>
                </a:solidFill>
                <a:latin typeface="Arial"/>
              </a:rPr>
              <a:t>commensurate to risk level</a:t>
            </a:r>
            <a:br>
              <a:rPr sz="2000"/>
            </a:br>
            <a:r>
              <a:rPr b="0" i="1" lang="en-GB" sz="2000" spc="-1" strike="noStrike">
                <a:solidFill>
                  <a:srgbClr val="c00000"/>
                </a:solidFill>
                <a:latin typeface="Arial"/>
              </a:rPr>
              <a:t>of the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Trust Element Distribution (Classic, MICS)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7"/>
          <p:cNvSpPr/>
          <p:nvPr/>
        </p:nvSpPr>
        <p:spPr>
          <a:xfrm>
            <a:off x="250920" y="1093680"/>
            <a:ext cx="4249800" cy="41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Technic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ity of the roots of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ity of issuanc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ess incident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vocation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dential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ident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9"/>
          <p:cNvSpPr/>
          <p:nvPr/>
        </p:nvSpPr>
        <p:spPr>
          <a:xfrm>
            <a:off x="4653000" y="1093680"/>
            <a:ext cx="4248000" cy="463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Identity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fie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-binding and rev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nding to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ceability of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ergency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ular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ch’ attribute asser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rrelating ident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10"/>
          <p:cNvSpPr/>
          <p:nvPr/>
        </p:nvSpPr>
        <p:spPr>
          <a:xfrm>
            <a:off x="250920" y="5877000"/>
            <a:ext cx="865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Verifiability &amp; Response, mitigation, re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Straight Connector 12"/>
          <p:cNvSpPr/>
          <p:nvPr/>
        </p:nvSpPr>
        <p:spPr>
          <a:xfrm>
            <a:off x="4932360" y="4076640"/>
            <a:ext cx="3743280" cy="0"/>
          </a:xfrm>
          <a:prstGeom prst="line">
            <a:avLst/>
          </a:prstGeom>
          <a:ln w="93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Straight Connector 13"/>
          <p:cNvSpPr/>
          <p:nvPr/>
        </p:nvSpPr>
        <p:spPr>
          <a:xfrm>
            <a:off x="503280" y="3645000"/>
            <a:ext cx="3744720" cy="0"/>
          </a:xfrm>
          <a:prstGeom prst="line">
            <a:avLst/>
          </a:prstGeom>
          <a:ln w="93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1"/>
          <p:cNvSpPr/>
          <p:nvPr/>
        </p:nvSpPr>
        <p:spPr>
          <a:xfrm rot="16200000">
            <a:off x="3691440" y="2686680"/>
            <a:ext cx="17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00000"/>
                </a:solidFill>
                <a:latin typeface="Arial"/>
              </a:rPr>
              <a:t>IGTF Classic 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10"/>
          <p:cNvSpPr/>
          <p:nvPr/>
        </p:nvSpPr>
        <p:spPr>
          <a:xfrm rot="16200000">
            <a:off x="3617640" y="4818960"/>
            <a:ext cx="191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060"/>
                </a:solidFill>
                <a:latin typeface="Arial"/>
              </a:rPr>
              <a:t>RP, Community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  <a:ea typeface="Arial"/>
              </a:rPr>
              <a:t>Collaborative assurance?</a:t>
            </a:r>
            <a:endParaRPr b="1" lang="en-US" sz="36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838080" y="1295280"/>
            <a:ext cx="82965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PRACE T1 (“DEISA”) centr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Users run applications across the infrastructur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ll originate from a home site 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inside </a:t>
            </a: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he infrastructure where they are fully known personally and have gone through a thorough vetting proces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ome site 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distributes</a:t>
            </a: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 this knowledge actively towards the other centres (through a central LDAP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So some of the </a:t>
            </a:r>
            <a:r>
              <a:rPr b="0" i="1" lang="en-GB" sz="2000" spc="-1" strike="noStrike">
                <a:solidFill>
                  <a:srgbClr val="c00000"/>
                </a:solidFill>
                <a:latin typeface="Lucida Sans"/>
              </a:rPr>
              <a:t>identity elements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 of trust already don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XSEDE might be similar?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even wLCG is somewhat similar … through CERN HR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2" name="Date Placeholder 3"/>
          <p:cNvSpPr/>
          <p:nvPr/>
        </p:nvSpPr>
        <p:spPr>
          <a:xfrm>
            <a:off x="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Footer Placeholder 4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5"/>
          <p:cNvSpPr/>
          <p:nvPr/>
        </p:nvSpPr>
        <p:spPr>
          <a:xfrm>
            <a:off x="1220760" y="104472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c00000"/>
                </a:solidFill>
                <a:latin typeface="Arial"/>
              </a:rPr>
              <a:t>I’m hopefully not misrepresenting Jules Wolfrat for PRACE here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Down Arrow 1"/>
          <p:cNvSpPr/>
          <p:nvPr/>
        </p:nvSpPr>
        <p:spPr>
          <a:xfrm>
            <a:off x="3780000" y="5300640"/>
            <a:ext cx="2016000" cy="289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3"/>
          <p:cNvSpPr/>
          <p:nvPr/>
        </p:nvSpPr>
        <p:spPr>
          <a:xfrm>
            <a:off x="1477080" y="570384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istribution of  responsibilities: a new profi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Light-weight ID vetting environment AP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Cater for those use cases where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he RPs (VOs) already collect identity dat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his RP (VO) data is authoritative and provides traceabilit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he ‘identity’ component of the credential is not used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hrough an AP where the authority provides onl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persistent, non-reused identifier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raceability 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only</a:t>
            </a: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 at time of issuanc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aming be real or pseudonymous (discussion on going!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good security for issuance processes and system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nd where the RP will have to take care of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ubscribers changing name often (in case traceability at issuing authority is lost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ll ‘named’ identity vetting, naming and contact detail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07720" y="151920"/>
            <a:ext cx="890100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00000"/>
                </a:solidFill>
                <a:latin typeface="Lucida Sans"/>
              </a:rPr>
              <a:t>‘</a:t>
            </a:r>
            <a:r>
              <a:rPr b="1" lang="en-GB" sz="3000" spc="-1" strike="noStrike">
                <a:solidFill>
                  <a:srgbClr val="c00000"/>
                </a:solidFill>
                <a:latin typeface="Lucida Sans"/>
              </a:rPr>
              <a:t>Light-weight Identity Vetting Environment’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611280" y="1196640"/>
            <a:ext cx="80755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s seen from the IdP/authority sid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Must be complemented by the RP 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o profile full vetting and integrit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cxnSp>
        <p:nvCxnSpPr>
          <p:cNvPr id="811" name="Straight Arrow Connector 6"/>
          <p:cNvCxnSpPr/>
          <p:nvPr/>
        </p:nvCxnSpPr>
        <p:spPr>
          <a:xfrm>
            <a:off x="1414080" y="3565440"/>
            <a:ext cx="1080" cy="2664720"/>
          </a:xfrm>
          <a:prstGeom prst="straightConnector1">
            <a:avLst/>
          </a:prstGeom>
          <a:ln w="57240">
            <a:solidFill>
              <a:srgbClr val="c00000"/>
            </a:solidFill>
            <a:miter/>
            <a:headEnd len="med" type="stealth" w="lg"/>
            <a:tailEnd len="med" type="oval" w="med"/>
          </a:ln>
        </p:spPr>
      </p:cxnSp>
      <p:sp>
        <p:nvSpPr>
          <p:cNvPr id="812" name="TextBox 7"/>
          <p:cNvSpPr/>
          <p:nvPr/>
        </p:nvSpPr>
        <p:spPr>
          <a:xfrm>
            <a:off x="539640" y="4305240"/>
            <a:ext cx="89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tting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A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Callout 1 (Accent Bar) 10"/>
          <p:cNvSpPr/>
          <p:nvPr/>
        </p:nvSpPr>
        <p:spPr>
          <a:xfrm>
            <a:off x="3143160" y="5929200"/>
            <a:ext cx="5100840" cy="45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804" y="82363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f2f2f2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LoA 0: ‘like conventional unsigned email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Line Callout 1 (Accent Bar) 11" descr=""/>
          <p:cNvPicPr/>
          <p:nvPr/>
        </p:nvPicPr>
        <p:blipFill>
          <a:blip r:embed="rId1"/>
          <a:stretch/>
        </p:blipFill>
        <p:spPr>
          <a:xfrm>
            <a:off x="1719360" y="5425920"/>
            <a:ext cx="6522840" cy="451080"/>
          </a:xfrm>
          <a:prstGeom prst="rect">
            <a:avLst/>
          </a:prstGeom>
          <a:ln w="0">
            <a:noFill/>
          </a:ln>
        </p:spPr>
      </p:pic>
      <p:pic>
        <p:nvPicPr>
          <p:cNvPr id="815" name="Line Callout 1 (Accent Bar) 12" descr=""/>
          <p:cNvPicPr/>
          <p:nvPr/>
        </p:nvPicPr>
        <p:blipFill>
          <a:blip r:embed="rId2"/>
          <a:stretch/>
        </p:blipFill>
        <p:spPr>
          <a:xfrm>
            <a:off x="1652760" y="4900680"/>
            <a:ext cx="7253280" cy="585720"/>
          </a:xfrm>
          <a:prstGeom prst="rect">
            <a:avLst/>
          </a:prstGeom>
          <a:ln w="0">
            <a:noFill/>
          </a:ln>
        </p:spPr>
      </p:pic>
      <p:pic>
        <p:nvPicPr>
          <p:cNvPr id="816" name="Line Callout 1 (Accent Bar) 13" descr=""/>
          <p:cNvPicPr/>
          <p:nvPr/>
        </p:nvPicPr>
        <p:blipFill>
          <a:blip r:embed="rId3"/>
          <a:stretch/>
        </p:blipFill>
        <p:spPr>
          <a:xfrm>
            <a:off x="1663560" y="4346640"/>
            <a:ext cx="7559640" cy="506520"/>
          </a:xfrm>
          <a:prstGeom prst="rect">
            <a:avLst/>
          </a:prstGeom>
          <a:ln w="0">
            <a:noFill/>
          </a:ln>
        </p:spPr>
      </p:pic>
      <p:pic>
        <p:nvPicPr>
          <p:cNvPr id="817" name="Line Callout 1 (Accent Bar) 14" descr=""/>
          <p:cNvPicPr/>
          <p:nvPr/>
        </p:nvPicPr>
        <p:blipFill>
          <a:blip r:embed="rId4"/>
          <a:stretch/>
        </p:blipFill>
        <p:spPr>
          <a:xfrm>
            <a:off x="1652760" y="3943440"/>
            <a:ext cx="7607160" cy="585720"/>
          </a:xfrm>
          <a:prstGeom prst="rect">
            <a:avLst/>
          </a:prstGeom>
          <a:ln w="0">
            <a:noFill/>
          </a:ln>
        </p:spPr>
      </p:pic>
      <p:pic>
        <p:nvPicPr>
          <p:cNvPr id="818" name="Line Callout 1 (Accent Bar) 15" descr=""/>
          <p:cNvPicPr/>
          <p:nvPr/>
        </p:nvPicPr>
        <p:blipFill>
          <a:blip r:embed="rId5"/>
          <a:stretch/>
        </p:blipFill>
        <p:spPr>
          <a:xfrm>
            <a:off x="1700280" y="3389400"/>
            <a:ext cx="6462720" cy="585720"/>
          </a:xfrm>
          <a:prstGeom prst="rect">
            <a:avLst/>
          </a:prstGeom>
          <a:ln w="0">
            <a:noFill/>
          </a:ln>
        </p:spPr>
      </p:pic>
      <p:sp>
        <p:nvSpPr>
          <p:cNvPr id="819" name="TextBox 8"/>
          <p:cNvSpPr/>
          <p:nvPr/>
        </p:nvSpPr>
        <p:spPr>
          <a:xfrm>
            <a:off x="5040" y="5478480"/>
            <a:ext cx="106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somewha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y persona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ew …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rry for b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16"/>
          <p:cNvSpPr/>
          <p:nvPr/>
        </p:nvSpPr>
        <p:spPr>
          <a:xfrm>
            <a:off x="1104480" y="546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17"/>
          <p:cNvSpPr/>
          <p:nvPr/>
        </p:nvSpPr>
        <p:spPr>
          <a:xfrm>
            <a:off x="1093320" y="3798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18"/>
          <p:cNvSpPr/>
          <p:nvPr/>
        </p:nvSpPr>
        <p:spPr>
          <a:xfrm>
            <a:off x="639360" y="31957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3" name="Straight Arrow Connector 3"/>
          <p:cNvCxnSpPr/>
          <p:nvPr/>
        </p:nvCxnSpPr>
        <p:spPr>
          <a:xfrm>
            <a:off x="1692000" y="4397400"/>
            <a:ext cx="1080" cy="54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24" name="TextBox 4"/>
          <p:cNvSpPr/>
          <p:nvPr/>
        </p:nvSpPr>
        <p:spPr>
          <a:xfrm>
            <a:off x="1692360" y="44928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P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From IGTF to RP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Lucida Sans"/>
              </a:rPr>
              <a:t>IGTF Distribution is </a:t>
            </a:r>
            <a:r>
              <a:rPr b="0" i="1" lang="en-GB" sz="2800" spc="-1" strike="noStrike">
                <a:solidFill>
                  <a:srgbClr val="000066"/>
                </a:solidFill>
                <a:latin typeface="Lucida Sans"/>
              </a:rPr>
              <a:t>not monolithic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uthorities comes in ‘bundles’ for each profil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RPs select one or more ‘profiles’ as sufficient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nd may add their own authorities as wel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e.g: “EGI policy on trusted authorities” accepts Classic, MICS and  SLC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And there is no ‘IGTF all’ distribution – </a:t>
            </a:r>
            <a:r>
              <a:rPr b="0" i="1" lang="en-GB" sz="2400" spc="-1" strike="noStrike">
                <a:solidFill>
                  <a:srgbClr val="c00000"/>
                </a:solidFill>
                <a:latin typeface="Lucida Sans"/>
              </a:rPr>
              <a:t>on purpose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!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Lucida Sans"/>
              </a:rPr>
              <a:t>With more diverse profiles (and LoAs) 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Lucida Sans"/>
              </a:rPr>
              <a:t>RPs will make </a:t>
            </a:r>
            <a:r>
              <a:rPr b="0" lang="en-GB" sz="2800" spc="-1" strike="noStrike">
                <a:solidFill>
                  <a:srgbClr val="c00000"/>
                </a:solidFill>
                <a:latin typeface="Lucida Sans"/>
              </a:rPr>
              <a:t>more diverse choices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7" name="TextBox 5"/>
          <p:cNvSpPr/>
          <p:nvPr/>
        </p:nvSpPr>
        <p:spPr>
          <a:xfrm>
            <a:off x="8640" y="6070680"/>
            <a:ext cx="776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00000"/>
                </a:solidFill>
                <a:latin typeface="Arial"/>
              </a:rPr>
              <a:t>For your interest: EGI SPG policy on Approval of Certification Authorities, https://documents.egi.eu/document/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  <a:ea typeface="Arial"/>
              </a:rPr>
              <a:t>LiveAP and its Caveats</a:t>
            </a:r>
            <a:endParaRPr b="1" lang="en-US" sz="36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611280" y="11970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Live AP assurance level </a:t>
            </a:r>
            <a:r>
              <a:rPr b="0" i="1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is</a:t>
            </a:r>
            <a:r>
              <a:rPr b="0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 different, and rest </a:t>
            </a:r>
            <a:br>
              <a:rPr sz="2400"/>
            </a:br>
            <a:r>
              <a:rPr b="0" i="1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must</a:t>
            </a:r>
            <a:r>
              <a:rPr b="0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 be taken up by somebody else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"/>
                <a:ea typeface="Arial"/>
              </a:rPr>
              <a:t>But e.g. in EGI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many communities rely on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names to enrol peopl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communities do not keep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much of auditable record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users are a-priori unknown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to the resource owner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RPs support loosely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organised communiti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RPs thus need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ndependent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 authoritative real nam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0" name="TextBox 5"/>
          <p:cNvSpPr/>
          <p:nvPr/>
        </p:nvSpPr>
        <p:spPr>
          <a:xfrm>
            <a:off x="5651640" y="2173320"/>
            <a:ext cx="3313080" cy="34164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Identity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ntifier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-binding and re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nding to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ceability of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ergency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gular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ch’ attribute asser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relating ident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traight Connector 6"/>
          <p:cNvSpPr/>
          <p:nvPr/>
        </p:nvSpPr>
        <p:spPr>
          <a:xfrm>
            <a:off x="5931000" y="3355920"/>
            <a:ext cx="2919240" cy="0"/>
          </a:xfrm>
          <a:prstGeom prst="line">
            <a:avLst/>
          </a:prstGeom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Curved Right Arrow 3"/>
          <p:cNvSpPr/>
          <p:nvPr/>
        </p:nvSpPr>
        <p:spPr>
          <a:xfrm flipH="1" flipV="1">
            <a:off x="8850240" y="3289320"/>
            <a:ext cx="216000" cy="1154160"/>
          </a:xfrm>
          <a:custGeom>
            <a:avLst/>
            <a:gdLst>
              <a:gd name="textAreaLeft" fmla="*/ 28800 w 216000"/>
              <a:gd name="textAreaRight" fmla="*/ 187200 w 216000"/>
              <a:gd name="textAreaTop" fmla="*/ 268560 h 1154160"/>
              <a:gd name="textAreaBottom" fmla="*/ 859320 h 115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043" stAng="-5400000" swAng="-5400000"/>
                <a:lnTo>
                  <a:pt x="0" y="11053"/>
                </a:lnTo>
                <a:arcTo wR="21600" hR="10043" stAng="10800000" swAng="-3657265"/>
                <a:lnTo>
                  <a:pt x="16200" y="21281"/>
                </a:lnTo>
                <a:lnTo>
                  <a:pt x="21600" y="20590"/>
                </a:lnTo>
                <a:lnTo>
                  <a:pt x="16200" y="19261"/>
                </a:lnTo>
                <a:lnTo>
                  <a:pt x="16200" y="19766"/>
                </a:lnTo>
                <a:arcTo wR="21600" hR="10043" stAng="7142735" swAng="3576805"/>
                <a:lnTo>
                  <a:pt x="27" y="10548"/>
                </a:lnTo>
                <a:arcTo wR="21600" hR="10043" stAng="-10719540" swAng="5319540"/>
                <a:close/>
              </a:path>
              <a:path fill="darkenLess" w="21600" h="21600">
                <a:moveTo>
                  <a:pt x="21600" y="0"/>
                </a:moveTo>
                <a:arcTo wR="21600" hR="10043" stAng="-5400000" swAng="-5400000"/>
                <a:lnTo>
                  <a:pt x="0" y="10043"/>
                </a:lnTo>
                <a:arcTo wR="21600" hR="10043" stAng="10800000" swAng="-80460"/>
                <a:lnTo>
                  <a:pt x="27" y="10548"/>
                </a:lnTo>
                <a:arcTo wR="21600" hR="10043" stAng="-10719540" swAng="531954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09:14:57Z</dcterms:created>
  <dc:creator>davidg</dc:creator>
  <dc:description/>
  <dc:language>en-US</dc:language>
  <cp:lastModifiedBy>davidg</cp:lastModifiedBy>
  <dcterms:modified xsi:type="dcterms:W3CDTF">2013-09-09T08:25:50Z</dcterms:modified>
  <cp:revision>249</cp:revision>
  <dc:subject/>
  <dc:title>Slide 1</dc:title>
</cp:coreProperties>
</file>