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AC7E1A8-ABDF-4669-BF20-E34C4AA7D5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AF32CBE-B9A2-45C2-9613-CA2EA9CF45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B88C7B9-A772-4EFE-BD89-7D65FC9889F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3A3B2E43-C8C9-4AA1-9E1B-BFBF1593674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B56DE63-372B-4D83-B3A3-F6035FC70BC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93D5621-A527-43B5-A4D4-12DF6526D9C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3D9AC49C-835E-4A91-8B35-67E420B9E7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8B999160-519A-4566-868B-4E199203054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3203A610-F050-4341-A49B-80D9FE79F12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867F97A7-AC3E-4845-ACCB-80E622C8C8E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74F74301-F745-42FE-A423-8D05B2180B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DAD7924-EAB1-41E5-A27B-E548EAD4BE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4D123556-02F5-4347-9733-E4F3CDBA3C8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IOTA Questions for RP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9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Bucharest, Roma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TechWednesday top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 certificate renewal guidance (serial numbe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esting possibilities for production use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questionnaire (cntd)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iding certificates from end-users and increased use of credential repo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gress on the IGTF test suite construction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paration for the IGTF All Hand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GI TF session on identity management requirements;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Basic Premis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globally uniqu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persistent (for the life time of the authorit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t’s about people and robo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aming of IOTA subjects must be different from other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Questions for RP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/RCs need the ‘real name’ of the person the certificate subjec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s it enough to be able to ask another entity to give you the name (e.g. the VO, community, other site or central LDAP)?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assurance level do you expect from this 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party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up-front (before or at use ti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at end (e.g. for accounting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or It is sufficient to be able to ask an entity to contact the user on your behalf (like a privacy servic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Should pseudonyms be clearly identifiable (e.g. if they look like a name they should be the real na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Lucida Sans"/>
              </a:rPr>
              <a:t>The email use case will not work: since emailAddress must be embedded in the SAN, but the mail will be pseudonymous as wel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etting assurance level and responsibil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iven that the name may be a pseudonym and is weakly verified, do you (RP, community) have the mechanisms in place to strongly identify the real user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enforce obfuscated naming for all subject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will you (RP, VO) deal with ‘identity spoofing’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do you currently enrol users in the community? Do you use or rely on the commonName of the subject for adding people to your databases (or get a ‘warm fuzzy’ feeling in association with e.g. unsigned email)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acability by the V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re you set up to provide traceability for your user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you have means and procedures for incident response and mitigatio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uditability, traceabil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ccess to the user information by R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insist that the collection of this data is verifiable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document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audited periodically (expensive!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be auditable? Or contract/sanction-bas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 user may and will have many credentials and changing names: does this pose issue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expect e.g. the community to provide a real name up-front with every access request (e.g. in a VOMS generic attribute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(RCs) need to be able to independently trace the user without involving the user commun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n a registration mechanism, retrievable or callable by the RP, satisfy this requirement (e.g. like the EGEE CIC portal having an ability to send email to the owner of a DN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need to be able to trace without involving the C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Which are the ‘emergency cases’ where they expect CA involvement in tracing or contacting subscriber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cident respon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RPs/RCs expect the CA to be involved in incident respon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an incident where you expect CA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the level of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a classification of incidents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f there are up-stream IdPs, are you ‘happy’ with just the CA response even if upstream does not participat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 more than pure credential revocation in case of demonstrable credential compromis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the CA more than a fall back to point to in case LEA comes after you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/prefer suspension possibilities? Do you have this capability at the RP level (through authorization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an you get by with just your own response capabil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9-11T08:13:17Z</dcterms:modified>
  <cp:revision>622</cp:revision>
  <dc:subject/>
  <dc:title>European Grid Policy Management Authority</dc:title>
</cp:coreProperties>
</file>