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ABCAB-80CF-486B-A8D6-1F313E46E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876EB-6EAF-4845-B0C5-2CB63EEE6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72C11-D146-4258-B685-EA2C27BE8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87DB8-08FC-45B9-AF3F-5338D34C6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A09C3-D9A3-460D-96C8-A5037F442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CA1CC-7C06-4F44-8939-B3DF9B925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CF2C1-5EA3-4DCF-B6B8-9B6F862AA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BB7D8-1E71-411D-BA8B-6E42335E8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6CCDC-4267-46BD-8E82-6039D03CD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7388C-3EE5-4B02-B207-8405C2851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19337-D9DF-494F-BD14-D2ACF3BA5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D5BD7-AC97-4E8A-BB0B-C2FCB45E2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CF5E7-CD4C-4767-B2E3-7748E34E8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05468-D6EF-4B94-A8E9-90F42E056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4780D-0710-4EAB-BF41-DE146C342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B2ED-BCB6-428D-8E82-E0D349651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A2E4-7CEE-4D35-B464-AB55C8A18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57E6-53F6-485D-BEF7-0BC2F6B5F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E130-8CCE-4AA5-BDAC-F09C81A54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842A-F669-45ED-BDAC-53E19B6D1F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0B1F-C323-4CC8-9809-EF397D7238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F68CF-510D-4FF9-B1CB-2ECB2A33C9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FEBE-08B9-4EA8-8C9D-683668DBED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E159E-7899-4A56-B6C5-A38A5A760C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B9C0-C631-44BC-9E3B-606420963E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C7607-B694-47E0-AB2E-E805B3E6E0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F477-381A-48F9-B4D8-44ABE6C60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8F9D-2DA5-4D27-92F1-2426D79D00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03DD-4BED-47D4-814B-11C0500F66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FD56A-E0DC-4D30-8B89-7EBB237C48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E0543-8F4D-4E1F-AE92-83FC6FFACF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4AC98-9871-4E0A-B881-04C87703B8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ADC4-E6DA-40C0-A10E-C3ADA5F6FC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4526-8361-4012-86D7-EFF2CE998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69F5-9667-4D37-BE64-CD430E2FA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9D20-66A2-4214-BD8D-3C8880AE6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5C69-0054-4188-B9FF-C7BF5C97A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FC77-2A0F-4096-8EED-087707780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0CE0-3881-4DD6-A21C-F8E37672D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760" y="6307200"/>
            <a:ext cx="657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DBEC3-3912-48A3-A73B-1C74A160BC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2"/>
          <p:cNvGrpSpPr/>
          <p:nvPr/>
        </p:nvGrpSpPr>
        <p:grpSpPr>
          <a:xfrm>
            <a:off x="5403960" y="214200"/>
            <a:ext cx="3522600" cy="1287360"/>
            <a:chOff x="5403960" y="214200"/>
            <a:chExt cx="3522600" cy="1287360"/>
          </a:xfrm>
        </p:grpSpPr>
        <p:sp>
          <p:nvSpPr>
            <p:cNvPr id="42" name="WordArt 3"/>
            <p:cNvSpPr txBox="1"/>
            <p:nvPr/>
          </p:nvSpPr>
          <p:spPr>
            <a:xfrm>
              <a:off x="5457960" y="214200"/>
              <a:ext cx="21762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4"/>
            <p:cNvSpPr/>
            <p:nvPr/>
          </p:nvSpPr>
          <p:spPr>
            <a:xfrm>
              <a:off x="5403960" y="858960"/>
              <a:ext cx="352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760" y="6356160"/>
            <a:ext cx="657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AC74A-FAA2-4E11-8754-E601D7F1F8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ovw=True&amp;confId=17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Derek Simmel &amp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Alejandra Stol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ae00"/>
                </a:solidFill>
                <a:latin typeface="Calibri"/>
              </a:rPr>
              <a:t>EUGridPMA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Buchares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Sep 9th, 201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833480" y="63360"/>
            <a:ext cx="685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c0504d"/>
                </a:solidFill>
                <a:latin typeface="Calibri"/>
              </a:rPr>
              <a:t>Current 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731880" y="1317600"/>
            <a:ext cx="795492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86351-1525-4286-BBFD-70973094A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36440" y="1397160"/>
            <a:ext cx="895356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2) InCommon CA CPS evaluation completed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ote to ACCEPT/DECLINE for accreditation currently under way via e-mail vote (due Sept. 11, 201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3) IGTF All Hands Meeting scheduled for November 6-8, 2013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ed by UNLP in La Plata, Argentina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ference details available 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1560" indent="-2271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ea typeface="ＭＳ Ｐゴシック"/>
                <a:hlinkClick r:id="rId1"/>
              </a:rPr>
              <a:t>http://indico.rnp.br/conferenceDisplay.py?ovw=True&amp;confId=17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raft agenda to be added shortly - suggestions welcom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317600"/>
            <a:ext cx="822960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Lead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TAGPMA Memb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unication Infrastruc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Conference Ca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meeting is TAGPMA 18 (IGTF All Hand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wor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D37D2-878D-4903-883D-F59EB3868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57200" y="1317600"/>
            <a:ext cx="82296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air: Derek Simmel (PS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simmel@psc.ed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ce Chair: Scott Rea (DigiCert + REBC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cott@DigiCert.co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y: Ale Stolk (ULAGri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stolk@ula.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6BBC0-BD9B-42BE-BEE9-375C301F2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039680" y="1143000"/>
          <a:ext cx="7067520" cy="545472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60720"/>
                <a:gridCol w="1584000"/>
              </a:tblGrid>
              <a:tr h="317520"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Text Box 106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317600"/>
            <a:ext cx="82296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5 Members from North, Central and South Americ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vering Canada, US, Mexico, Venezuela, Chile, Peru, Argentina, Brazil, Colombia and Panam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1 IGTF Accredited CA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2 Classic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igiCert(2) – US, UFF BrGrid &amp; UFF LACGrid - Brazil, ANSPGrid – Brazil, UNLPGrid - Argentina, REUNA – Chile, ULAGrid – Venezuela, GridCanada, UNAM – Mexico, UNIANDES - Colombia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OE Grid accredited by EUGridP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7 SL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x 3, FermiLab, NERSC, PSC, NICS UTK - 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– US and CILogon – 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A288B-1D67-4634-9195-94A378CF0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317600"/>
            <a:ext cx="82296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4 CA accreditations in-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Classic pending (SENAMHI – Peru, InCommon – U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 pending (SDSC, NCAR – US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CA (Comodo for low-cost host cert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7 Relying Part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CIDETYS/UTP, FNAL, LCG, OSG, REBCA, redCLARA, XSED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ew memb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voted in as new prospective AP memb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GF has expressed interest in membershi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est expressed (again) by Ecuador and Costa Rica in becoming AP member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21729-86C0-42E7-8B15-C4DF97C13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7200" y="13176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static, public information &amp; profi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verhaul still way overdue </a:t>
            </a:r>
            <a:r>
              <a:rPr b="0" lang="en-US" sz="20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in-process TAGPMA documents, notes, tutorials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ains agenda and minutes from monthly meet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-mail any issues direct to the Chair (dsimmel@psc.edu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787E3-A263-496E-A106-CB8B1A515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1317600"/>
            <a:ext cx="822960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egular Video Conference Calls are now Monthly, at 12noon Eastern (US) time on the 2nd Wednesday of each month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call will be September 11, 201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deo arrangements: RedCLARA VC Espress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quest for agenda items goes out ~1 week before the next cal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agenda is usually posted on tagpma-general e-mail list no later than 1 day before the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440B8-0E3F-4489-B0C0-E10F5A925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833480" y="63360"/>
            <a:ext cx="685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c0504d"/>
                </a:solidFill>
                <a:latin typeface="Calibri"/>
              </a:rPr>
              <a:t>Current 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57200" y="1317600"/>
            <a:ext cx="8229600" cy="58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1BD35-6988-4B71-B8B6-6B870996E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58840" y="1371600"/>
            <a:ext cx="84963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Updated MICS profile to (v.1.3) add the following statement in Section 3.1 </a:t>
            </a: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Identity vetting rules for the primary identity management system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"On the Kantara Initiative Identity Assurance Framework Levels of Assurance scale [Kantara2010], Assurance Level 2 and higher are considered sufficient for MICS PKI identity vetting."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with the referenc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Kantara2010]  Glade, B. (Ed.). “Identity Assurance Framework: Assurance Levels” Version 2.0 24 April 2010. Kantara Initiative. http://kantarainitiative.org/confluence/download/attachments/41649275/Kantara+IAF-1200-Levels+of+Assurance.pd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3-01-14T06:34:15Z</cp:lastPrinted>
  <dcterms:modified xsi:type="dcterms:W3CDTF">2013-09-09T02:42:02Z</dcterms:modified>
  <cp:revision>23</cp:revision>
  <dc:subject/>
  <dc:title>PowerPoint Presentation</dc:title>
</cp:coreProperties>
</file>