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6507929-FB9F-4044-84A7-C57AC07C20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58FE6B6-2DF1-4FDF-872F-6BF0D79547F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6F69FBE7-42D5-4DCF-B761-53D1A40386B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80123E1D-272D-4D39-8566-B0514C32830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5861B425-9E99-4BD9-859B-0C7503ACDA2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306BD709-5D97-490A-9D19-468A047ACAC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60166B0E-5F0B-4ABD-A6FA-907DF7A4B0F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BC772A26-10A8-4AD9-AAA3-FA0972BE90D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2557BEE1-16F8-481B-8B6E-DD5A05EC125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8C672803-D415-4A86-904F-9699176F7DE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42D8E430-9412-49EA-AD36-186D9AAB355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C8C0D978-E537-4BFA-A21C-54BF553C14B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C0CFBBA9-E9DE-431B-A52B-CAB6FCBF48F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IOTA Questions for RPs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Sept 9, 201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Bucharest, Romani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TechWednesday topic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 certificate renewal guidance (serial number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esting possibilities for production use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P questionnaire (cntd)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hiding certificates from end-users and increased use of credential repos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ogress on the IGTF test suite construction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eparation for the IGTF All Hands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GI TF session on identity management requirements;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Basic Premis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Subject names must be globally uniqu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Subject names must be persistent (for the life time of the authority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t’s about people and robo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Naming of IOTA subjects must be different from other profil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OTA Questions for RP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30592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the RPs/RCs need the ‘real name’ of the person the certificate subject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Is it enough to be able to ask another entity to give you the name (e.g. the VO, community, other site or central LDAP)?</a:t>
            </a: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What assurance level do you expect from this 3</a:t>
            </a:r>
            <a:r>
              <a:rPr b="0" lang="en-GB" sz="18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 party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need this information up-front (before or at use time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need this information at end (e.g. for accounting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or It is sufficient to be able to ask an entity to contact the user on your behalf (like a privacy service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Should pseudonyms be clearly identifiable (e.g. if they look like a name they should be the real name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Lucida Sans"/>
              </a:rPr>
              <a:t>The email use case will not work: since emailAddress must be embedded in the SAN, but the mail will be pseudonymous as well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OTA A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Vetting assurance level and responsibilit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Given that the name may be a pseudonym and is weakly verified, do you (RP, community) have the mechanisms in place to strongly identify the real user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hould we enforce obfuscated naming for all subjects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w will you (RP, VO) deal with ‘identity spoofing’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w do you currently enrol users in the community? Do you use or rely on the commonName of the subject for adding people to your databases (or get a ‘warm fuzzy’ feeling in association with e.g. unsigned email)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racability by the V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re you set up to provide traceability for your users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you have means and procedures for incident response and mitigation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uditability, traceabilit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ccess to the user information by RP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Do you insist that the collection of this data is verifiable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hould the chain of processes be documented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hould the chain of processes be audited periodically (expensive!)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hould the chain be auditable? Or contract/sanction-based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A user may and will have many credentials and changing names: does this pose issues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Do you expect e.g. the community to provide a real name up-front with every access request (e.g. in a VOMS generic attribute)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the RPs (RCs) need to be able to independently trace the user without involving the user community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Can a registration mechanism, retrievable or callable by the RP, satisfy this requirement (e.g. like the EGEE CIC portal having an ability to send email to the owner of a DN)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the RPs need to be able to trace without involving the CA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Which are the ‘emergency cases’ where they expect CA involvement in tracing or contacting subscribers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ncident respons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RPs/RCs expect the CA to be involved in incident response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What is an incident where you expect CA involvement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What is the level of involvement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see a classification of incidents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If there are up-stream IdPs, are you ‘happy’ with just the CA response even if upstream does not participate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expect more than pure credential revocation in case of demonstrable credential compromise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see the CA more than a fall back to point to in case LEA comes after you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expect/prefer suspension possibilities? Do you have this capability at the RP level (through authorization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Can you get by with just your own response capability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3-09-11T08:13:17Z</dcterms:modified>
  <cp:revision>622</cp:revision>
  <dc:subject/>
  <dc:title>European Grid Policy Management Authority</dc:title>
</cp:coreProperties>
</file>