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7440D0-3CBA-45CF-8C53-5CB6E99CE873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1CBC78-E96E-4828-897F-532687BC3868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B9E2-67CD-4A82-AEEB-7D8E6592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D5D8-92DA-4104-9583-AD9D907C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707B-8F6E-4859-9BB9-9D9C0DB8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F48C-AE16-402A-8D97-6834694A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18FE-6DE3-42F9-B4C8-F891673A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534D-971E-4B78-85E8-FF44E4C2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A407-DF39-4AFA-996A-D4215F85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7D69-76AC-4AF1-BC47-16ADF055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8A03-85C1-43FD-9A9C-0DA809EA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8D6-7ED6-49AE-BB46-11280614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D36-319A-4771-858F-27894CA6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E4C-9B12-4DD2-A3A5-225351D3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DA3-2810-4704-BDA5-40443F6E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2D3-6D16-4625-BECE-7A01D622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C25-0488-4BDD-9987-3C445B3D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4D6-A09B-499D-BB90-C5A85D42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F24-CB2C-44CE-93AE-0DD670A3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3C1-E28E-4F10-BCDF-D31BAFC2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280-7032-4D1D-AAE7-A842EE8E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D7F-0B28-4202-9575-00A00960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F58-6316-4FF3-A883-DE786DAA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056F-F682-4659-92E2-C37D49AD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5066-0DF6-4C09-A8FD-8D8B7176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5F4D-4646-47FE-BC23-F3D21CC0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Łącznik prostoliniowy 1"/>
          <p:cNvSpPr/>
          <p:nvPr/>
        </p:nvSpPr>
        <p:spPr>
          <a:xfrm flipH="1">
            <a:off x="1653840" y="1773360"/>
            <a:ext cx="7489800" cy="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Łącznik prostoliniowy 1"/>
          <p:cNvSpPr/>
          <p:nvPr/>
        </p:nvSpPr>
        <p:spPr>
          <a:xfrm flipH="1">
            <a:off x="1653840" y="1944720"/>
            <a:ext cx="7489800" cy="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ytuł 1"/>
          <p:cNvSpPr/>
          <p:nvPr/>
        </p:nvSpPr>
        <p:spPr>
          <a:xfrm>
            <a:off x="250920" y="4216320"/>
            <a:ext cx="85690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valon"/>
                <a:ea typeface="Arial"/>
              </a:rPr>
              <a:t>Poznań Supercomputing and Networking Ce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Podtytuł 2"/>
          <p:cNvGrpSpPr/>
          <p:nvPr/>
        </p:nvGrpSpPr>
        <p:grpSpPr>
          <a:xfrm>
            <a:off x="128520" y="5138640"/>
            <a:ext cx="9015480" cy="1792440"/>
            <a:chOff x="128520" y="5138640"/>
            <a:chExt cx="9015480" cy="1792440"/>
          </a:xfrm>
        </p:grpSpPr>
        <p:pic>
          <p:nvPicPr>
            <p:cNvPr id="186" name="Podtytuł 2" descr=""/>
            <p:cNvPicPr/>
            <p:nvPr/>
          </p:nvPicPr>
          <p:blipFill>
            <a:blip r:embed="rId3"/>
            <a:stretch/>
          </p:blipFill>
          <p:spPr>
            <a:xfrm>
              <a:off x="128520" y="5138640"/>
              <a:ext cx="90154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9360" y="5367240"/>
              <a:ext cx="856944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l. Noskowskiego 12/14, 61-704 Poznań,  POLAND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ffice: phone center: (+48 61) 858-20-00, fax: (+48 61) 852-59-54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-mail: office@man.poznan.pl, http://www.psnc.p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ytuł 1"/>
          <p:cNvSpPr/>
          <p:nvPr/>
        </p:nvSpPr>
        <p:spPr>
          <a:xfrm>
            <a:off x="255600" y="4781520"/>
            <a:ext cx="8569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valon"/>
                <a:ea typeface="Arial"/>
              </a:rPr>
              <a:t>affiliated to the Institute of Bioorganic Chemistry of the Polish Academy of Sciences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ytuł 1"/>
          <p:cNvSpPr/>
          <p:nvPr/>
        </p:nvSpPr>
        <p:spPr>
          <a:xfrm>
            <a:off x="250920" y="4216320"/>
            <a:ext cx="85690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valon"/>
                <a:ea typeface="Arial"/>
              </a:rPr>
              <a:t>Poznańskie Centrum Superkomputerowo - Sieciow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Podtytuł 2"/>
          <p:cNvGrpSpPr/>
          <p:nvPr/>
        </p:nvGrpSpPr>
        <p:grpSpPr>
          <a:xfrm>
            <a:off x="128520" y="5138640"/>
            <a:ext cx="9058320" cy="1792440"/>
            <a:chOff x="128520" y="5138640"/>
            <a:chExt cx="9058320" cy="1792440"/>
          </a:xfrm>
        </p:grpSpPr>
        <p:pic>
          <p:nvPicPr>
            <p:cNvPr id="227" name="Podtytuł 2" descr=""/>
            <p:cNvPicPr/>
            <p:nvPr/>
          </p:nvPicPr>
          <p:blipFill>
            <a:blip r:embed="rId3"/>
            <a:stretch/>
          </p:blipFill>
          <p:spPr>
            <a:xfrm>
              <a:off x="128520" y="5138640"/>
              <a:ext cx="905832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79360" y="5367240"/>
              <a:ext cx="856944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l. Noskowskiego 12/14, 61-704 Poznań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l : (+48 61) 858-20-00, fax: (+48 61) 852-59-54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-mail: office@man.poznan.pl, http://www.pcss.p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Tytuł 1"/>
          <p:cNvSpPr/>
          <p:nvPr/>
        </p:nvSpPr>
        <p:spPr>
          <a:xfrm>
            <a:off x="255600" y="4781520"/>
            <a:ext cx="8569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valon"/>
                <a:ea typeface="Arial"/>
              </a:rPr>
              <a:t>afiliowane przy Instytucie Chemii Bioorganicznej PAN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332C5A-327A-4019-91EF-A69EC2A9D74B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07F47C-2852-440A-9329-59E7F1D2881E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694368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sh Grid C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elf au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5092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aweł Woln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igre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This is an important change for EUGridPMA. Shouldn’t we collect confirmation from all CAs that SHA2 is put in produc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(the same with other important changes, like key lengt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B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Many issues resulting from new procedures that are not described in CP/C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ccept requests via WWW instead of ma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Verification form in pap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1024-&gt;204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Update certificate profile descrip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New web p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B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et of minor clarifications and corre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recise that machine is dedicated to 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recise that CN is name with optional suffi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orrect CA expiration 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larify 395 days vs. 1y+1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orrect some misspellin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recise Key Changeover s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oubt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lon"/>
                <a:ea typeface="Arial"/>
              </a:rPr>
              <a:t>The CA should perform operational audits of the CA/RA staff at least once per ye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How? Any guidelin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chould it have auditable for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oubt 2. Firm personal aquitance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lon"/>
                <a:ea typeface="Arial"/>
              </a:rPr>
              <a:t>People certificates: the subject should contact RA in F2F meeting, and present photo-id and/or valid official documents showing that the subject is an acceptable EE as defined by CP/CP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Reconfigure CA  (immediatel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dd O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witch to SHA2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Update CP/CPS  (next week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l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dd robot certific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Rewrite CP/CPS according to RFC364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KI in Pola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olish Grid CA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Terena TC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LGrid Simple C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ionier PK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Loc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8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14" descr="mapa PIONIER"/>
          <p:cNvPicPr/>
          <p:nvPr/>
        </p:nvPicPr>
        <p:blipFill>
          <a:blip r:embed="rId1"/>
          <a:stretch/>
        </p:blipFill>
        <p:spPr>
          <a:xfrm>
            <a:off x="4140360" y="2060640"/>
            <a:ext cx="4248000" cy="436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olish Grid 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tarted and acredited in 200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Valid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originally to 200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extended to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extended to 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RAs in 7 cities 14 peo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10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12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tatistics for Polish Grid 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Hosts and services - 14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eople - 242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Wykres 1" descr=""/>
          <p:cNvPicPr/>
          <p:nvPr/>
        </p:nvPicPr>
        <p:blipFill>
          <a:blip r:embed="rId1"/>
          <a:stretch/>
        </p:blipFill>
        <p:spPr>
          <a:xfrm>
            <a:off x="272880" y="3233880"/>
            <a:ext cx="838224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P/C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P/CPS version 0.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ecember 1, 20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Not updated since 2009, but there were chan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elf-audit 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    </a:t>
            </a: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- 55 (2 with 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    </a:t>
            </a: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- 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     </a:t>
            </a: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- 2 + 1 not in checkli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     </a:t>
            </a: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- 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rostokąt 3" descr=""/>
          <p:cNvPicPr/>
          <p:nvPr/>
        </p:nvPicPr>
        <p:blipFill>
          <a:blip r:embed="rId1"/>
          <a:stretch/>
        </p:blipFill>
        <p:spPr>
          <a:xfrm>
            <a:off x="115920" y="1579680"/>
            <a:ext cx="1414440" cy="1565280"/>
          </a:xfrm>
          <a:prstGeom prst="rect">
            <a:avLst/>
          </a:prstGeom>
          <a:ln w="0">
            <a:noFill/>
          </a:ln>
        </p:spPr>
      </p:pic>
      <p:pic>
        <p:nvPicPr>
          <p:cNvPr id="375" name="Prostokąt 4" descr=""/>
          <p:cNvPicPr/>
          <p:nvPr/>
        </p:nvPicPr>
        <p:blipFill>
          <a:blip r:embed="rId2"/>
          <a:stretch/>
        </p:blipFill>
        <p:spPr>
          <a:xfrm>
            <a:off x="128520" y="2230560"/>
            <a:ext cx="1444680" cy="1560240"/>
          </a:xfrm>
          <a:prstGeom prst="rect">
            <a:avLst/>
          </a:prstGeom>
          <a:ln w="0">
            <a:noFill/>
          </a:ln>
        </p:spPr>
      </p:pic>
      <p:pic>
        <p:nvPicPr>
          <p:cNvPr id="376" name="Prostokąt 5" descr=""/>
          <p:cNvPicPr/>
          <p:nvPr/>
        </p:nvPicPr>
        <p:blipFill>
          <a:blip r:embed="rId3"/>
          <a:stretch/>
        </p:blipFill>
        <p:spPr>
          <a:xfrm>
            <a:off x="122400" y="2889360"/>
            <a:ext cx="1444320" cy="1560240"/>
          </a:xfrm>
          <a:prstGeom prst="rect">
            <a:avLst/>
          </a:prstGeom>
          <a:ln w="0">
            <a:noFill/>
          </a:ln>
        </p:spPr>
      </p:pic>
      <p:pic>
        <p:nvPicPr>
          <p:cNvPr id="377" name="Prostokąt 6" descr=""/>
          <p:cNvPicPr/>
          <p:nvPr/>
        </p:nvPicPr>
        <p:blipFill>
          <a:blip r:embed="rId4"/>
          <a:stretch/>
        </p:blipFill>
        <p:spPr>
          <a:xfrm>
            <a:off x="-103320" y="3597120"/>
            <a:ext cx="1913040" cy="156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 iss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lon"/>
                <a:ea typeface="Arial"/>
              </a:rPr>
              <a:t>The policyIdentifier must include the OID  for this profile: 1.2.840.113612.5.2.2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 iss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lon"/>
                <a:ea typeface="Arial"/>
              </a:rPr>
              <a:t>RA must validate the association of the certificate signing reques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dd digest of request to paper verification for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 iss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till SHA-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HA256 was set as default on August 2013. Soon one middleware group in PSNC protested and we set back SHA-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The plan was to switch from beginning of 2014, but it was not do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weł Wolniewicz</dc:creator>
  <dc:description/>
  <dc:language>en-US</dc:language>
  <cp:lastModifiedBy>Paweł Wolniewicz</cp:lastModifiedBy>
  <dcterms:modified xsi:type="dcterms:W3CDTF">2014-05-13T22:57:43Z</dcterms:modified>
  <cp:revision>22</cp:revision>
  <dc:subject/>
  <dc:title>Slajd 1</dc:title>
</cp:coreProperties>
</file>