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C4E8F-6754-44BC-8E44-C170B706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148A8-A8C9-4046-84F5-B38DD915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7DFC0-2D5A-4D48-9E21-E6D9BD14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BBA72-86BD-44FE-B891-7A7C9566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5D040-DB21-4D4C-9442-ADA242A93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E61DA-FC17-4000-B9F2-C10FDC8C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6571-8CAB-47AB-8BBB-C1E4501C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1397F-22AA-4A4E-8BA3-B6D88D512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8B59-E931-442E-A494-81DA4892A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04AA0-D319-4C7C-A0FB-6C43E2FA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74EA-0BED-4A3D-941B-9DA10183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7505-554F-4F27-9727-BF9B21B34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E4BB-0F5B-42A0-BE4F-141F575B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7F2A-3F0B-46A9-87A2-E8C0968CE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055F-7CE4-43C4-BD51-37552A921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EE5-268E-47C9-9629-17B360B18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2C11-51D2-4B3F-8668-FA563ABAC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E703-60F0-4070-B7AC-901BB078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E5FA-783E-4446-8B82-36C2032A1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AA9A-5FC8-4E9B-A9AD-E4D90ADA25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298E-AC2B-47A9-9779-28855072DB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FDA5-CF8E-44A0-B358-A8BC06858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D151-DFDC-4089-A602-EEB1F14F1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6638-9BB5-4E51-8805-B95A9ABC3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9045-E366-4D81-9977-E47F430C3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5D25-DB78-40FD-8E49-DE9584878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BC50-7124-4DFC-80C0-22099D97C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3AEA-85C5-43C3-8BE7-CEF46FB4D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E0F0-59BC-41D0-9560-190751BB8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D8C4-239F-4182-8EED-C2ECC0ECD3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2603-BD69-4F2A-8E98-96FEFD8F9A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CAFE-FA75-418E-B4D2-AC6A497C68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BE85-3238-4BAD-9B6F-320FFD940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F343-ADDB-4E24-9DCE-799A2BB6F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7EB2-388F-48C5-A6DD-09958F5AA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0C09-0C8F-4907-BEC0-0F9D436D1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1FBF-544C-455A-8CA9-12E4480EB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3FB9-8A9D-48FF-9AF7-F95043E82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45067-BD76-4EDD-B22E-64BB54792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CD034-2D6C-47B5-BB48-2CFDD09E2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br>
              <a:rPr sz="3200"/>
            </a:b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(delivered by David [Groep|Kelsey]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31</a:t>
            </a:r>
            <a:r>
              <a:rPr b="0" lang="en-GB" sz="2200" spc="-1" strike="noStrike" baseline="30000">
                <a:solidFill>
                  <a:srgbClr val="00ae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 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Tartu, Eston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y 14, 20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Upcoming TAGPMA F2F Meeting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9 (Lehi, Utah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une 4-6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DigiCer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0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20 (Valparaiso, Chile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ctober 20-22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-located with CARLA conferenc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carla2014.hpclatam.org/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s and Current wor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pcoming Face to face meeting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19 (Lehi, Utah) June 4-6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20 (Valparaiso, Chile) Oct. 20-22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cated with CARLA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carla2014.hpclatam.org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FB63F-97E5-41D7-9118-00B31EA8E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Chair for Latin America: Ale Stolk (ULAGr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es activities with Spanish-speaking partners and members and leads 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TBD - Ale Stolk (ULAGrid) in interi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Webmaster: TB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new pos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3C2CD-73A3-4E67-8523-E93912A4C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990720"/>
          <a:ext cx="7067520" cy="565920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6440"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ynko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rdo Ja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el Quint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G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Argentina, Brazil, Canada, Chile, Colombia, Mexico, Panama, Peru, U.S.A. and Venezuel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2 IGTF Accredited C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3 Classic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rgentin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L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azil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FF BrGrid &amp; UFF LACGrid, ANS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nad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ridCanad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ile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U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mbi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AN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xico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, DOEGrid (EUGridPMA)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enezuel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LAGrid 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(3), FermiLab, NERSC, PSC, NICS UT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FBFB-8F10-46F4-BF56-7533F1ADE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5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lassic pending CP/CPS (SENAMHI – Peru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CP/CPS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ILogon BASIC CA – (IOTA)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9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ESNet, FNAL, LCG, OGF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Net moved from AP to R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Prospectiv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hio Supercomputer Center CA for State of Ohio K-12/Univ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3574D-B8FE-4B0A-AA57-52ED2CC6D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317600"/>
            <a:ext cx="82296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4CB5F-812B-4CDB-B63F-09C70D66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8840" y="1371600"/>
            <a:ext cx="849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News and Current Work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OTA Profile 1.1 approved by TAGPMA members for use in accredita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ILogon BASIC CA is first candid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meetings launched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panish language monthly cal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en-US" sz="20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Tuesday each Month, 14:00 UTC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ttp://dev1.redclara.net/sivicv2/8/23982 web confere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le Stolk (new Chair for Latin America) leading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-do Lis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ominations accepted for TAGPMA officers (next 2-year term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ngoing Accreditations, Membership renewals, website overhaul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rafting guidance documentation for developers and sysadmi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94480" indent="-43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opics include SHA-2 compliance and profile upd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2D77E-2784-4481-BEC2-B41E9C858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glish Video Conference Calls are Monthly, at 12:00 noon Eastern (US) time on the 2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Wedn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9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panish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deo Conference Calls are Monthly, at 14:00 UTC time on the 1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Tu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1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93FC5-AB6D-4142-A918-E2ABDB061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4-05-13T19:53:09Z</cp:lastPrinted>
  <dcterms:modified xsi:type="dcterms:W3CDTF">2014-05-13T19:54:21Z</dcterms:modified>
  <cp:revision>39</cp:revision>
  <dc:subject/>
  <dc:title>PowerPoint Presentation</dc:title>
</cp:coreProperties>
</file>